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15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B1FE-6D5E-48EE-BCF2-0EC3A221854B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98B4-EAFC-4F1D-AB85-51F666582850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7A1A-0E96-44B5-B375-991D06B4AFE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工自动免疫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射白喉类毒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类毒素、百日咳菌苗、破伤风类毒素的混合制剂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进行人工自动免疫，效果良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工被动免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抗毒素进行紧急预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时注射白喉类毒素以延长免疫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射前做皮试，阳性者应采取脱敏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抗菌治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88DE-83EB-4BB3-B912-BE65B7FB4071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5A59-ACB9-45F1-A1AE-FD304C04A68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62B4-B1B8-4799-822C-6196B6D74E2F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23B2-77A4-4C7E-A121-F19F069EE8E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毒素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phtheria toxi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毒性强、具有高度抗原性的蛋白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两个肽链经二硫键连接组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阻断宿主细胞蛋白质合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索状因子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rd fac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抗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D687-B5D0-4024-AAB0-49B96FBEA4AF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5A64-B439-48AB-BB74-6A91C6CF18E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B2D1-3AC4-4A18-AD60-1D317CB6C0B5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EA94-09A2-4937-8ECE-92FBADC963B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3635280" y="6308640"/>
            <a:ext cx="25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4284720" y="6553080"/>
            <a:ext cx="48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Arial"/>
                <a:ea typeface="黑体"/>
              </a:rPr>
              <a:t>Department of Microbiology, Harbin Medical Univer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6165720"/>
            <a:ext cx="33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6308640"/>
            <a:ext cx="41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  <a:ea typeface="黑体"/>
              </a:rPr>
              <a:t>Department of Microbiology, Harbin Medical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9640" y="1699920"/>
            <a:ext cx="501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黑体"/>
              </a:rPr>
              <a:t>三、白喉棒状杆菌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9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9900"/>
                </a:solidFill>
                <a:latin typeface="Arial"/>
              </a:rPr>
              <a:t>Corynebacterium. dephtheri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716360" y="43657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65080" y="5173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3200" y="524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1920" y="5173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上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99200" y="5554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软腭麻痹          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声嘶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332000" y="1628640"/>
            <a:ext cx="7618320" cy="4461840"/>
            <a:chOff x="1332000" y="1628640"/>
            <a:chExt cx="7618320" cy="4461840"/>
          </a:xfrm>
        </p:grpSpPr>
        <p:sp>
          <p:nvSpPr>
            <p:cNvPr id="191" name=""/>
            <p:cNvSpPr/>
            <p:nvPr/>
          </p:nvSpPr>
          <p:spPr>
            <a:xfrm>
              <a:off x="1410480" y="1989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白喉棒状杆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32000" y="2565360"/>
              <a:ext cx="18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鼻咽腔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32000" y="16286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飞沫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污染物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56000" y="1773360"/>
              <a:ext cx="86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鼻  咽喉气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4000" y="17002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局部细菌和毒素的作用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54720" y="2205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灰白色假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88000" y="400536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黏膜水肿及假膜脱落，引起呼吸道阻塞，甚至窒息死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84720" y="3213000"/>
              <a:ext cx="18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外毒素入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96320" y="393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毒血症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68400" y="5173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外周神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098800" y="2349360"/>
              <a:ext cx="5568840" cy="2900520"/>
              <a:chOff x="2098800" y="2349360"/>
              <a:chExt cx="5568840" cy="2900520"/>
            </a:xfrm>
          </p:grpSpPr>
          <p:sp>
            <p:nvSpPr>
              <p:cNvPr id="202" name=""/>
              <p:cNvSpPr/>
              <p:nvPr/>
            </p:nvSpPr>
            <p:spPr>
              <a:xfrm>
                <a:off x="3132000" y="2349360"/>
                <a:ext cx="13687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9640" y="2421000"/>
                <a:ext cx="1828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67640" y="2708280"/>
                <a:ext cx="0" cy="1198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16360" y="2924280"/>
                <a:ext cx="0" cy="1009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98800" y="4792680"/>
                <a:ext cx="0" cy="380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17760" y="4792680"/>
                <a:ext cx="0" cy="457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460760" y="4792680"/>
                <a:ext cx="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60960" y="4792680"/>
                <a:ext cx="0" cy="380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98800" y="4792680"/>
                <a:ext cx="3962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2556000" y="56307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内脏出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3000" y="563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心肌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27600" y="5630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肾上腺功能障碍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080" y="2565360"/>
              <a:ext cx="14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～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天潜伏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446436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所致疾病：白喉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042920" y="3338640"/>
          <a:ext cx="3581640" cy="35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338640"/>
                    <a:ext cx="358164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4" descr="diphtheria"/>
          <p:cNvPicPr/>
          <p:nvPr/>
        </p:nvPicPr>
        <p:blipFill>
          <a:blip r:embed="rId3">
            <a:lum contrast="6000"/>
          </a:blip>
          <a:srcRect l="4105" t="6249" r="5495" b="23910"/>
          <a:stretch/>
        </p:blipFill>
        <p:spPr>
          <a:xfrm>
            <a:off x="4643280" y="1557360"/>
            <a:ext cx="3934080" cy="3527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708360" y="5661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喉咽喉部白色假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971640" y="189000"/>
            <a:ext cx="3456000" cy="3317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266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免疫性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3284280"/>
            <a:ext cx="540072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抗毒素免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锡克试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chick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理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毒素和抗毒素的中和试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042920" y="4797360"/>
            <a:ext cx="810108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锡克试验 ：用少量毒素或毒性破坏的毒素注入受试者皮内，测定其体内有无相应抗毒素，以判断机体对白喉的免疫力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427640" y="1341360"/>
            <a:ext cx="4103280" cy="2145960"/>
            <a:chOff x="4427640" y="1341360"/>
            <a:chExt cx="4103280" cy="2145960"/>
          </a:xfrm>
        </p:grpSpPr>
        <p:sp>
          <p:nvSpPr>
            <p:cNvPr id="225" name="Text Box 8"/>
            <p:cNvSpPr/>
            <p:nvPr/>
          </p:nvSpPr>
          <p:spPr>
            <a:xfrm>
              <a:off x="5656680" y="2148120"/>
              <a:ext cx="180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抗毒素免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Group 19"/>
            <p:cNvGrpSpPr/>
            <p:nvPr/>
          </p:nvGrpSpPr>
          <p:grpSpPr>
            <a:xfrm>
              <a:off x="4427640" y="1341360"/>
              <a:ext cx="1471680" cy="680760"/>
              <a:chOff x="4427640" y="1341360"/>
              <a:chExt cx="1471680" cy="680760"/>
            </a:xfrm>
          </p:grpSpPr>
          <p:sp>
            <p:nvSpPr>
              <p:cNvPr id="227" name="Oval 13"/>
              <p:cNvSpPr/>
              <p:nvPr/>
            </p:nvSpPr>
            <p:spPr>
              <a:xfrm>
                <a:off x="4657680" y="1341360"/>
                <a:ext cx="1011240" cy="6807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Text Box 9"/>
              <p:cNvSpPr/>
              <p:nvPr/>
            </p:nvSpPr>
            <p:spPr>
              <a:xfrm>
                <a:off x="4427640" y="1493640"/>
                <a:ext cx="14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愈后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22"/>
            <p:cNvGrpSpPr/>
            <p:nvPr/>
          </p:nvGrpSpPr>
          <p:grpSpPr>
            <a:xfrm>
              <a:off x="7356960" y="1341360"/>
              <a:ext cx="1116000" cy="680760"/>
              <a:chOff x="7356960" y="1341360"/>
              <a:chExt cx="1116000" cy="680760"/>
            </a:xfrm>
          </p:grpSpPr>
          <p:sp>
            <p:nvSpPr>
              <p:cNvPr id="230" name="Oval 17"/>
              <p:cNvSpPr/>
              <p:nvPr/>
            </p:nvSpPr>
            <p:spPr>
              <a:xfrm>
                <a:off x="7408440" y="1341360"/>
                <a:ext cx="1011600" cy="6807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Text Box 10"/>
              <p:cNvSpPr/>
              <p:nvPr/>
            </p:nvSpPr>
            <p:spPr>
              <a:xfrm>
                <a:off x="7356960" y="1493640"/>
                <a:ext cx="111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新生儿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21"/>
            <p:cNvGrpSpPr/>
            <p:nvPr/>
          </p:nvGrpSpPr>
          <p:grpSpPr>
            <a:xfrm>
              <a:off x="7047720" y="2806920"/>
              <a:ext cx="1483200" cy="680400"/>
              <a:chOff x="7047720" y="2806920"/>
              <a:chExt cx="1483200" cy="680400"/>
            </a:xfrm>
          </p:grpSpPr>
          <p:sp>
            <p:nvSpPr>
              <p:cNvPr id="233" name="Oval 15"/>
              <p:cNvSpPr/>
              <p:nvPr/>
            </p:nvSpPr>
            <p:spPr>
              <a:xfrm>
                <a:off x="7191360" y="2806920"/>
                <a:ext cx="1194480" cy="68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Text Box 11"/>
              <p:cNvSpPr/>
              <p:nvPr/>
            </p:nvSpPr>
            <p:spPr>
              <a:xfrm>
                <a:off x="7047720" y="2959200"/>
                <a:ext cx="148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接种疫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0"/>
            <p:cNvGrpSpPr/>
            <p:nvPr/>
          </p:nvGrpSpPr>
          <p:grpSpPr>
            <a:xfrm>
              <a:off x="4518720" y="2806920"/>
              <a:ext cx="1471680" cy="680400"/>
              <a:chOff x="4518720" y="2806920"/>
              <a:chExt cx="1471680" cy="680400"/>
            </a:xfrm>
          </p:grpSpPr>
          <p:sp>
            <p:nvSpPr>
              <p:cNvPr id="236" name="Oval 14"/>
              <p:cNvSpPr/>
              <p:nvPr/>
            </p:nvSpPr>
            <p:spPr>
              <a:xfrm>
                <a:off x="4656600" y="2806920"/>
                <a:ext cx="1194840" cy="68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Text Box 12"/>
              <p:cNvSpPr/>
              <p:nvPr/>
            </p:nvSpPr>
            <p:spPr>
              <a:xfrm>
                <a:off x="4518720" y="2958840"/>
                <a:ext cx="14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隐性感染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Line 24"/>
            <p:cNvSpPr/>
            <p:nvPr/>
          </p:nvSpPr>
          <p:spPr>
            <a:xfrm>
              <a:off x="5669280" y="1811880"/>
              <a:ext cx="183240" cy="20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25"/>
            <p:cNvSpPr/>
            <p:nvPr/>
          </p:nvSpPr>
          <p:spPr>
            <a:xfrm flipV="1">
              <a:off x="5761800" y="2649600"/>
              <a:ext cx="13752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26"/>
            <p:cNvSpPr/>
            <p:nvPr/>
          </p:nvSpPr>
          <p:spPr>
            <a:xfrm flipH="1">
              <a:off x="7243560" y="1810800"/>
              <a:ext cx="18468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 flipV="1">
              <a:off x="7186680" y="2649600"/>
              <a:ext cx="9108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"/>
          <p:cNvSpPr/>
          <p:nvPr/>
        </p:nvSpPr>
        <p:spPr>
          <a:xfrm>
            <a:off x="4643280" y="5877000"/>
            <a:ext cx="4071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lek p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13" descr="24a"/>
          <p:cNvPicPr/>
          <p:nvPr/>
        </p:nvPicPr>
        <p:blipFill>
          <a:blip r:embed="rId1"/>
          <a:stretch/>
        </p:blipFill>
        <p:spPr>
          <a:xfrm>
            <a:off x="4859280" y="2124000"/>
            <a:ext cx="3832200" cy="36068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6084720" y="2133720"/>
            <a:ext cx="947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62160" y="12384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法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2637000"/>
            <a:ext cx="4176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采集标本：棉拭子假膜边缘取材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涂片镜检：形态学特点？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分离培养：何种培养基？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毒力鉴定：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66"/>
                </a:solidFill>
                <a:latin typeface="Arial"/>
                <a:ea typeface="黑体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豚鼠试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Elek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平板毒力试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四）防治原则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58560" y="2997000"/>
            <a:ext cx="410364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自动免疫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被动免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抗菌治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995640" y="2781360"/>
            <a:ext cx="4351320" cy="2187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Aft>
                <a:spcPts val="2001"/>
              </a:spcAft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发病率大幅度下降，目前已降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0.01/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流行范围逐步缩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死率仍相对较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成人白喉发病构成增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4941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白百破三联疫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棒状杆菌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要种类与致病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喉棒状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形态特点　　培养与分型　　毒力变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抵抗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白喉毒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免疫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微生物学检查　　特异性防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1052640"/>
            <a:ext cx="43214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Comic Sans MS"/>
              </a:rPr>
              <a:t>（一）生物学特性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187280" y="2924280"/>
            <a:ext cx="259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细长微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末端膨大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棒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排列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革兰阳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荚膜（－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鞭毛（－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芽胞（－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0" descr="Diphtheria4"/>
          <p:cNvPicPr/>
          <p:nvPr/>
        </p:nvPicPr>
        <p:blipFill>
          <a:blip r:embed="rId1"/>
          <a:stretch/>
        </p:blipFill>
        <p:spPr>
          <a:xfrm>
            <a:off x="4140360" y="2133720"/>
            <a:ext cx="4537080" cy="3717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5724360" y="57340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染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276640"/>
            <a:ext cx="324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形态与染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99640" y="1699920"/>
            <a:ext cx="187164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亚甲蓝或奈瑟染色，菌体两端或一端可见着色较深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异染颗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843280" y="3357720"/>
            <a:ext cx="4610160" cy="3267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396252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>
            <a:lum bright="12000"/>
          </a:blip>
          <a:srcRect l="4071" t="6717" r="8687" b="12645"/>
          <a:stretch/>
        </p:blipFill>
        <p:spPr>
          <a:xfrm>
            <a:off x="1258920" y="1341360"/>
            <a:ext cx="3311640" cy="247176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graphicFrame>
        <p:nvGraphicFramePr>
          <p:cNvPr id="162" name="Object 6"/>
          <p:cNvGraphicFramePr/>
          <p:nvPr/>
        </p:nvGraphicFramePr>
        <p:xfrm>
          <a:off x="2700360" y="4292640"/>
          <a:ext cx="3816360" cy="22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292640"/>
                    <a:ext cx="3816360" cy="227484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4" name="Picture 8" descr="diphtheriae-oil2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076720" y="1341360"/>
            <a:ext cx="3456000" cy="2411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sp>
        <p:nvSpPr>
          <p:cNvPr id="165" name="Text Box 9"/>
          <p:cNvSpPr/>
          <p:nvPr/>
        </p:nvSpPr>
        <p:spPr>
          <a:xfrm>
            <a:off x="5219640" y="3716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亚甲蓝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835280" y="378936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奈瑟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6443640" y="51577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伯特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培养特性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3954240" cy="24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氧或兼性厌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吕氏培养基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迅速，细小灰白菌落，异染颗粒明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亚碲酸钾血琼脂平板：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黑色菌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鉴定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292720" y="4653000"/>
          <a:ext cx="28926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4653000"/>
                    <a:ext cx="28926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219640" y="1125360"/>
          <a:ext cx="2855880" cy="331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125360"/>
                    <a:ext cx="285588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12" descr="diphthiarae"/>
          <p:cNvPicPr/>
          <p:nvPr/>
        </p:nvPicPr>
        <p:blipFill>
          <a:blip r:embed="rId5"/>
          <a:stretch/>
        </p:blipFill>
        <p:spPr>
          <a:xfrm>
            <a:off x="2700360" y="4005360"/>
            <a:ext cx="249696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变异、抵抗力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00000" y="2420640"/>
            <a:ext cx="7128000" cy="40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态、菌落和毒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其他无芽胞细菌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青霉素及广谱抗生素敏感，对磺胺药不敏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致病物质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7280" y="2924280"/>
            <a:ext cx="54007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喉毒素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phtheria tox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rd fact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"/>
          <p:cNvPicPr/>
          <p:nvPr/>
        </p:nvPicPr>
        <p:blipFill>
          <a:blip r:embed="rId1"/>
          <a:srcRect l="50011" t="12196" r="6180" b="3599"/>
          <a:stretch/>
        </p:blipFill>
        <p:spPr>
          <a:xfrm>
            <a:off x="6588000" y="1844640"/>
            <a:ext cx="1594080" cy="4537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16000" y="1484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主要致病物质 － 白喉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2492280"/>
            <a:ext cx="4753080" cy="18432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毒性强，抑制细胞蛋白质合成，引起组织坏死和病变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由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β-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棒状杆菌噬菌体毒素基因（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tox+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）编码，因此，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只有携带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β- 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棒状杆菌噬菌体的溶原性白喉棒状杆菌才能产生白喉毒素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rcRect l="25847" t="1959" r="36070" b="19177"/>
          <a:stretch/>
        </p:blipFill>
        <p:spPr>
          <a:xfrm>
            <a:off x="5292720" y="1268280"/>
            <a:ext cx="3170160" cy="5113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76360" y="1628640"/>
            <a:ext cx="3456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传染源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患者及带菌者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飞沫或污染物经呼吸道传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易感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~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岁儿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临床表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引起局部炎症：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假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全身中毒症状：如心肌炎、软腭麻痹、声嘶、肾上腺功能障碍等症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急性呼吸道传染病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白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乙类传染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34:57Z</dcterms:modified>
  <cp:revision>618</cp:revision>
  <dc:subject/>
  <dc:title>Microbiology includes:</dc:title>
</cp:coreProperties>
</file>