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19F2-BF96-48DA-84C9-8B7B8A62DD5A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8C5D-5901-41D7-AA8B-76581B93D2F3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82E62FD2-08B5-4E8D-B1C1-16433CEE9BF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E18-9491-4870-9DF3-AE328661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DF0-5EA8-4010-89C4-1FEBBE56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2BE-6077-458B-8E54-F134DC17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24E-5BE9-4BAD-BF44-DC679C28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CC6E-C95C-4891-9961-4D724678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C173-69CD-4746-A59B-48B40FE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209A-F5A0-41FD-888E-6F62A4F2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2DB8-8426-4822-AF9D-A2BC3BA6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FEB9-F316-4B46-87E2-25BF1D2F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4989-AE4B-4BF3-A5D0-CD95B67B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BB4E-67D5-48E0-BD0E-446293EE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B6F-AF65-4B34-A80C-E0A7016D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24DB-414C-4827-BF64-6B5F1E8A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AD95-BA32-4233-9305-F2F4A893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FC1A-046F-42D7-8207-7DC7A7A2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5542-4222-4450-9732-D00FCB95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6B80-F8F3-422B-AAC8-EEF06C49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5A9-3DCA-4B6D-BDC5-CF63797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511-2286-4345-A541-F33A03F9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DA1-DB39-493A-A055-184EA0A4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2C5-0559-4713-BD4B-F71B6C77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73A-49F0-4440-8920-8C871713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303-4AAC-46AC-B782-3989C8A8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2BA-39FA-4BB3-832D-C97E6082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F3F2-EB43-4FE9-88E6-E528B2E3970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ACDD-80F4-4DC6-A07E-7DD697E2DD7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jzcdc.com/admin/upfiles/20099207662459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）免疫性</a:t>
            </a:r>
            <a:br>
              <a:rPr sz="4000"/>
            </a:b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560" y="25146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期短，不稳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主要是消化道黏膜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微生物学检查法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3200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试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荧光菌球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胶乳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杂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95680" cy="33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685800" y="838080"/>
            <a:ext cx="34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微生物学检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066680" y="205740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及时送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暂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甘油缓冲盐水保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505320" y="3581280"/>
            <a:ext cx="46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SS</a:t>
            </a: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平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（无色透明小菌落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581280" y="510552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清学反应（玻片凝集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3657600" y="5791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毒力试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3124080" y="2971800"/>
            <a:ext cx="1760760" cy="533520"/>
          </a:xfrm>
          <a:prstGeom prst="wedgeRoundRectCallout">
            <a:avLst>
              <a:gd name="adj1" fmla="val -27185"/>
              <a:gd name="adj2" fmla="val -155060"/>
              <a:gd name="adj3" fmla="val 16667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分离培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3886200" y="1447920"/>
            <a:ext cx="2843280" cy="533160"/>
          </a:xfrm>
          <a:prstGeom prst="wedgeRoundRectCallout">
            <a:avLst>
              <a:gd name="adj1" fmla="val -70435"/>
              <a:gd name="adj2" fmla="val 3362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新鲜脓血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肛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581280" y="4419720"/>
            <a:ext cx="42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双糖培养基（生化反应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3591000" y="3548160"/>
            <a:ext cx="0" cy="533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3591000" y="430992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3591000" y="50720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591000" y="57578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5"/>
          <p:cNvSpPr/>
          <p:nvPr/>
        </p:nvSpPr>
        <p:spPr>
          <a:xfrm>
            <a:off x="1295280" y="3124080"/>
            <a:ext cx="1760760" cy="533520"/>
          </a:xfrm>
          <a:prstGeom prst="wedgeRoundRectCallout">
            <a:avLst>
              <a:gd name="adj1" fmla="val 47925"/>
              <a:gd name="adj2" fmla="val -160416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990720" y="441972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荧光菌球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990720" y="50292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协同凝集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86000"/>
            <a:ext cx="228096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五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38080" y="41911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管一灭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减毒活菌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发现、早隔离和早治疗，查出带菌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敏感试验指导治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结：志贺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2895120"/>
            <a:ext cx="40388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学性状特点（分类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及所致疾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生物学检查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志贺菌的防治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05520" y="1828800"/>
            <a:ext cx="3055680" cy="418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似的形态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简单的培养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活泼的生化反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杂的抗原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弱的抵抗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的性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440" y="10663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三、志贺菌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00"/>
                </a:solidFill>
                <a:latin typeface="Arial"/>
              </a:rPr>
              <a:t>Shigella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志贺菌属是人类细菌性痢疾的病原菌，通称痢疾杆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3886200"/>
            <a:ext cx="7010280" cy="1828800"/>
            <a:chOff x="1447920" y="3886200"/>
            <a:chExt cx="7010280" cy="1828800"/>
          </a:xfrm>
        </p:grpSpPr>
        <p:sp>
          <p:nvSpPr>
            <p:cNvPr id="159" name=""/>
            <p:cNvSpPr/>
            <p:nvPr/>
          </p:nvSpPr>
          <p:spPr>
            <a:xfrm>
              <a:off x="2133720" y="4038480"/>
              <a:ext cx="304560" cy="1676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3886200"/>
              <a:ext cx="2210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痢疾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福氏志贺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鲍氏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宋内志贺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3962520"/>
              <a:ext cx="83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四个菌群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886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致病力最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57200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572000" y="5105520"/>
              <a:ext cx="7621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7800" y="48006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我国感染最常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一）生物学性状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形态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鞭毛，无荚膜， 有菌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81680" y="990720"/>
            <a:ext cx="1667160" cy="2819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67080" y="4191120"/>
            <a:ext cx="2286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及生化反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要求不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分解乳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培养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克氏双糖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248520" y="2133720"/>
          <a:ext cx="18018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133720"/>
                    <a:ext cx="1801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抗原构造及分类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原组成，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抗原为分类依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种        群        型                   亚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痢疾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          8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福氏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      1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型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鲍氏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           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内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81952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200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257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其他肠道杆菌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酸和一般消毒剂敏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抵抗力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侵袭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286000"/>
            <a:ext cx="5638680" cy="3863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菌毛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可黏附于回肠末端和结肠黏膜的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皮细胞。细菌侵入血流罕见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内毒素：所有毒株均有强烈的内毒素。内毒素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于肠黏膜，使其通透性增高，进一步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促进对内毒素的吸收，引起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发热、神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障碍、甚至中毒性休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等一系列症状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还可导致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直肠括约肌痉挛、腹痛、里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      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后重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外毒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a toxin,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可引起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细胞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变，亦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毒素，具有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肠毒素性、细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毒性、神经毒性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362320" cy="221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5800" y="11430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所致疾病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菌性痢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者和带菌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伏期数小时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热、腹痛、腹泻、里急后重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黏液脓血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83544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94948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5486400"/>
            <a:ext cx="2743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见于儿童急性感染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590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起病急，发热、腹痛、里急后重、腹泻、有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脓血黏液便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没有呕吐、恶心现象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038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以上，常反复发作，呈慢性过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9520" y="1981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急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5480" y="3505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慢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7480" y="5029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中毒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143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分类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43:28Z</dcterms:modified>
  <cp:revision>720</cp:revision>
  <dc:subject/>
  <dc:title>Microbiology includes:</dc:title>
</cp:coreProperties>
</file>