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B585-C814-4440-8826-FC877E522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542B-B253-4BAC-8B3A-560DE4844517}"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AEEBA0DB-A2A2-4344-9ADD-EFD1AD00868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713B-B29A-41D0-BFEA-584F4466E41E}"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A2C9-0DCC-4A01-B21B-7427A92D8249}"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34B7-3888-4D5E-A71A-90387E9C2249}"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63CAF-5EBE-4FE1-AFDA-03F34624C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05832-47E4-44DC-9DBD-404641A5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7975B-DCC1-4181-8D24-E1B5E4081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45FE9-7AF4-4F6C-98BE-107957F94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E859C-615A-4D1E-AC0C-53FA34D96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052F5-BFFF-401B-8D9F-854F29818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0ACAE-516D-436B-B06F-BBBB1BEAF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17520-99E9-4B1F-ACC6-F3BCDFE31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A8394-1091-4B40-9935-E05EFEAC3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AF9A1-6FAA-44E6-8683-69B15BDE6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1AF4B-91D5-4452-A166-906B155C9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E7748-9375-4954-8494-055F566A3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2AAA4-87D4-4012-9471-5A68BC08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8B89A-7684-4487-AC0D-5347FFFD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42DF4-9FCC-480F-A577-11F8B3DCD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35A99-A229-44E1-8772-B3CA7BBDF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4E058-5CE9-4BE8-ACC4-8E57A8CDF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99143-AF0D-43D1-AA6D-9CA6E8F2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EA5A-8276-469E-8982-6B759D864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4A38-B62D-4BC8-82AC-EC3A6591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54A3-2D7A-422F-BA25-C2A990FAF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EF9CC-569E-4BD9-A31E-D60B0ED75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0012-9C33-4949-97E6-6C1FEE54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3CB9-EF02-444A-A9C9-028B3336A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921E-23BB-4A05-A13F-C21A1C071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3767-9B56-454B-8406-333C5ABC38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 calcmode="lin" valueType="num">
                                      <p:cBhvr additive="repl">
                                        <p:cTn id="24" dur="500" fill="hold"/>
                                        <p:tgtEl>
                                          <p:spTgt spid="194"/>
                                        </p:tgtEl>
                                        <p:attrNameLst>
                                          <p:attrName>ppt_w</p:attrName>
                                        </p:attrNameLst>
                                      </p:cBhvr>
                                      <p:tavLst>
                                        <p:tav tm="0">
                                          <p:val>
                                            <p:strVal val="0"/>
                                          </p:val>
                                        </p:tav>
                                        <p:tav tm="100000">
                                          <p:val>
                                            <p:strVal val="#ppt_w"/>
                                          </p:val>
                                        </p:tav>
                                      </p:tavLst>
                                    </p:anim>
                                    <p:anim calcmode="lin" valueType="num">
                                      <p:cBhvr additive="repl">
                                        <p:cTn id="25" dur="500" fill="hold"/>
                                        <p:tgtEl>
                                          <p:spTgt spid="194"/>
                                        </p:tgtEl>
                                        <p:attrNameLst>
                                          <p:attrName>ppt_h</p:attrName>
                                        </p:attrNameLst>
                                      </p:cBhvr>
                                      <p:tavLst>
                                        <p:tav tm="0">
                                          <p:val>
                                            <p:strVal val="0"/>
                                          </p:val>
                                        </p:tav>
                                        <p:tav tm="100000">
                                          <p:val>
                                            <p:strVal val="#ppt_h"/>
                                          </p:val>
                                        </p:tav>
                                      </p:tavLst>
                                    </p:anim>
                                    <p:animEffect filter="fade" transition="in">
                                      <p:cBhvr additive="repl">
                                        <p:cTn id="26" dur="500"/>
                                        <p:tgtEl>
                                          <p:spTgt spid="19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repl">
                                        <p:cTn id="31" dur="500" fill="hold"/>
                                        <p:tgtEl>
                                          <p:spTgt spid="1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1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1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208"/>
                                        </p:tgtEl>
                                        <p:attrNameLst>
                                          <p:attrName>style.visibility</p:attrName>
                                        </p:attrNameLst>
                                      </p:cBhvr>
                                      <p:to>
                                        <p:strVal val="visible"/>
                                      </p:to>
                                    </p:set>
                                    <p:animEffect filter="barn(outHorizontal)" transition="in">
                                      <p:cBhvr additive="repl">
                                        <p:cTn id="4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