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976-5944-4F5F-A5FA-B4F4CBB3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00A-121B-4F7F-996B-EF55FE5F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193-EAE9-43AF-A8D2-9906CB45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C7F-6DE9-4A49-8902-C1117970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F2C2-380E-4DDA-871F-498CC47F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23F4-1989-49DA-AE46-FF44480C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A539-EF04-49B2-A4AE-0ED0ADBF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7BFB-AE8D-4C35-9FB5-9055F4FE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5FDC-A0A4-4203-9051-145E5D6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6730-103A-4345-83EB-979E389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4A0E-3F44-41E7-9D3F-9E0268EA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FFB-92C9-402B-8296-14FCFAC1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888F-58D7-405C-8B2C-EA6BC08C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0912-0315-4686-98D9-CD90C24F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679D-A700-4FB0-BB8D-A414262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BCD5-2AAF-4F34-BA58-F134B51F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254A-BEAA-4298-BF32-1A85836B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6A8-2A9D-4427-9C88-44007AF1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F30-6DA6-406B-AF3D-72E4639E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CEC-2A4E-4939-A60D-1E2AEF33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0C5-42F3-4C6D-9F73-D01858F8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4FB-4791-4171-AB45-C30FD5AF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D31-1F21-4A99-A0D8-9BB7E6EF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AF7-A9F9-4952-A4DD-734E2C4D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9D3E-4416-49AE-80FE-EE9F24351CE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6499-04C1-46EC-9CEB-D3D9B51BC93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五章  常见人体寄生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熟记常见医学蠕虫、医学原虫的生活史，流行因素与防治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学会识别常见医学蠕虫虫和医学原虫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说出各种医学蠕虫、医学原虫的致病机制与所致疾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归纳常见与人类疾病相关医学节肢动物的发育与变态，对人体的危害与防制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解释世代交替、媒介节肢动物、虫媒病、变态、机械性传播、生物性传播的概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培养学生认真负责的工作态度，能对常见病原检查标本进行采集与送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第一节  医学蠕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蠕虫是一类内无骨骼，外无甲壳，借肌肉伸缩而蠕动的多细胞无脊椎动物。寄生于人体与医学有关的蠕虫称为医学蠕虫。由蠕虫引起的疾病称为蠕虫病。其中既可寄生在人体也可寄生在某些动物体所致疾病，称人兽共患寄生虫病。蠕虫的幼虫如侵入非适宜宿主体内，造成局部或全身损害的病变，称幼虫移行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依据蠕虫生活史过程中是否需要中间宿主，可将蠕虫分为两大类型：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①土源性蠕虫：生活史中不需要中间宿主，其虫卵或幼虫直接在外界（通常在土壤中）发育为感染阶段，经消化道途径或接触途径使人感染。大部分线虫属此类寄生虫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②生物源性蠕虫：生活史中至少需要一个中间宿主，必须经历中间宿主体内发育阶段，才能最终发育成感染阶段。吸虫、大部分绦虫以及部分线虫等属此类寄生虫。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5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