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E57-3D23-4896-9C65-B21C6A6F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9F4-4B9C-4699-B36F-08D86069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42E-9917-435A-B50B-486A8B5C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C93-1450-4C4F-AEC0-3F069FBE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B7FD-CC08-4EBD-8C72-89CBA255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7149-167F-44AA-ADBE-AD422DD6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3290-8B19-40A5-927C-C383977B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AA69-68B3-436C-BCF7-3F98C2E8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FB4E-724F-4ED3-B966-BB24807A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3ACA-CAEA-4BA4-B813-533A0AD6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9E42-5582-4F39-908A-D408C72E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550-89DD-43A5-9D76-5B8A46A2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23DB-F14C-4713-8977-8E5A9850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5326-37AA-46D9-86E9-9DFDE47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51BC-04BC-4636-A051-7FA6E9A3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EFB5-C395-46BB-8186-C7207DF7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E717-A0FB-4039-985B-61E92D15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9C6-EB7B-4A4A-B35B-42B0D42F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48A-159D-4E63-88FF-83EF4C1D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E44-E414-4299-8AF4-E577D94C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458-7033-47D9-9AF3-A964F606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A69-DA73-4970-B1B2-8EB8953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268-9FA2-4BC5-B602-7DC963C9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1D9-A7CB-46C1-9BA8-EB00E4F3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EE9C-D5D9-4D39-9980-9ACEEC50343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B48B-B8B7-4727-8FF1-2943AAD0171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致病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活史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5562720"/>
            <a:ext cx="47242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五节 医学原虫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0"/>
            <a:ext cx="792468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514600"/>
            <a:ext cx="7696080" cy="2971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根据运动细胞器分类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根足虫纲：阿米巴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鞭毛虫纲：阴道毛滴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孢子虫纲：疟原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纤毛虫纲：结肠小袋纤毛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医学原虫的分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伪足作为运动器官，做变形运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多有滋养体和包囊两个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于人体的种类只有溶组织内阿米巴致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六节 根 足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溶组织内阿米巴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3770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溶组织内阿米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419720" cy="282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257800" y="556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外质活动度大，伪足明显，内质含红细胞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57800" y="5486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4100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4572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肠腔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084560"/>
            <a:ext cx="3200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体小、</a:t>
            </a:r>
            <a:r>
              <a:rPr b="1" lang="zh-CN" sz="3200" spc="-1" strike="noStrike">
                <a:solidFill>
                  <a:srgbClr val="ff7c80"/>
                </a:solidFill>
                <a:latin typeface="Tahoma"/>
                <a:ea typeface="楷体_GB2312"/>
              </a:rPr>
              <a:t>伪足不明显，运动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不活泼，内质不含红细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未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2244960" cy="312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0" y="5410080"/>
            <a:ext cx="1981080" cy="8769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单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铁苏木素染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13720" y="1981080"/>
            <a:ext cx="233028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0" y="5486400"/>
            <a:ext cx="2057400" cy="862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碘液染色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971800"/>
            <a:ext cx="2133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核包囊双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2280" y="1846440"/>
            <a:ext cx="15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7242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514600"/>
            <a:ext cx="12193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27432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514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3886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514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2743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2743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4197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197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55627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909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隶书"/>
              </a:rPr>
              <a:t>经口感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819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Times New Roman"/>
              </a:rPr>
              <a:t>在小肠下段脱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895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结肠下段</a:t>
            </a: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71560" y="4343400"/>
            <a:ext cx="6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侵入组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81040" y="2819520"/>
            <a:ext cx="667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5791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114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5638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59520" y="2438280"/>
            <a:ext cx="1003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粪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发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08920" y="38862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稀水样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38800" y="5334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脓血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3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2362320"/>
            <a:ext cx="48006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滋养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581280"/>
            <a:ext cx="6705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与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核包囊，误食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盲部、结肠黏膜皱褶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殖方式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981080"/>
            <a:ext cx="228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基本形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828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362320"/>
            <a:ext cx="6629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致病因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株毒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的协同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的机体抵抗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2057400"/>
            <a:ext cx="52578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临床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症状带虫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0%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47840" y="388620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、细胞质、细胞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8195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三个组成部分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905120"/>
            <a:ext cx="8001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粪便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理盐水涂片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碘液染色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活组织检查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肠镜检、脓腔穿刺检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免疫学诊断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于外阿米巴病的诊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IS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H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方法检测抗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9625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子生物学检查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探针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CR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技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889280"/>
            <a:ext cx="7543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流行于热带和亚热带地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人群的经济状况、卫生条件及饮食习惯等有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南方高于北方、农村高于城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流行因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染源外排包囊数量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抵抗力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方式多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水源污染，食物污染，蝇、蟑螂等昆虫携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960" y="152280"/>
            <a:ext cx="9372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9343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消化道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   甲硝唑、大蒜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3809880" cy="571500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5715000"/>
              <a:gd name="textAreaBottom" fmla="*/ 5529240 h 57150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724280" y="2057400"/>
          <a:ext cx="340848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057400"/>
                    <a:ext cx="34084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24280" y="380880"/>
          <a:ext cx="3353040" cy="171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80880"/>
                    <a:ext cx="33530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895480" y="47242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4343400"/>
            <a:ext cx="20574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914400"/>
            <a:ext cx="4114800" cy="1828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11430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发部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回盲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乙状结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819520"/>
            <a:ext cx="3962160" cy="190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9718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溃疡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火山口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孤立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4800600"/>
            <a:ext cx="3962520" cy="2057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4952880"/>
            <a:ext cx="28191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粪便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果酱样黏液          脓血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809880" y="457200"/>
          <a:ext cx="4953240" cy="29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57200"/>
                    <a:ext cx="4953240" cy="2935440"/>
                  </a:xfrm>
                  <a:prstGeom prst="rect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57200" y="990720"/>
            <a:ext cx="2743200" cy="373356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733560"/>
              <a:gd name="textAreaBottom" fmla="*/ 3599640 h 3733560"/>
            </a:gdLst>
            <a:ahLst/>
            <a:rect l="textAreaLeft" t="textAreaTop" r="textAreaRight" b="textAreaBottom"/>
            <a:pathLst>
              <a:path w="21600" h="29397">
                <a:moveTo>
                  <a:pt x="3600" y="0"/>
                </a:moveTo>
                <a:arcTo wR="3600" hR="3600" stAng="16200000" swAng="-5400000"/>
                <a:lnTo>
                  <a:pt x="0" y="25797"/>
                </a:lnTo>
                <a:arcTo wR="3600" hR="3600" stAng="10800000" swAng="-5400000"/>
                <a:lnTo>
                  <a:pt x="18000" y="29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057400"/>
            <a:ext cx="3581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肝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肺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脑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5105520" cy="3505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791320" y="5867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阿米巴肝脓肿组织切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0"/>
            <a:ext cx="701064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3048120"/>
            <a:ext cx="35812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送：及时、保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2362320"/>
            <a:ext cx="32004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取：脓、黏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676520"/>
            <a:ext cx="50292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看：酱红色黏液，腥臭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762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滋养体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5053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包囊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4648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阴性结果时，应间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再查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81080" y="3962520"/>
            <a:ext cx="6934320" cy="1371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功能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运动、营养、排泄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侵袭、感觉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81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结构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单位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质—代谢的中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905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基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971800" y="16002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凝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9718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内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362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溶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3526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88620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352680" y="31240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膜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8098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运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3352680" y="464832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3526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56272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内含物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5943600" y="327672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伪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943600" y="38098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6019920" y="43434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纤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8288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3048120" y="56386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小体、代谢产物、共生物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28600"/>
            <a:ext cx="82296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352680"/>
            <a:ext cx="8153280" cy="32004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部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核膜   核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仁   染色质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运动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伪足运动  鞭毛运动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毛运动  滑行运动或扭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419720"/>
            <a:ext cx="76960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养与代谢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摄食与排泄方式多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方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世代交替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性生殖与无性交替出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无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828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有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2193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接合生殖  纤毛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27432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23623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配子生殖   疟原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181480" y="38077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320040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多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724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出芽生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213372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5238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429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8229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20968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发育型  不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际传播型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343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转换宿主型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原虫的生活史类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0" y="266688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124080"/>
            <a:ext cx="78487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播散倾向</a:t>
            </a:r>
            <a:br>
              <a:rPr sz="4000"/>
            </a:b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阿米巴：血流    肝、肺、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49568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105520"/>
            <a:ext cx="7315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弓形虫、肺孢子虫、隐孢子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原虫的致病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600200"/>
            <a:ext cx="83818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增殖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疟原虫：裂体增殖   寒战、发热、出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2:3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