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324A-5DD3-44EF-9986-6947E711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FE9FF-F45E-4EE0-9882-856DB315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FEBD-F22B-4A3F-A592-04EC1D4E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16D5-A86F-49B2-BCFA-0B74C5D5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12DEE-7C87-4643-BFAC-1194EE05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8BAB0-1720-4772-97B7-2EC9DA760B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EF9E5-B6FA-46E6-9F0D-1AFADD4F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9F40F-4E8B-4E5D-862C-2954030F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0D3A7-D72A-4CBB-8C83-7F3DF869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95697-B914-45B3-880B-DE580962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6FD9-7EA2-4C24-9B9B-70DA2245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99303-903A-4701-9E4A-B0ECB465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F4807-BA83-4DFD-86C2-0155DC22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009CF-62EC-4FBB-B388-CBD91072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09D32-B939-4AFA-B6AA-2EDD061C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1EA26-11FF-4AA5-B958-6246FE78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D47E2-263D-4FD7-8F93-6AEEFE3C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7BB0C-EAEC-4AC5-8C3E-4BBE807A5D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8BF6-2505-4112-BD98-B474B35A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DA2A-4196-4255-AA00-5CE8E8C3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5A151-A1E9-416D-8BD5-13491B5D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165C-046E-461E-A5DC-EBEE82A4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A5C3B-BC07-447E-8564-06A18B3D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FB1A1-89B8-4BEE-9C82-A638F91F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dddddd">
                  <a:alpha val="44313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" name="Oval 4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Oval 5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96BA-E7E5-4226-8BA9-9D106CF62DF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Oval 9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5409720" y="304920"/>
            <a:ext cx="26672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6019560" y="647676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2"/>
          <p:cNvSpPr/>
          <p:nvPr/>
        </p:nvSpPr>
        <p:spPr>
          <a:xfrm>
            <a:off x="684360" y="333360"/>
            <a:ext cx="5905440" cy="5761080"/>
          </a:xfrm>
          <a:prstGeom prst="ellipse">
            <a:avLst/>
          </a:prstGeom>
          <a:gradFill rotWithShape="0">
            <a:gsLst>
              <a:gs pos="0">
                <a:srgbClr val="dddddd">
                  <a:alpha val="48235"/>
                </a:srgbClr>
              </a:gs>
              <a:gs pos="100000">
                <a:srgbClr val="ffffff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4437000"/>
            <a:ext cx="9144000" cy="172872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971640" y="1628640"/>
            <a:ext cx="3529080" cy="367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324000" y="1268280"/>
            <a:ext cx="1438200" cy="1511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1258920" y="260280"/>
            <a:ext cx="934920" cy="936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4211640" y="2637000"/>
            <a:ext cx="1224000" cy="1223640"/>
          </a:xfrm>
          <a:prstGeom prst="ellipse">
            <a:avLst/>
          </a:prstGeom>
          <a:solidFill>
            <a:srgbClr val="1babe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3851280" y="3500280"/>
            <a:ext cx="1582560" cy="15829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dddddd">
                  <a:alpha val="44313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3" name="Oval 4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24b98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9BDA-0355-409F-A101-7CFD63F84ED0}" type="slidenum">
              <a:rPr b="0" lang="zh-CN" sz="1000" spc="-1" strike="noStrike">
                <a:solidFill>
                  <a:srgbClr val="124b9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5"/>
          </p:nvPr>
        </p:nvSpPr>
        <p:spPr>
          <a:xfrm>
            <a:off x="5409720" y="304920"/>
            <a:ext cx="26672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3505320" y="685800"/>
            <a:ext cx="541152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4b98"/>
                </a:solidFill>
                <a:latin typeface="Arial"/>
                <a:ea typeface="宋体"/>
              </a:rPr>
              <a:t>病原生物学与免疫学</a:t>
            </a:r>
            <a:endParaRPr b="0" lang="en-US" sz="4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主    编  陆予云  汪晓静</a:t>
            </a:r>
            <a:br>
              <a:rPr sz="2400"/>
            </a:b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副主编  孙庶强  李    睿  郝   燕</a:t>
            </a:r>
            <a:br>
              <a:rPr sz="2400"/>
            </a:b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编    委  曹美香  李旭文  李福玲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梅    蕾   魏桂芬 万巧风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杨冬华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北京大学医学出版社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270800" y="2133720"/>
            <a:ext cx="4533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微生物的分布及与人类的关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医学微生物学的发展与现状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经验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实验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现代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28600" y="1639800"/>
            <a:ext cx="89154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二、人体寄生虫学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人体寄生虫学的概念与分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人体寄生虫学是研究人体寄生虫的形态结构、生长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繁殖规律、致病机制、实验诊断、流行规律和防治原则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科学。人体寄生虫包括医学原虫、医学蠕虫和医学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肢动物三大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蠕虫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原虫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节肢动物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（二）人体寄生虫学的发展与现状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学习目标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解释免疫的概念与功能；解释微生物、病原微生物、寄生虫的概念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说出免疫的类型；说出微生物、寄生虫的分类及其类型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知道免疫学、医学微生物学与人体寄生虫学的发展与现状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600200" y="57150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1495080" y="1676520"/>
            <a:ext cx="620136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一、免疫的概念与功能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免疫的概念  免疫是机体免疫系统识别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自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己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非己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抗原性异物，并通过免疫应答排除抗原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性异物，以维持机体生理功能平衡与稳定的功能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免疫的功能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防御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稳定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监视</a:t>
            </a:r>
            <a:r>
              <a:rPr b="0" lang="zh-CN" sz="1800" spc="-1" strike="noStrike">
                <a:solidFill>
                  <a:srgbClr val="124b98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95920" y="1793880"/>
            <a:ext cx="958428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124b98"/>
                </a:solidFill>
                <a:latin typeface="Arial"/>
                <a:ea typeface="宋体"/>
              </a:rPr>
              <a:t>免疫的功能及其表现</a:t>
            </a:r>
            <a:endParaRPr b="0" lang="en-US" sz="32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___________________________________________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功能     正常表现（有利）         异常表现 （有害）   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------------------------------------------------------------------------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防御     抵抗病原生物入侵        过高：超敏反应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过低：免疫缺陷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稳定     清除衰老、损伤细胞    自身免疫病                 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监视     清除突变细胞               恶性肿瘤</a:t>
            </a:r>
            <a:r>
              <a:rPr b="0" lang="zh-CN" sz="1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4b98"/>
                </a:solidFill>
                <a:latin typeface="Arial"/>
                <a:ea typeface="宋体"/>
              </a:rPr>
              <a:t>____________________________________________________________________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723680" y="1828800"/>
            <a:ext cx="603324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免疫的类型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固有免疫  又称非特异性免疫或先天性免疫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是人类在长期的种系发生和进化过程中与微生物接触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逐渐建立起来的防御功能。特点：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生来就有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可以遗传，相对稳定；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无特异性，对各种抗原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异物可迅速应答，产生非特异性的抗感染免疫作用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0" y="1828800"/>
            <a:ext cx="1772604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适应性免疫 又称特异性免疫或获得性免疫。是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指人出生后，在后天生活过程中与抗原性物质接触后产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生的免疫。特点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是机体后天生活过程中受抗原物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质刺激产生；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作用特异性，即只对刺激产生该免疫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抗原物质发生作用。适应性免疫是在固有免疫的基础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上建交起来的，主要通过抗体和效应淋巴细胞而发挥体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液免疫和细胞免疫作用（见第四章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应答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。</a:t>
            </a:r>
            <a:r>
              <a:rPr b="0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5"/>
          <p:cNvSpPr/>
          <p:nvPr/>
        </p:nvSpPr>
        <p:spPr>
          <a:xfrm>
            <a:off x="7391520" y="6553080"/>
            <a:ext cx="1523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28600" y="2209680"/>
            <a:ext cx="89154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二、免疫学的发展史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经验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科学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现代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至今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5"/>
          <p:cNvSpPr/>
          <p:nvPr/>
        </p:nvSpPr>
        <p:spPr>
          <a:xfrm>
            <a:off x="7315200" y="6477120"/>
            <a:ext cx="1523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027880" y="1981080"/>
            <a:ext cx="5514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一、医学微生物学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微生物的概念与分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微生物是一群个体微小、结构简单，肉眼不能直接见到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必须借助光学或电子显微镜放大几百倍、几千倍甚至几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万倍才能看到的微小生物。微生物具有种类多、分布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广、繁殖快的特点，有的种类与人类关系密切。按其结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构与组成不同，可将它们分为三型八大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640160" y="1752480"/>
            <a:ext cx="6027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非细胞型微生物 无典型的细胞结构，仅由核心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和蛋白质外壳组成，是最小的一类微生物，能通过滤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器。核心中只有单一的核酸（</a:t>
            </a:r>
            <a:r>
              <a:rPr b="0" lang="en-US" sz="2800" spc="-1" strike="noStrike">
                <a:solidFill>
                  <a:srgbClr val="124b98"/>
                </a:solidFill>
                <a:latin typeface="Times New Roman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或</a:t>
            </a:r>
            <a:r>
              <a:rPr b="0" lang="en-US" sz="2800" spc="-1" strike="noStrike">
                <a:solidFill>
                  <a:srgbClr val="124b98"/>
                </a:solidFill>
                <a:latin typeface="Times New Roman"/>
                <a:ea typeface="楷体_GB2312"/>
              </a:rPr>
              <a:t>RNA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，缺乏酶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统，只能在活细胞内增殖。病毒为其代表，另外，近年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发现的结构中没有核酸只有蛋白质的朊粒也归为此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原核细胞型微生物 细胞的分化程度较低，仅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原始核质，无核仁和核膜，胞质内细胞器不完整。包括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细菌、支原体、衣原体、放线菌、立克次体和螺旋体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真核细胞型微生物 细胞核分化程度较高，有核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膜、核仁和染色体，胞质内细胞器完整，真菌属此类微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生物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cp:keywords/>
  <dc:language>en-US</dc:language>
  <cp:lastModifiedBy>USER</cp:lastModifiedBy>
  <cp:lastPrinted>1899-12-30T00:00:00Z</cp:lastPrinted>
  <dcterms:modified xsi:type="dcterms:W3CDTF">2014-04-16T06:42:00Z</dcterms:modified>
  <cp:revision>8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