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jpeg" ContentType="image/jpeg"/>
  <Override PartName="/ppt/media/image50.gif" ContentType="image/gif"/>
  <Override PartName="/ppt/media/image55.png" ContentType="image/png"/>
  <Override PartName="/ppt/media/image20.jpeg" ContentType="image/jpeg"/>
  <Override PartName="/ppt/media/image53.jpeg" ContentType="image/jpeg"/>
  <Override PartName="/ppt/media/image51.jpeg" ContentType="image/jpeg"/>
  <Override PartName="/ppt/media/image48.jpeg" ContentType="image/jpeg"/>
  <Override PartName="/ppt/media/image35.wmf" ContentType="image/x-wmf"/>
  <Override PartName="/ppt/media/image78.png" ContentType="image/png"/>
  <Override PartName="/ppt/media/image46.png" ContentType="image/png"/>
  <Override PartName="/ppt/media/image45.png" ContentType="image/png"/>
  <Override PartName="/ppt/media/image57.jpeg" ContentType="image/jpeg"/>
  <Override PartName="/ppt/media/image60.gif" ContentType="image/gif"/>
  <Override PartName="/ppt/media/image63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52.jpeg" ContentType="image/jpeg"/>
  <Override PartName="/ppt/media/image1.png" ContentType="image/png"/>
  <Override PartName="/ppt/media/image33.wmf" ContentType="image/x-wmf"/>
  <Override PartName="/ppt/media/image76.png" ContentType="image/png"/>
  <Override PartName="/ppt/media/image31.wmf" ContentType="image/x-wmf"/>
  <Override PartName="/ppt/media/image74.png" ContentType="image/png"/>
  <Override PartName="/ppt/media/image30.jpeg" ContentType="image/jpeg"/>
  <Override PartName="/ppt/media/image11.jpeg" ContentType="image/jpeg"/>
  <Override PartName="/ppt/media/image92.wmf" ContentType="image/x-wmf"/>
  <Override PartName="/ppt/media/image6.jpeg" ContentType="image/jpeg"/>
  <Override PartName="/ppt/media/image71.png" ContentType="image/png"/>
  <Override PartName="/ppt/media/image47.png" ContentType="image/png"/>
  <Override PartName="/ppt/media/image10.png" ContentType="image/png"/>
  <Override PartName="/ppt/media/image27.jpeg" ContentType="image/jpeg"/>
  <Override PartName="/ppt/media/image19.jpeg" ContentType="image/jpeg"/>
  <Override PartName="/ppt/media/image32.gif" ContentType="image/gif"/>
  <Override PartName="/ppt/media/image29.wmf" ContentType="image/x-wmf"/>
  <Override PartName="/ppt/media/image68.png" ContentType="image/png"/>
  <Override PartName="/ppt/media/image69.wmf" ContentType="image/x-wmf"/>
  <Override PartName="/ppt/media/image21.jpeg" ContentType="image/jpeg"/>
  <Override PartName="/ppt/media/image65.png" ContentType="image/png"/>
  <Override PartName="/ppt/media/image59.png" ContentType="image/png"/>
  <Override PartName="/ppt/media/image24.jpeg" ContentType="image/jpeg"/>
  <Override PartName="/ppt/media/image61.png" ContentType="image/png"/>
  <Override PartName="/ppt/media/image25.jpeg" ContentType="image/jpeg"/>
  <Override PartName="/ppt/media/image62.png" ContentType="image/png"/>
  <Override PartName="/ppt/media/image3.gif" ContentType="image/gif"/>
  <Override PartName="/ppt/media/image66.png" ContentType="image/png"/>
  <Override PartName="/ppt/media/image67.png" ContentType="image/png"/>
  <Override PartName="/ppt/media/image70.wmf" ContentType="image/x-wmf"/>
  <Override PartName="/ppt/media/image93.jpeg" ContentType="image/jpeg"/>
  <Override PartName="/ppt/media/image88.png" ContentType="image/png"/>
  <Override PartName="/ppt/media/image72.png" ContentType="image/png"/>
  <Override PartName="/ppt/media/image79.png" ContentType="image/png"/>
  <Override PartName="/ppt/media/image89.wmf" ContentType="image/x-wmf"/>
  <Override PartName="/ppt/media/image49.png" ContentType="image/png"/>
  <Override PartName="/ppt/media/image90.png" ContentType="image/png"/>
  <Override PartName="/ppt/media/image87.png" ContentType="image/png"/>
  <Override PartName="/ppt/media/image64.png" ContentType="image/png"/>
  <Override PartName="/ppt/media/image15.jpeg" ContentType="image/jpeg"/>
  <Override PartName="/ppt/media/image84.wmf" ContentType="image/x-wmf"/>
  <Override PartName="/ppt/media/image13.jpeg" ContentType="image/jpeg"/>
  <Override PartName="/ppt/media/image44.png" ContentType="image/png"/>
  <Override PartName="/ppt/media/image18.jpeg" ContentType="image/jpeg"/>
  <Override PartName="/ppt/media/image73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8.jpeg" ContentType="image/jpeg"/>
  <Override PartName="/ppt/media/image38.png" ContentType="image/png"/>
  <Override PartName="/ppt/media/image77.png" ContentType="image/png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54.png" ContentType="image/png"/>
  <Override PartName="/ppt/media/image23.jpeg" ContentType="image/jpeg"/>
  <Override PartName="/ppt/media/image85.png" ContentType="image/png"/>
  <Override PartName="/ppt/media/image2.jpeg" ContentType="image/jpeg"/>
  <Override PartName="/ppt/media/image75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86.png" ContentType="image/png"/>
  <Override PartName="/ppt/media/image83.gif" ContentType="image/gif"/>
  <Override PartName="/ppt/media/image7.png" ContentType="image/png"/>
  <Override PartName="/ppt/media/image34.jpeg" ContentType="image/jpeg"/>
  <Override PartName="/ppt/media/image37.png" ContentType="image/png"/>
  <Override PartName="/ppt/media/image81.png" ContentType="image/png"/>
  <Override PartName="/ppt/media/image4.png" ContentType="image/png"/>
  <Override PartName="/ppt/media/image12.jpeg" ContentType="image/jpeg"/>
  <Override PartName="/ppt/media/image8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embeddings/oleObject1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口腔粘膜柔嫩，血管丰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唾液腺分泌少，口腔粘膜比较干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容易损伤而发生感染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有利于微生物繁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鹅口疮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白色念珠菌感染所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新生儿、营养不良、腹泻、长期使用广谱抗生素的病儿易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新生儿亦可在出生时经产道感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常见类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疱疹性口腔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纯疱疹病毒感染所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传染性强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岁小儿多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常在集体托幼机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常见类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溃疡性口腔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链球菌、金黄色葡萄球菌、肺炎链球菌大肠杆菌等感染所致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婴幼儿多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常发生于急性感染、长期腹泻等机体抵抗力降低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口腔不洁更易发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鹅口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局部表现：颊粘膜、舌、牙龈、上腭等处出现白色乳凝块样物，初时点状，逐渐融合成片，可波及咽部或口腔大部，强行拭去可见红色创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患处不痛，不流涎，一般不影响吃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多无全身症状。重者可累及消化道或呼吸道，引起真菌性肠炎或真菌性肺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治疗原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碳酸氢钠溶液于哺乳前后清洁口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局部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甲紫溶液，每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广泛病变者，可用制霉菌素每次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万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加水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涂患处，每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制霉菌素每次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万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加甘油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0m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涂患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疱疹性口腔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局部表现；口腔粘膜散在或成簇的小水泡，水泡破溃形成溃疡，溃疡面覆盖黄白色膜样渗出物，周围绕以红晕，多个小溃疡可融合成较大溃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全身表现：出现发热，体温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8~40 ℃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局部疼痛，哭闹、烦躁、拒食、流涎，颌下淋巴结肿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病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治疗原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保持口腔清洁，勤喂水，禁用刺激性或腐蚀性药物如硝酸银、过硼酸钠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局部涂锡类散、冰硼散等中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疼痛者，在食前或口腔护理前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％利多卡因涂局部，食物以微温或凉的流质为宜，避免酸性饮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对发热者可给予退热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溃疡性口腔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局部表现：初起口腔粘膜充血水肿，后出现大小不等的糜烂、溃疡，融合成片，表面有纤维素性炎症渗出物形成的灰白色假膜，边界清楚，易拭去，遗留溢血创面，不久又被假膜覆盖，涂片染色见大量细菌；局部疼痛、流涎、拒食、烦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全身表现：发热可达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º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局部淋巴结肿大，白细胞总数和中性粒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治疗原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控制感染，根据细菌培养和药敏选用抗生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加强口腔护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局部止痛可用利多卡因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注意补充足够的水分及营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评估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健康史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有局部刺激使口腔粘膜受损的病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口腔不卫生：乳瓶、橡皮乳头消毒不严或乳母乳头不洁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疾病导致机体抵抗力下降可诱发口腔炎，如腹泻、营养不良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疱疹性口腔炎常有与本病患儿的接触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评估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身体状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）疱疹性口腔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）溃疡性口腔炎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）鹅口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评估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心理、社会状况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患儿：口腔疼痛造成的哭闹、烦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家长：—患儿不能顺利进食而出现   焦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    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急于寻求解决办法，愿意接受   健康指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辅助检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口腔粘膜涂片检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血常规结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诊断／问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口腔粘膜改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疼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体温过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知识缺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营养不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问题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口腔粘膜改变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相关因素—口腔不洁、抵抗力低下造成感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诊断依据—患儿口腔粘膜有炎症、疱疹、溃疡、乳凝块样物，口腔疼痛、不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问题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疼痛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相关因素—口腔炎症刺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依据—患儿有口腔炎、哭闹烦躁、流涎、拒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问题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知识缺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相关因素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患儿家长缺乏有关口腔炎护理及预防知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依据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家长诉说不知如何护理患儿及预防再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预期目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患儿口腔粘膜恢复正常，表现为溃疡愈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患儿口腔疼痛消失，表现为愉快进食、无哭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体温恢复正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患儿家长能说出护理患儿的要点及预防再发的措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保持口腔清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鼓励患儿饮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按医嘱用药液清洗口腔，清除分泌物及腐败组织，减少感染，促进愈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清洗口腔每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次，以餐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时左右为宜，动作应轻、快、准，以免引起呕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棉签在溃疡面上应是滚动，切不可磨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保持口腔清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过氧化氢溶液清洗溃疡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甲紫或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金霉素鱼肝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较大儿童可用含漱剂如克菌定或含漱剂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利凡诺溶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鹅口疮应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的碳酸氢钠溶液清洗，因碱性环境可抑制白色念珠菌生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局部涂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涂药前先清洁口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无菌纱布或棉球置于腮腺、下颌下腺及舌下腺开口处以阻断唾液，防止药物被冲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吸干病变表面水分再涂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涂药后闭口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钟左右再取出棉球或纱布，勿立即饮水或进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婴儿不配合时可直接涂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防止交互感染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人员护理口腔后要及时洗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患儿的食具、玩具、毛巾等要及时消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鹅口疮患儿使用过的乳瓶等应放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碳酸氢钠溶液浸泡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钟后煮沸消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哺乳妇女的内衣要勤更换清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疱疹性口腔炎具有较强的传染性，应注意隔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监测体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体温过高时，给予冷水袋、冰袋等物理降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遵医嘱给予药物降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做好皮肤护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饮食护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饮食以高热量、高蛋白、含丰富维生素温凉的流质或半流质为宜，避免酸、辣、热、粗、硬等食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疼痛重者可先局部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利多卡因止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不能进食者，应给予肠道外营养，保证能量与水分供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健康指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根据患儿及家长的理解能力选择适当的方式讲解病因及预防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释勤喂温开水的意义，指导清洁口腔的方法要点，强调给患儿温凉饮食，禁忌擦拭口腔，年长儿进食后漱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指导乳瓶、乳头、食具、玩具的清洁消毒，哺乳妇女勤换内衣，喂乳前后清洗乳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健康指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释流涎是患儿对疼痛的一种反应，对清洁口腔有一定作用，但应注意保持口周皮肤干燥，防止出现皮肤损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强调疱疹性口腔炎的传染性较强，应与健康儿隔离，食具也应分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健康小儿可服抗病毒中药制剂如板蓝根汤预防，每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次，连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鼓励患儿饮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按医嘱用药液清洗口腔，清除分泌物及腐败组织，减少感染，促进愈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清洗口腔每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次，以餐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时左右为宜，动作应轻、快、准，以免引起呕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棉签在溃疡面上应是滚动，切不可磨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保持口腔清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过氧化氢溶液清洗溃疡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甲紫或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金霉素鱼肝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较大儿童可用含漱剂如克菌定或含漱剂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利凡诺溶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鹅口疮应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的碳酸氢钠溶液清洗，因碱性环境可抑制白色念珠菌生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局部涂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涂药前先清洁口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无菌纱布或棉球置于腮腺、下颌下腺及舌下腺开口处以阻断唾液，防止药物被冲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吸干病变表面水分再涂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涂药后闭口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钟左右再取出棉球或纱布，勿立即饮水或进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婴儿不配合时可直接涂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防止交互感染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人员护理口腔后要及时洗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患儿的食具、玩具、毛巾等要及时消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鹅口疮患儿使用过的乳瓶等应放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碳酸氢钠溶液浸泡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钟后煮沸消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哺乳妇女的内衣要勤更换清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疱疹性口腔炎具有较强的传染性，应注意隔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监测体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体温过高时，给予冷水袋、冰袋等物理降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遵医嘱给予药物降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做好皮肤护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饮食护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饮食以高热量、高蛋白、含丰富维生素温凉的流质或半流质为宜，避免酸、辣、热、粗、硬等食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疼痛重者可先局部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利多卡因止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不能进食者，应给予肠道外营养，保证能量与水分供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健康指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根据患儿及家长的理解能力选择适当的方式讲解病因及预防要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释勤喂温开水的意义，指导清洁口腔的方法要点，强调给患儿温凉饮食，禁忌擦拭口腔，年长儿进食后漱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指导乳瓶、乳头、食具、玩具的清洁消毒，哺乳妇女勤换内衣，喂乳前后清洗乳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健康指导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释流涎是患儿对疼痛的一种反应，对清洁口腔有一定作用，但应注意保持口周皮肤干燥，防止出现皮肤损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强调疱疹性口腔炎的传染性较强，应与健康儿隔离，食具也应分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健康小儿可服抗病毒中药制剂如板蓝根汤预防，每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次，连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鼓励患儿饮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按医嘱用药液清洗口腔，清除分泌物及腐败组织，减少感染，促进愈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清洗口腔每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次，以餐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时左右为宜，动作应轻、快、准，以免引起呕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棉签在溃疡面上应是滚动，切不可磨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措施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--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保持口腔清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过氧化氢溶液清洗溃疡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甲紫或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金霉素鱼肝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较大儿童可用含漱剂如克菌定或含漱剂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利凡诺溶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鹅口疮应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的碳酸氢钠溶液清洗，因碱性环境可抑制白色念珠菌生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动作应轻、快、准，以免引起呕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棉签在溃疡面上应是滚动，切不可磨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涂药前先清洁口腔，用无菌纱布或棉球置于腮腺、下颌下腺及舌下腺开口处以阻断唾液，防止药物被冲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吸干病变表面水分再涂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涂药后闭口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钟左右再取出棉球或纱布，勿立即饮水或进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婴儿不配合时可直接涂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护理人员护理口腔后要及时洗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患儿的食具、玩具、毛巾等要及时消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鹅口疮患儿使用过的乳瓶等应放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％碳酸氢钠溶液浸泡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钟后煮沸消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哺乳妇女的内衣要勤更换清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疱疹性口腔炎具有较强的传染性，应注意隔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2.wmf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slide43.xml"/><Relationship Id="rId4" Type="http://schemas.openxmlformats.org/officeDocument/2006/relationships/slide" Target="slide18.xml"/><Relationship Id="rId5" Type="http://schemas.openxmlformats.org/officeDocument/2006/relationships/slide" Target="slide44.xml"/><Relationship Id="rId6" Type="http://schemas.openxmlformats.org/officeDocument/2006/relationships/slide" Target="slide19.xm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www.doctorfungus.org/imageban/images/init_images/056MIKE.JPG&amp;imgrefurl=http://www.lib.uiowa.edu/hardin/md/thrushinfant.html&amp;h=410&amp;w=617&amp;sz=220&amp;tbnid=UjhC_VjxV6UJ:&amp;tbnh=89&amp;tbnw=133&amp;start=81&amp;prev=/images%3Fq%3Dthrush%26start%3D80%26hl%3Dzh-CN%26lr%3D%26ie%3DUTF-8%26oe%3DUTF-8%26sa%3DN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childcare.homestead.com/files/thrush.JPG&amp;imgrefurl=http://childcare.homestead.com/Thrush.html&amp;h=180&amp;w=251&amp;sz=7&amp;tbnid=1KWtiHaRPecJ:&amp;tbnh=76&amp;tbnw=105&amp;start=220&amp;prev=/images%3Fq%3Dthrush%26start%3D200%26hl%3Dzh-CN%26lr%3D%26ie%3DUTF-8%26oe%3DUTF-8%26sa%3DN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" Target="slide10.xm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slide9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asp/?url=http://sucaiw.com/&#24494;&#26631;&#31867;/S-&#20154;&#29289;&#22270;&#26696;//&amp;pic=pic&amp;num=338&amp;ext=.jpg&amp;picall=506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2.xml"/><Relationship Id="rId3" Type="http://schemas.openxmlformats.org/officeDocument/2006/relationships/image" Target="../media/image44.png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" Target="slide61.xml"/><Relationship Id="rId7" Type="http://schemas.openxmlformats.org/officeDocument/2006/relationships/image" Target="../media/image45.png"/><Relationship Id="rId8" Type="http://schemas.openxmlformats.org/officeDocument/2006/relationships/slide" Target="slide36.xml"/><Relationship Id="rId9" Type="http://schemas.openxmlformats.org/officeDocument/2006/relationships/slide" Target="slide36.xml"/><Relationship Id="rId10" Type="http://schemas.openxmlformats.org/officeDocument/2006/relationships/image" Target="../media/image46.png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slide70.xml"/><Relationship Id="rId14" Type="http://schemas.openxmlformats.org/officeDocument/2006/relationships/image" Target="../media/image47.png"/><Relationship Id="rId15" Type="http://schemas.openxmlformats.org/officeDocument/2006/relationships/slide" Target="slide38.xml"/><Relationship Id="rId16" Type="http://schemas.openxmlformats.org/officeDocument/2006/relationships/slide" Target="slide38.xml"/><Relationship Id="rId17" Type="http://schemas.openxmlformats.org/officeDocument/2006/relationships/image" Target="../media/image48.jpeg"/><Relationship Id="rId18" Type="http://schemas.openxmlformats.org/officeDocument/2006/relationships/slide" Target="slide60.xml"/><Relationship Id="rId19" Type="http://schemas.openxmlformats.org/officeDocument/2006/relationships/image" Target="../media/image49.png"/><Relationship Id="rId20" Type="http://schemas.openxmlformats.org/officeDocument/2006/relationships/slide" Target="slide35.xml"/><Relationship Id="rId21" Type="http://schemas.openxmlformats.org/officeDocument/2006/relationships/slide" Target="slide35.xml"/><Relationship Id="rId2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28.gif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57.jpeg"/><Relationship Id="rId5" Type="http://schemas.openxmlformats.org/officeDocument/2006/relationships/image" Target="../media/image59.png"/><Relationship Id="rId6" Type="http://schemas.openxmlformats.org/officeDocument/2006/relationships/image" Target="../media/image57.jpe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8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9.wmf"/><Relationship Id="rId22" Type="http://schemas.openxmlformats.org/officeDocument/2006/relationships/package" Target="../embeddings/oleObject11.xlsx"/><Relationship Id="rId23" Type="http://schemas.openxmlformats.org/officeDocument/2006/relationships/image" Target="../media/image70.wmf"/><Relationship Id="rId2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slide" Target="slide9.xml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3.gi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91.xml"/><Relationship Id="rId5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image" Target="../media/image90.png"/><Relationship Id="rId7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5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image" Target="../media/image90.png"/><Relationship Id="rId7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5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image" Target="../media/image90.png"/><Relationship Id="rId7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5.xml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22620" t="0" r="22620" b="0"/>
          <a:stretch/>
        </p:blipFill>
        <p:spPr>
          <a:xfrm>
            <a:off x="3635280" y="2276640"/>
            <a:ext cx="2305080" cy="280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483_1165313248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32000" y="5445000"/>
            <a:ext cx="72007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山东中医药高等专科学校  王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476280"/>
            <a:ext cx="770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九章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消化系统疾病患儿的护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806292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六）胰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月以内小儿：唾液腺和胰腺分泌淀粉酶少，且活力低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~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月前不宜喂淀粉类食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婴儿胃蛋白酶活力低，幼婴脂肪酶的活性也较低——对蛋白质、脂肪的摄入应有一定比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ef9100"/>
                </a:solidFill>
                <a:latin typeface="Arial"/>
                <a:ea typeface="华文新魏"/>
              </a:rPr>
              <a:t>病情观察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1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及一般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输液是否通畅，有无输液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判断输液有效性：脱水改善程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低血钾表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监测代谢性酸中毒表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大便的变化，计算记录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ef9100"/>
                </a:solidFill>
                <a:latin typeface="Arial"/>
                <a:ea typeface="华文新魏"/>
              </a:rPr>
              <a:t>特殊情况下的液体疗法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婴幼儿肺炎伴腹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营养不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新生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2843280" y="115920"/>
            <a:ext cx="3047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小结</a:t>
            </a:r>
            <a:endParaRPr b="1" i="1" lang="en-US" sz="44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26503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79280" y="1052640"/>
            <a:ext cx="896472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儿口腔黏膜柔嫩，口炎是小儿常见的疾病，护理时应给予家长正确的饮食指导，加强患儿口腔清洁护理，正确地进行局部涂药，注意防止交叉感染的发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腹泻是小儿消化系统的常见疾病，不同原因所致腹泻的临床表现轻重不同，重者可出现脱水、电解质紊乱和酸碱平衡失调。正确地评估腹泻患儿的病情，运用护理程序对其实施整体化护理，可缩短病情、促进痊愈和康复。同时，要对患儿及其家长进行系统的健康教育，提高对腹泻病得认识，预防腹泻病得发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儿体液平衡及代谢特点表明小儿容易发生水、电解质和酸碱平衡紊乱，故液体疗法显得特别重要。要熟悉常用溶液的组成、张力、用途，掌握液体疗法的基本方法，加强液体疗法的护理，达到补其所失、供其所需、纠其所偏，恢复机体生理功能的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 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月以下小儿为什么不宜喂食淀粉类食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胎粪组成包括哪些？胎粪排出有何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炎分哪三类？怎样鉴别？怎样正确涂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腹泻的健康史、轻症与重症腹泻的鉴别？常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脱水的程度、性质判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谢性酸中毒、低钾血症的原因、临床表现、治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液体疗法补液原则、补液量的计算及护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疱疹性口炎的病原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白色念珠菌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链球菌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单纯疱疹病毒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腺病毒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柯萨奇病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起小儿腹泻最常见的细菌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双歧杆菌 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大肠埃希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金黄色葡萄球菌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链球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鼠伤寒杆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起小儿腹泻最常见的病毒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冠状病毒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星状病毒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轮状病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埃可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腺病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迁延性腹泻的病程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 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符合口服补液的适应证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心功能不全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肾功能不全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休克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轻度脱水，无呕吐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明显腹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度脱水的失水量占体重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％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％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％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％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98984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七）肠道细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胎儿肠道无细菌，生后数小时细菌很快从口、鼻、肛门侵入肠道，主要分布在结肠和直肠。单纯母乳喂养儿以双歧杆菌为主，人工喂养和混合喂养儿肠内的大肠杆菌、嗜酸杆菌、双歧杆菌及肠球菌所占比例几乎相等。正常肠道菌群对侵入肠道的致病菌有一定的拮抗作用，婴幼儿肠道正常菌群脆弱，易受许多内外界因素影响致菌群失调，导致消化功能紊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儿腹泻当脱水性质不明显时，第一天补液可选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等张 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张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/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张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静脉补钾的浓度一般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超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％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％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％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％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79280" y="1773360"/>
            <a:ext cx="8964720" cy="45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月以下的小儿为何不宜喂食淀粉类食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简述鹅口疮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比较慢性腹泻与生理性腹泻的差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简述重型腹泻的临床表现及饮食护理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述轮状病毒性肠炎的特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4" name=""/>
          <p:cNvGraphicFramePr/>
          <p:nvPr/>
        </p:nvGraphicFramePr>
        <p:xfrm>
          <a:off x="0" y="487692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876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"/>
          <p:cNvSpPr txBox="1"/>
          <p:nvPr/>
        </p:nvSpPr>
        <p:spPr>
          <a:xfrm>
            <a:off x="395280" y="2565360"/>
            <a:ext cx="799308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6666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谢谢！</a:t>
            </a:r>
            <a:endParaRPr b="0" lang="en-US" sz="5400" spc="1" strike="noStrike">
              <a:ln w="19080">
                <a:solidFill>
                  <a:srgbClr val="6666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7" name=""/>
          <p:cNvSpPr/>
          <p:nvPr/>
        </p:nvSpPr>
        <p:spPr>
          <a:xfrm>
            <a:off x="2340000" y="404640"/>
            <a:ext cx="590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4"/>
          <a:stretch/>
        </p:blipFill>
        <p:spPr>
          <a:xfrm>
            <a:off x="6516720" y="0"/>
            <a:ext cx="2235240" cy="216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19280" y="404640"/>
            <a:ext cx="6048360" cy="621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（八）健康小儿粪便特点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79280" y="1484280"/>
            <a:ext cx="2592360" cy="2808000"/>
            <a:chOff x="179280" y="1484280"/>
            <a:chExt cx="2592360" cy="2808000"/>
          </a:xfrm>
        </p:grpSpPr>
        <p:sp>
          <p:nvSpPr>
            <p:cNvPr id="100" name=""/>
            <p:cNvSpPr/>
            <p:nvPr/>
          </p:nvSpPr>
          <p:spPr>
            <a:xfrm>
              <a:off x="179280" y="1779120"/>
              <a:ext cx="2592360" cy="25131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dadada"/>
              </a:solidFill>
              <a:miter/>
            </a:ln>
            <a:effectLst>
              <a:outerShdw dist="17819" dir="2700000" blurRad="0" rotWithShape="0">
                <a:srgbClr val="8282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9640" y="2107800"/>
              <a:ext cx="206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呈墨绿色、粘稠、无臭味，多在生后</a:t>
              </a:r>
              <a:r>
                <a:rPr b="0" lang="zh-CN" sz="24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12h</a:t>
              </a:r>
              <a:r>
                <a:rPr b="0" lang="zh-CN" sz="24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内开始排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23640" y="1484280"/>
              <a:ext cx="2338200" cy="561600"/>
              <a:chOff x="323640" y="1484280"/>
              <a:chExt cx="2338200" cy="56160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555480" y="1484280"/>
                <a:ext cx="71280" cy="1044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3640" y="1484280"/>
                <a:ext cx="2338200" cy="464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e6262"/>
                  </a:gs>
                  <a:gs pos="50000">
                    <a:srgbClr val="ccffff"/>
                  </a:gs>
                  <a:gs pos="100000">
                    <a:srgbClr val="4e62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3840" y="1525320"/>
                <a:ext cx="201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胎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55480" y="1587600"/>
                <a:ext cx="71280" cy="1033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2987640" y="1484280"/>
            <a:ext cx="2809800" cy="2808360"/>
            <a:chOff x="2987640" y="1484280"/>
            <a:chExt cx="2809800" cy="2808360"/>
          </a:xfrm>
        </p:grpSpPr>
        <p:sp>
          <p:nvSpPr>
            <p:cNvPr id="108" name=""/>
            <p:cNvSpPr/>
            <p:nvPr/>
          </p:nvSpPr>
          <p:spPr>
            <a:xfrm>
              <a:off x="2987640" y="1779120"/>
              <a:ext cx="2809800" cy="251352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dadada"/>
              </a:solidFill>
              <a:miter/>
            </a:ln>
            <a:effectLst>
              <a:outerShdw dist="17819" dir="2700000" blurRad="0" rotWithShape="0">
                <a:srgbClr val="8282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27040" y="1985760"/>
              <a:ext cx="249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    </a:t>
              </a:r>
              <a:r>
                <a:rPr b="0" lang="zh-CN" sz="24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呈黄色或金黄色、均匀糊状，偶有细小乳凝块，每日排</a:t>
              </a:r>
              <a:r>
                <a:rPr b="0" lang="zh-CN" sz="24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2</a:t>
              </a:r>
              <a:r>
                <a:rPr b="0" lang="zh-CN" sz="2400" spc="-1" strike="noStrike">
                  <a:solidFill>
                    <a:srgbClr val="a50021"/>
                  </a:solidFill>
                  <a:latin typeface="华文新魏"/>
                  <a:ea typeface="华文新魏"/>
                </a:rPr>
                <a:t>‾</a:t>
              </a:r>
              <a:r>
                <a:rPr b="0" lang="zh-CN" sz="24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4</a:t>
              </a:r>
              <a:r>
                <a:rPr b="0" lang="zh-CN" sz="24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次，不臭，呈酸性反应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205080" y="1484280"/>
              <a:ext cx="2337840" cy="560880"/>
              <a:chOff x="3205080" y="1484280"/>
              <a:chExt cx="2337840" cy="56088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3435840" y="1484280"/>
                <a:ext cx="70920" cy="1044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05080" y="1484280"/>
                <a:ext cx="2337840" cy="464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e6262"/>
                  </a:gs>
                  <a:gs pos="50000">
                    <a:srgbClr val="ccffff"/>
                  </a:gs>
                  <a:gs pos="100000">
                    <a:srgbClr val="4e62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64920" y="1524600"/>
                <a:ext cx="20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母乳儿粪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435840" y="1587600"/>
                <a:ext cx="70920" cy="1033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6012000" y="1413000"/>
            <a:ext cx="2809800" cy="2952360"/>
            <a:chOff x="6012000" y="1413000"/>
            <a:chExt cx="2809800" cy="2952360"/>
          </a:xfrm>
        </p:grpSpPr>
        <p:sp>
          <p:nvSpPr>
            <p:cNvPr id="116" name=""/>
            <p:cNvSpPr/>
            <p:nvPr/>
          </p:nvSpPr>
          <p:spPr>
            <a:xfrm>
              <a:off x="6012000" y="1723320"/>
              <a:ext cx="2809800" cy="26420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dadada"/>
              </a:solidFill>
              <a:miter/>
            </a:ln>
            <a:effectLst>
              <a:outerShdw dist="17819" dir="2700000" blurRad="0" rotWithShape="0">
                <a:srgbClr val="8282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51760" y="1940400"/>
              <a:ext cx="24969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    </a:t>
              </a:r>
              <a:r>
                <a:rPr b="0" lang="zh-CN" sz="24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呈淡黄色，较干稠成形，含乳凝块多，每日排</a:t>
              </a:r>
              <a:r>
                <a:rPr b="0" lang="zh-CN" sz="24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1</a:t>
              </a:r>
              <a:r>
                <a:rPr b="0" lang="zh-CN" sz="2400" spc="-1" strike="noStrike">
                  <a:solidFill>
                    <a:srgbClr val="a50021"/>
                  </a:solidFill>
                  <a:latin typeface="华文新魏"/>
                  <a:ea typeface="华文新魏"/>
                </a:rPr>
                <a:t>‾</a:t>
              </a:r>
              <a:r>
                <a:rPr b="0" lang="zh-CN" sz="24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2</a:t>
              </a:r>
              <a:r>
                <a:rPr b="0" lang="zh-CN" sz="2400" spc="-1" strike="noStrike">
                  <a:solidFill>
                    <a:srgbClr val="a50021"/>
                  </a:solidFill>
                  <a:latin typeface="隶书"/>
                  <a:ea typeface="隶书"/>
                </a:rPr>
                <a:t>次，略有臭味，呈中性或碱性反应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229440" y="1413000"/>
              <a:ext cx="2338200" cy="562680"/>
              <a:chOff x="6229440" y="1413000"/>
              <a:chExt cx="2338200" cy="562680"/>
            </a:xfrm>
          </p:grpSpPr>
          <p:sp>
            <p:nvSpPr>
              <p:cNvPr id="119" name=""/>
              <p:cNvSpPr/>
              <p:nvPr/>
            </p:nvSpPr>
            <p:spPr>
              <a:xfrm flipH="1">
                <a:off x="6461280" y="1413000"/>
                <a:ext cx="71280" cy="109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29440" y="1413000"/>
                <a:ext cx="2338200" cy="488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e6262"/>
                  </a:gs>
                  <a:gs pos="50000">
                    <a:srgbClr val="ccffff"/>
                  </a:gs>
                  <a:gs pos="100000">
                    <a:srgbClr val="4e62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89640" y="1455120"/>
                <a:ext cx="201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牛乳儿粪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6461280" y="1521360"/>
                <a:ext cx="71280" cy="1083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2449440" cy="165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132000" y="4437000"/>
            <a:ext cx="2665440" cy="1795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084720" y="4437000"/>
            <a:ext cx="266400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第二节    口炎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4448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ctr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鹅口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疱疹性口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溃疡性口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 flipH="1" rot="10800000">
            <a:off x="1042920" y="4797000"/>
            <a:ext cx="7489800" cy="101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【护理案例】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患儿为顺产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的早产儿，其母亲患有白色念珠球菌性阴道炎。近日在口腔粘膜上可见白色乳凝块样物，以颊粘膜最多，不易擦掉，无明显哭闹，进食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思考：①该患儿最可能的医疗诊断是什么？②患儿存在哪些护理问题？③应如何进行正确的护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920" y="2084040"/>
            <a:ext cx="50767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口炎是指口腔粘膜的炎症，可由病毒、真菌、细菌等感染引起，亦可因局部受理化刺激而引起。临床以口腔粘膜破损、疼痛、流涎及发热为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35100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9900"/>
                </a:solidFill>
                <a:latin typeface="隶书"/>
                <a:ea typeface="隶书"/>
              </a:rPr>
              <a:t>概 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96000" y="1700280"/>
          <a:ext cx="2946240" cy="21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700280"/>
                    <a:ext cx="294624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796000" y="4076640"/>
            <a:ext cx="2879640" cy="1949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-2462400" y="645840"/>
            <a:ext cx="10852200" cy="9528840"/>
            <a:chOff x="-2462400" y="645840"/>
            <a:chExt cx="10852200" cy="9528840"/>
          </a:xfrm>
        </p:grpSpPr>
        <p:sp>
          <p:nvSpPr>
            <p:cNvPr id="137" name=""/>
            <p:cNvSpPr/>
            <p:nvPr/>
          </p:nvSpPr>
          <p:spPr>
            <a:xfrm rot="20555400">
              <a:off x="-1476000" y="1557000"/>
              <a:ext cx="7273800" cy="7705800"/>
            </a:xfrm>
            <a:custGeom>
              <a:avLst/>
              <a:gdLst>
                <a:gd name="textAreaLeft" fmla="*/ 0 w 7273800"/>
                <a:gd name="textAreaRight" fmla="*/ 7274160 w 7273800"/>
                <a:gd name="textAreaTop" fmla="*/ 0 h 7705800"/>
                <a:gd name="textAreaBottom" fmla="*/ 7706160 h 770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94" y="10587"/>
                  </a:moveTo>
                  <a:arcTo wR="-7809" hR="-7809" stAng="-10706231" swAng="-3692861"/>
                  <a:lnTo>
                    <a:pt x="16202" y="1448"/>
                  </a:lnTo>
                  <a:arcTo wR="10800" hR="10800" stAng="-3599092" swAng="3692861"/>
                  <a:lnTo>
                    <a:pt x="24295" y="11168"/>
                  </a:lnTo>
                  <a:lnTo>
                    <a:pt x="19987" y="15248"/>
                  </a:lnTo>
                  <a:lnTo>
                    <a:pt x="15907" y="10939"/>
                  </a:lnTo>
                  <a:close/>
                </a:path>
              </a:pathLst>
            </a:custGeom>
            <a:gradFill rotWithShape="0">
              <a:gsLst>
                <a:gs pos="0">
                  <a:srgbClr val="808000"/>
                </a:gs>
                <a:gs pos="50000">
                  <a:srgbClr val="ffffcc"/>
                </a:gs>
                <a:gs pos="100000">
                  <a:srgbClr val="808000"/>
                </a:gs>
              </a:gsLst>
              <a:lin ang="145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3757400">
              <a:off x="3877920" y="6557400"/>
              <a:ext cx="3506760" cy="1033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 vert="eaVert">
              <a:prstTxWarp prst="textArchUp">
                <a:avLst>
                  <a:gd name="adj" fmla="val 114380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cc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隶书"/>
                </a:rPr>
                <a:t>口炎患儿的护理</a:t>
              </a:r>
              <a:endParaRPr b="0" lang="en-US" sz="24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139" name="">
              <a:hlinkClick r:id="" action="ppaction://hlinkshowjump?jump=nextslide"/>
            </p:cNvPr>
            <p:cNvSpPr/>
            <p:nvPr/>
          </p:nvSpPr>
          <p:spPr>
            <a:xfrm>
              <a:off x="3060720" y="1341360"/>
              <a:ext cx="3241800" cy="720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9900"/>
                </a:gs>
                <a:gs pos="50000">
                  <a:srgbClr val="ffffff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a50021"/>
                  </a:solidFill>
                  <a:latin typeface="Arial"/>
                  <a:ea typeface="黑体"/>
                </a:rPr>
                <a:t>【</a:t>
              </a:r>
              <a:r>
                <a:rPr b="0" lang="zh-CN" sz="3200" spc="-1" strike="noStrike" u="sng">
                  <a:solidFill>
                    <a:srgbClr val="009688"/>
                  </a:solidFill>
                  <a:uFillTx/>
                  <a:latin typeface="Arial"/>
                  <a:ea typeface="黑体"/>
                  <a:hlinkClick r:id="rId2" action="ppaction://hlinksldjump"/>
                </a:rPr>
                <a:t>护理评估</a:t>
              </a:r>
              <a:r>
                <a:rPr b="0" lang="zh-CN" sz="3200" spc="-1" strike="noStrike">
                  <a:solidFill>
                    <a:srgbClr val="a50021"/>
                  </a:solidFill>
                  <a:latin typeface="Arial"/>
                  <a:ea typeface="黑体"/>
                </a:rPr>
                <a:t>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>
              <a:hlinkClick r:id="rId3" action="ppaction://hlinksldjump"/>
            </p:cNvPr>
            <p:cNvSpPr/>
            <p:nvPr/>
          </p:nvSpPr>
          <p:spPr>
            <a:xfrm>
              <a:off x="4429080" y="2349360"/>
              <a:ext cx="3241800" cy="720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9900"/>
                </a:gs>
                <a:gs pos="50000">
                  <a:srgbClr val="ffffff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a50021"/>
                  </a:solidFill>
                  <a:latin typeface="Arial"/>
                  <a:ea typeface="黑体"/>
                </a:rPr>
                <a:t>【</a:t>
              </a:r>
              <a:r>
                <a:rPr b="0" lang="zh-CN" sz="3200" spc="-1" strike="noStrike" u="sng">
                  <a:solidFill>
                    <a:srgbClr val="009688"/>
                  </a:solidFill>
                  <a:uFillTx/>
                  <a:latin typeface="Arial"/>
                  <a:ea typeface="黑体"/>
                  <a:hlinkClick r:id="rId4" action="ppaction://hlinksldjump"/>
                </a:rPr>
                <a:t>护理诊断</a:t>
              </a:r>
              <a:r>
                <a:rPr b="0" lang="zh-CN" sz="3200" spc="-1" strike="noStrike">
                  <a:solidFill>
                    <a:srgbClr val="a50021"/>
                  </a:solidFill>
                  <a:latin typeface="Arial"/>
                  <a:ea typeface="黑体"/>
                </a:rPr>
                <a:t>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>
              <a:hlinkClick r:id="rId5" action="ppaction://hlinksldjump"/>
            </p:cNvPr>
            <p:cNvSpPr/>
            <p:nvPr/>
          </p:nvSpPr>
          <p:spPr>
            <a:xfrm>
              <a:off x="5148360" y="3429000"/>
              <a:ext cx="3241440" cy="720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9900"/>
                </a:gs>
                <a:gs pos="50000">
                  <a:srgbClr val="ffffff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a50021"/>
                  </a:solidFill>
                  <a:latin typeface="Arial"/>
                  <a:ea typeface="黑体"/>
                </a:rPr>
                <a:t>【</a:t>
              </a:r>
              <a:r>
                <a:rPr b="0" lang="zh-CN" sz="3200" spc="-1" strike="noStrike" u="sng">
                  <a:solidFill>
                    <a:srgbClr val="009688"/>
                  </a:solidFill>
                  <a:uFillTx/>
                  <a:latin typeface="Arial"/>
                  <a:ea typeface="黑体"/>
                  <a:hlinkClick r:id="rId6" action="ppaction://hlinksldjump"/>
                </a:rPr>
                <a:t>护理措施</a:t>
              </a:r>
              <a:r>
                <a:rPr b="0" lang="zh-CN" sz="3200" spc="-1" strike="noStrike">
                  <a:solidFill>
                    <a:srgbClr val="a50021"/>
                  </a:solidFill>
                  <a:latin typeface="Arial"/>
                  <a:ea typeface="黑体"/>
                </a:rPr>
                <a:t>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484360" y="35100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隶书"/>
                <a:ea typeface="隶书"/>
              </a:rPr>
              <a:t>第二节   口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rcRect l="4857" t="5591" r="3069" b="21254"/>
          <a:stretch/>
        </p:blipFill>
        <p:spPr>
          <a:xfrm>
            <a:off x="826920" y="3645000"/>
            <a:ext cx="2629080" cy="1442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5867280" y="4581360"/>
            <a:ext cx="327672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Arial"/>
                <a:ea typeface="黑体"/>
              </a:rPr>
              <a:t>特色护理</a:t>
            </a:r>
            <a:r>
              <a:rPr b="0" lang="zh-CN" sz="4400" spc="-1" strike="noStrike">
                <a:solidFill>
                  <a:srgbClr val="990000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657600"/>
            <a:ext cx="274320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口腔 粘膜柔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唾液腺分泌少粘膜比较干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4191120"/>
            <a:ext cx="2057400" cy="304560"/>
          </a:xfrm>
          <a:prstGeom prst="rightArrow">
            <a:avLst>
              <a:gd name="adj1" fmla="val 50000"/>
              <a:gd name="adj2" fmla="val 168883"/>
            </a:avLst>
          </a:prstGeom>
          <a:solidFill>
            <a:srgbClr val="ef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373392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容 易 损 伤发 生 感 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1981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菌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1600200"/>
            <a:ext cx="2743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当拭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饮料过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物过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毒不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4495680"/>
            <a:ext cx="914400" cy="838440"/>
          </a:xfrm>
          <a:prstGeom prst="upArrow">
            <a:avLst>
              <a:gd name="adj1" fmla="val 30093"/>
              <a:gd name="adj2" fmla="val 34898"/>
            </a:avLst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4864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免 疫 力 低 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3200400"/>
            <a:ext cx="685800" cy="1295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6925285"/>
                <a:lnTo>
                  <a:pt x="6164" y="1046"/>
                </a:lnTo>
                <a:arcTo wR="10800" hR="10800" stAng="-6925285" swAng="692528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724280" y="2819520"/>
            <a:ext cx="1067040" cy="160020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6596049"/>
                <a:lnTo>
                  <a:pt x="7118" y="647"/>
                </a:lnTo>
                <a:arcTo wR="10800" hR="10800" stAng="-6596049" swAng="659604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2700360" y="260280"/>
            <a:ext cx="47530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7160" y="1484280"/>
            <a:ext cx="1599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评估患儿口腔黏膜局部表现，如口腔黏膜红肿、溃疡、疱疹的有无及分布范围，有无发热、流涎、淋巴结肿大等全身症状。临床常见的口炎包括鹅口疮、疱疹性口炎、溃疡性口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2340000" y="333360"/>
            <a:ext cx="4465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9600" y="1341360"/>
            <a:ext cx="1499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11280" y="1844640"/>
          <a:ext cx="7923240" cy="4343400"/>
        </p:xfrm>
        <a:graphic>
          <a:graphicData uri="http://schemas.openxmlformats.org/drawingml/2006/table">
            <a:tbl>
              <a:tblPr/>
              <a:tblGrid>
                <a:gridCol w="990360"/>
                <a:gridCol w="6932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病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白色念珠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新生儿和菌群紊乱患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1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病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产道感染或乳头不洁、乳具污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局部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口腔黏膜覆盖白色乳凝块样片状物，强行剥离后局部黏膜可有渗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1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表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多无全身症状，患处不痛、不流涎、不影响吃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辅助检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取白膜少许放玻片上加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10%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氢氧化钠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滴，显微镜下可见菌丝和孢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1"/>
                    </a:solidFill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治疗要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2%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碳酸氢钠溶液清洁口腔，涂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1%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甲紫或制霉菌素鱼肝油混悬溶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2195640" y="549360"/>
            <a:ext cx="4249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【护理评估】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19700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鹅口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学习目标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口炎、小儿腹泻的概念、身体状况、护理诊断及护理措施；小儿液体疗法及护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上述疾病的治疗原则及健康教育；常见消化系统疾病的中医特色护理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533520"/>
            <a:ext cx="7925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9100"/>
                </a:solidFill>
                <a:latin typeface="华文新魏"/>
                <a:ea typeface="华文新魏"/>
              </a:rPr>
              <a:t>鹅 口 疮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14400" y="1600200"/>
            <a:ext cx="7815240" cy="4476600"/>
            <a:chOff x="914400" y="1600200"/>
            <a:chExt cx="7815240" cy="447660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7010280" y="1600200"/>
              <a:ext cx="171936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4038480" y="4038480"/>
              <a:ext cx="320040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7391520" y="4038480"/>
              <a:ext cx="131112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914400" y="1600200"/>
              <a:ext cx="2895480" cy="19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914400" y="4038480"/>
              <a:ext cx="2819520" cy="20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9"/>
            <a:stretch/>
          </p:blipFill>
          <p:spPr>
            <a:xfrm>
              <a:off x="4191120" y="1600200"/>
              <a:ext cx="2514600" cy="1936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6920" y="1125360"/>
            <a:ext cx="26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疱疹性口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1844640"/>
          <a:ext cx="7773840" cy="4689360"/>
        </p:xfrm>
        <a:graphic>
          <a:graphicData uri="http://schemas.openxmlformats.org/drawingml/2006/table">
            <a:tbl>
              <a:tblPr/>
              <a:tblGrid>
                <a:gridCol w="863280"/>
                <a:gridCol w="6910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病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单纯疱疹病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岁小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病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传染性强，可引起小流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局部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齿龈、舌、唇内、颊黏膜处散在或成簇的黄白色小疱疹，周围有红晕，迅速破溃后形成浅溃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1"/>
                    </a:solidFill>
                  </a:tcPr>
                </a:tc>
              </a:tr>
              <a:tr h="79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表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常有发热，局部疼痛、拒食、流涎、烦躁、颌下淋巴结肿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辅助检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白细胞总数正常或偏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治疗要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为自限性疾病，局部可用疱疹净，继发感染者涂以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2.5%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金霉素鱼肝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2195640" y="260280"/>
            <a:ext cx="482436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【护理评估】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ef9100"/>
                </a:solidFill>
                <a:latin typeface="Arial"/>
                <a:ea typeface="华文新魏"/>
              </a:rPr>
              <a:t>疱疹性口腔炎</a:t>
            </a:r>
            <a:endParaRPr b="0" i="1" lang="en-US" sz="5400" spc="-1" strike="noStrike">
              <a:solidFill>
                <a:srgbClr val="009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76360" y="1544760"/>
            <a:ext cx="6600960" cy="4545000"/>
            <a:chOff x="1476360" y="1544760"/>
            <a:chExt cx="6600960" cy="454500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1476360" y="1544760"/>
              <a:ext cx="317196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486400" y="1600200"/>
              <a:ext cx="25383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410080" y="4038480"/>
              <a:ext cx="2667240" cy="20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1523880" y="4038480"/>
              <a:ext cx="3200400" cy="205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611280" y="1844640"/>
          <a:ext cx="7993080" cy="4656240"/>
        </p:xfrm>
        <a:graphic>
          <a:graphicData uri="http://schemas.openxmlformats.org/drawingml/2006/table">
            <a:tbl>
              <a:tblPr/>
              <a:tblGrid>
                <a:gridCol w="814320"/>
                <a:gridCol w="717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病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链球菌、葡萄球菌、绿脓杆菌、大肠埃希菌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婴幼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病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机体抵抗力低下，口腔不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局部特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口腔黏膜充血、水肿、糜烂或溃疡，表面覆盖纤维素性渗出物，边界清楚，擦后可见溢血的糜烂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1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表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局部疼痛明显，患儿拒食、烦躁，常有明显发热，局部淋巴结肿大，重者可出现脱水和酸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辅助检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白细胞总数及中性粒细胞增多，渗出物涂片可见大量细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治疗要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可用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3%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过氧化氢溶液或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0.1%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利凡诺溶液清洁，并涂以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2.5%</a:t>
                      </a:r>
                      <a:r>
                        <a:rPr b="0" lang="zh-CN" sz="2400" spc="-1" strike="noStrike">
                          <a:solidFill>
                            <a:srgbClr val="0066ff"/>
                          </a:solidFill>
                          <a:latin typeface="隶书"/>
                          <a:ea typeface="隶书"/>
                        </a:rPr>
                        <a:t>金霉素鱼肝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2340000" y="333360"/>
            <a:ext cx="482580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【护理评估】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197000"/>
            <a:ext cx="252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溃疡性口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581280" cy="2414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3047760" cy="2438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08000" cy="1839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ef9100"/>
                </a:solidFill>
                <a:latin typeface="Arial"/>
                <a:ea typeface="华文新魏"/>
              </a:rPr>
              <a:t>其他类型口腔炎</a:t>
            </a:r>
            <a:endParaRPr b="0" i="1" lang="en-US" sz="54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914400" y="4495680"/>
            <a:ext cx="3352680" cy="2136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0"/>
          <a:ext cx="8915400" cy="6999120"/>
        </p:xfrm>
        <a:graphic>
          <a:graphicData uri="http://schemas.openxmlformats.org/drawingml/2006/table">
            <a:tbl>
              <a:tblPr/>
              <a:tblGrid>
                <a:gridCol w="914400"/>
                <a:gridCol w="2819520"/>
                <a:gridCol w="2668320"/>
                <a:gridCol w="2513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黑体"/>
                          <a:ea typeface="黑体"/>
                        </a:rPr>
                        <a:t>鹅口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黑体"/>
                          <a:ea typeface="黑体"/>
                        </a:rPr>
                        <a:t>疱疹性口腔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黑体"/>
                          <a:ea typeface="黑体"/>
                        </a:rPr>
                        <a:t>其他口腔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Times New Roman"/>
                          <a:ea typeface="黑体"/>
                        </a:rPr>
                        <a:t>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Times New Roman"/>
                          <a:ea typeface="黑体"/>
                        </a:rPr>
                        <a:t>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Times New Roman"/>
                          <a:ea typeface="黑体"/>
                        </a:rPr>
                        <a:t>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白色念珠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单纯疱疹病毒、传染性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球菌、金黄色葡萄球菌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Times New Roman"/>
                          <a:ea typeface="黑体"/>
                        </a:rPr>
                        <a:t>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Times New Roman"/>
                          <a:ea typeface="黑体"/>
                        </a:rPr>
                        <a:t>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Times New Roman"/>
                          <a:ea typeface="黑体"/>
                        </a:rPr>
                        <a:t>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新生儿、营养不良、长期使用广谱抗生素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岁小儿多见、可引起小流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婴幼儿、机体抵抗力降低、口腔不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7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Times New Roman"/>
                          <a:ea typeface="黑体"/>
                        </a:rPr>
                        <a:t>临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Times New Roman"/>
                          <a:ea typeface="黑体"/>
                        </a:rPr>
                        <a:t>表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颊粘膜等处出现白色乳凝块样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不痛、不影响吃奶、多无全身症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齿龈红肿、口腔粘膜散在的小水泡、破溃成溃疡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病程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粘膜充血水肿、出现大小不等的糜烂、溃疡、中性粒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发热体温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、局部疼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Times New Roman"/>
                          <a:ea typeface="黑体"/>
                        </a:rPr>
                        <a:t>治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f9100"/>
                          </a:solidFill>
                          <a:latin typeface="Times New Roman"/>
                          <a:ea typeface="黑体"/>
                        </a:rPr>
                        <a:t>原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％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NaHCO</a:t>
                      </a:r>
                      <a:r>
                        <a:rPr b="1" lang="zh-CN" sz="2400" spc="-1" strike="noStrike" baseline="-25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清洗制霉菌素加甘油涂患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％过氧化氢清洗局部涂锡类散等、对症处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选用抗生素控制感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保持口腔清洁，勤喂水、加强口腔护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050920" y="1773360"/>
            <a:ext cx="5042160" cy="18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a50021"/>
                </a:solidFill>
                <a:latin typeface="宋体"/>
                <a:ea typeface="隶书"/>
              </a:rPr>
              <a:t>必要时对口腔黏膜渗出物进行涂片检查，结合血常规做出病原学诊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 rot="5400000">
            <a:off x="524880" y="2506320"/>
            <a:ext cx="182880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辅助检查</a:t>
            </a:r>
            <a:endParaRPr b="0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2914560" y="549360"/>
            <a:ext cx="417852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24360" y="3789360"/>
            <a:ext cx="1849320" cy="1884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 rot="5400000">
            <a:off x="232560" y="2724120"/>
            <a:ext cx="1981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治疗要点</a:t>
            </a:r>
            <a:endParaRPr b="0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09320" y="1828440"/>
            <a:ext cx="53341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清洁口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局部涂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对症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继发细菌感染时可用抗生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2914560" y="54936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1657080" cy="1575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6093000"/>
            <a:ext cx="523800" cy="42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ef9100"/>
                </a:solidFill>
                <a:latin typeface="华文新魏"/>
                <a:ea typeface="华文新魏"/>
              </a:rPr>
              <a:t>护 理 诊 断 </a:t>
            </a:r>
            <a:r>
              <a:rPr b="0" i="1" lang="zh-CN" sz="5400" spc="-1" strike="noStrike">
                <a:solidFill>
                  <a:srgbClr val="ef9100"/>
                </a:solidFill>
                <a:latin typeface="华文新魏"/>
                <a:ea typeface="华文新魏"/>
              </a:rPr>
              <a:t>(</a:t>
            </a:r>
            <a:r>
              <a:rPr b="0" i="1" lang="zh-CN" sz="5400" spc="-1" strike="noStrike">
                <a:solidFill>
                  <a:srgbClr val="ef9100"/>
                </a:solidFill>
                <a:latin typeface="华文新魏"/>
                <a:ea typeface="华文新魏"/>
              </a:rPr>
              <a:t>问题</a:t>
            </a:r>
            <a:r>
              <a:rPr b="0" i="1" lang="zh-CN" sz="5400" spc="-1" strike="noStrike">
                <a:solidFill>
                  <a:srgbClr val="ef9100"/>
                </a:solidFill>
                <a:latin typeface="华文新魏"/>
                <a:ea typeface="华文新魏"/>
              </a:rPr>
              <a:t>)</a:t>
            </a:r>
            <a:endParaRPr b="0" i="1" lang="en-US" sz="5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85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85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腔粘膜改变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85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疼痛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85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体温过高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85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知识缺乏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85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营养失调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858000" y="4724280"/>
            <a:ext cx="1981080" cy="1841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ef9100"/>
                </a:solidFill>
                <a:latin typeface="华文新魏"/>
                <a:ea typeface="华文新魏"/>
              </a:rPr>
              <a:t>护 理 措 施</a:t>
            </a:r>
            <a:endParaRPr b="0" i="1" lang="en-US" sz="5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5000"/>
              </a:lnSpc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腔护理：正确涂药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防止交互感染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饮食护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发热护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健康指导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086600" y="4876920"/>
            <a:ext cx="172548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4000" y="620640"/>
            <a:ext cx="4248360" cy="76032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50000">
                <a:srgbClr val="ffffff"/>
              </a:gs>
              <a:gs pos="100000">
                <a:srgbClr val="d49fff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a50021"/>
                </a:solidFill>
                <a:latin typeface="隶书"/>
                <a:ea typeface="隶书"/>
              </a:rPr>
              <a:t>主要内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347920"/>
            <a:ext cx="1441440" cy="33861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3386160"/>
              <a:gd name="textAreaBottom" fmla="*/ 3315960 h 3386160"/>
            </a:gdLst>
            <a:ahLst/>
            <a:rect l="textAreaLeft" t="textAreaTop" r="textAreaRight" b="textAreaBottom"/>
            <a:pathLst>
              <a:path w="21600" h="50734">
                <a:moveTo>
                  <a:pt x="3600" y="0"/>
                </a:moveTo>
                <a:arcTo wR="3600" hR="3600" stAng="16200000" swAng="-5400000"/>
                <a:lnTo>
                  <a:pt x="0" y="47134"/>
                </a:lnTo>
                <a:arcTo wR="3600" hR="3600" stAng="10800000" swAng="-5400000"/>
                <a:lnTo>
                  <a:pt x="18000" y="507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小儿消化系统解剖生理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916280"/>
            <a:ext cx="1800360" cy="720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688"/>
                </a:solidFill>
                <a:uFillTx/>
                <a:latin typeface="隶书"/>
                <a:ea typeface="隶书"/>
                <a:hlinkClick r:id="rId2" action="ppaction://hlinksldjump"/>
              </a:rPr>
              <a:t>第一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2347920"/>
            <a:ext cx="1441440" cy="33861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3386160"/>
              <a:gd name="textAreaBottom" fmla="*/ 3315960 h 3386160"/>
            </a:gdLst>
            <a:ahLst/>
            <a:rect l="textAreaLeft" t="textAreaTop" r="textAreaRight" b="textAreaBottom"/>
            <a:pathLst>
              <a:path w="21600" h="50734">
                <a:moveTo>
                  <a:pt x="3600" y="0"/>
                </a:moveTo>
                <a:arcTo wR="3600" hR="3600" stAng="16200000" swAng="-5400000"/>
                <a:lnTo>
                  <a:pt x="0" y="47134"/>
                </a:lnTo>
                <a:arcTo wR="3600" hR="3600" stAng="10800000" swAng="-5400000"/>
                <a:lnTo>
                  <a:pt x="18000" y="507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口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1916280"/>
            <a:ext cx="1800000" cy="720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688"/>
                </a:solidFill>
                <a:uFillTx/>
                <a:latin typeface="隶书"/>
                <a:ea typeface="隶书"/>
                <a:hlinkClick r:id="rId3" action="ppaction://hlinksldjump"/>
              </a:rPr>
              <a:t>第二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347920"/>
            <a:ext cx="1441440" cy="33861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3386160"/>
              <a:gd name="textAreaBottom" fmla="*/ 3315960 h 3386160"/>
            </a:gdLst>
            <a:ahLst/>
            <a:rect l="textAreaLeft" t="textAreaTop" r="textAreaRight" b="textAreaBottom"/>
            <a:pathLst>
              <a:path w="21600" h="50734">
                <a:moveTo>
                  <a:pt x="3600" y="0"/>
                </a:moveTo>
                <a:arcTo wR="3600" hR="3600" stAng="16200000" swAng="-5400000"/>
                <a:lnTo>
                  <a:pt x="0" y="47134"/>
                </a:lnTo>
                <a:arcTo wR="3600" hR="3600" stAng="10800000" swAng="-5400000"/>
                <a:lnTo>
                  <a:pt x="18000" y="507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小儿腹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916280"/>
            <a:ext cx="1800000" cy="720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688"/>
                </a:solidFill>
                <a:uFillTx/>
                <a:latin typeface="隶书"/>
                <a:ea typeface="隶书"/>
                <a:hlinkClick r:id="rId4" action="ppaction://hlinksldjump"/>
              </a:rPr>
              <a:t>第三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ef9100"/>
                </a:solidFill>
                <a:latin typeface="Arial"/>
                <a:ea typeface="华文新魏"/>
              </a:rPr>
              <a:t>口 腔 护 理</a:t>
            </a:r>
            <a:endParaRPr b="0" i="1" lang="en-US" sz="5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205740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目的、措施 方法、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注 意 事 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352680" cy="2438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33720" y="1219320"/>
            <a:ext cx="1114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vert="eaVert">
            <a:spAutoFit/>
          </a:bodyPr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保 持 口 腔 清 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34120" y="1600200"/>
            <a:ext cx="3809880" cy="3881520"/>
            <a:chOff x="5334120" y="1600200"/>
            <a:chExt cx="3809880" cy="3881520"/>
          </a:xfrm>
        </p:grpSpPr>
        <p:sp>
          <p:nvSpPr>
            <p:cNvPr id="216" name=""/>
            <p:cNvSpPr/>
            <p:nvPr/>
          </p:nvSpPr>
          <p:spPr>
            <a:xfrm>
              <a:off x="5562720" y="1600200"/>
              <a:ext cx="3200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 algn="ctr"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多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饮  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8680" y="2994120"/>
              <a:ext cx="312444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 algn="ctr"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清洗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次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34120" y="4973760"/>
              <a:ext cx="38098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 algn="ctr"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局部涂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38680" y="1746360"/>
              <a:ext cx="304920" cy="359244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49400 h 3592440"/>
                <a:gd name="textAreaBottom" fmla="*/ 3443040 h 359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ef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124080" y="3048120"/>
            <a:ext cx="1752840" cy="685800"/>
          </a:xfrm>
          <a:prstGeom prst="rightArrow">
            <a:avLst>
              <a:gd name="adj1" fmla="val 50000"/>
              <a:gd name="adj2" fmla="val 63898"/>
            </a:avLst>
          </a:prstGeom>
          <a:noFill/>
          <a:ln w="507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762120"/>
            <a:ext cx="22860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清洗</a:t>
            </a:r>
            <a:r>
              <a:rPr b="1" lang="zh-CN" sz="3200" spc="-1" strike="noStrike">
                <a:solidFill>
                  <a:srgbClr val="ef9100"/>
                </a:solidFill>
                <a:latin typeface="Arial"/>
                <a:ea typeface="黑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餐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左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4343400"/>
            <a:ext cx="21333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涂药</a:t>
            </a:r>
            <a:r>
              <a:rPr b="1" lang="zh-CN" sz="3200" spc="-1" strike="noStrike">
                <a:solidFill>
                  <a:srgbClr val="ef9100"/>
                </a:solidFill>
                <a:latin typeface="Arial"/>
                <a:ea typeface="黑体"/>
              </a:rPr>
              <a:t>时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清洁口腔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543800" y="57913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ef9100"/>
                </a:solidFill>
                <a:latin typeface="Arial"/>
                <a:ea typeface="华文新魏"/>
              </a:rPr>
              <a:t>正 确 涂 药</a:t>
            </a:r>
            <a:endParaRPr b="0" i="1" lang="en-US" sz="5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752480"/>
            <a:ext cx="24386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清 洁 口 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124080"/>
            <a:ext cx="3048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菌纱布或棉球置于唾液腺开口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952880"/>
            <a:ext cx="16761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涂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267080"/>
            <a:ext cx="2971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干病变表面水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486400"/>
            <a:ext cx="228600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闭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取出棉球或纱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2286000"/>
            <a:ext cx="457200" cy="647640"/>
          </a:xfrm>
          <a:prstGeom prst="downArrow">
            <a:avLst>
              <a:gd name="adj1" fmla="val 50000"/>
              <a:gd name="adj2" fmla="val 35413"/>
            </a:avLst>
          </a:prstGeom>
          <a:solidFill>
            <a:srgbClr val="ef9100"/>
          </a:solidFill>
          <a:ln w="93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4114800"/>
            <a:ext cx="457200" cy="647640"/>
          </a:xfrm>
          <a:prstGeom prst="downArrow">
            <a:avLst>
              <a:gd name="adj1" fmla="val 50000"/>
              <a:gd name="adj2" fmla="val 35413"/>
            </a:avLst>
          </a:prstGeom>
          <a:solidFill>
            <a:srgbClr val="ef9100"/>
          </a:solidFill>
          <a:ln w="93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133720" y="5637960"/>
            <a:ext cx="1218960" cy="576360"/>
          </a:xfrm>
          <a:custGeom>
            <a:avLst/>
            <a:gdLst>
              <a:gd name="textAreaLeft" fmla="*/ 0 w 1218960"/>
              <a:gd name="textAreaRight" fmla="*/ 1219320 w 121896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f9100"/>
          </a:solidFill>
          <a:ln w="93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1640" y="1523880"/>
            <a:ext cx="3657960" cy="838080"/>
            <a:chOff x="4571640" y="1523880"/>
            <a:chExt cx="3657960" cy="838080"/>
          </a:xfrm>
        </p:grpSpPr>
        <p:sp>
          <p:nvSpPr>
            <p:cNvPr id="235" name=""/>
            <p:cNvSpPr/>
            <p:nvPr/>
          </p:nvSpPr>
          <p:spPr>
            <a:xfrm>
              <a:off x="5181840" y="2285640"/>
              <a:ext cx="75960" cy="76320"/>
            </a:xfrm>
            <a:prstGeom prst="downArrow">
              <a:avLst>
                <a:gd name="adj1" fmla="val 50000"/>
                <a:gd name="adj2" fmla="val 2511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571280" y="1904760"/>
              <a:ext cx="838440" cy="457200"/>
            </a:xfrm>
            <a:prstGeom prst="lightningBolt">
              <a:avLst/>
            </a:prstGeom>
            <a:solidFill>
              <a:srgbClr val="009688"/>
            </a:solidFill>
            <a:ln w="93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62720" y="1523880"/>
              <a:ext cx="26668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 algn="ctr"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轻、快、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105160" y="2590920"/>
            <a:ext cx="3657960" cy="1211760"/>
            <a:chOff x="5105160" y="2590920"/>
            <a:chExt cx="3657960" cy="1211760"/>
          </a:xfrm>
        </p:grpSpPr>
        <p:sp>
          <p:nvSpPr>
            <p:cNvPr id="239" name=""/>
            <p:cNvSpPr/>
            <p:nvPr/>
          </p:nvSpPr>
          <p:spPr>
            <a:xfrm flipH="1">
              <a:off x="5104800" y="3276720"/>
              <a:ext cx="838440" cy="457200"/>
            </a:xfrm>
            <a:prstGeom prst="lightningBolt">
              <a:avLst/>
            </a:prstGeom>
            <a:solidFill>
              <a:srgbClr val="009688"/>
            </a:solidFill>
            <a:ln w="93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67640" y="2590920"/>
              <a:ext cx="2895480" cy="12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 algn="ctr">
                <a:lnSpc>
                  <a:spcPct val="10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棉签应是滚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可磨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791320" y="4267080"/>
            <a:ext cx="2666880" cy="838080"/>
            <a:chOff x="5791320" y="4267080"/>
            <a:chExt cx="2666880" cy="838080"/>
          </a:xfrm>
        </p:grpSpPr>
        <p:sp>
          <p:nvSpPr>
            <p:cNvPr id="242" name=""/>
            <p:cNvSpPr/>
            <p:nvPr/>
          </p:nvSpPr>
          <p:spPr>
            <a:xfrm flipH="1">
              <a:off x="5791320" y="4647960"/>
              <a:ext cx="838080" cy="457200"/>
            </a:xfrm>
            <a:prstGeom prst="lightningBolt">
              <a:avLst/>
            </a:prstGeom>
            <a:solidFill>
              <a:srgbClr val="009688"/>
            </a:solidFill>
            <a:ln w="936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82040" y="4267080"/>
              <a:ext cx="167616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 algn="ctr">
                <a:lnSpc>
                  <a:spcPct val="10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涂药后勿立即饮水、进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72200" y="6019920"/>
            <a:ext cx="2590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婴儿直接涂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ef9100"/>
                </a:solidFill>
                <a:latin typeface="华文新魏"/>
                <a:ea typeface="华文新魏"/>
              </a:rPr>
              <a:t>防止交互感染</a:t>
            </a:r>
            <a:endParaRPr b="0" i="1" lang="en-US" sz="5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3581280"/>
            <a:ext cx="6858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指   导 家 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905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医 务 人 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2209680"/>
            <a:ext cx="1295280" cy="0"/>
          </a:xfrm>
          <a:prstGeom prst="line">
            <a:avLst/>
          </a:prstGeom>
          <a:ln w="41400">
            <a:solidFill>
              <a:srgbClr val="ef91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1905120"/>
            <a:ext cx="2057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勤   洗  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38280" y="3428640"/>
            <a:ext cx="533160" cy="2514960"/>
            <a:chOff x="2438280" y="3428640"/>
            <a:chExt cx="533160" cy="2514960"/>
          </a:xfrm>
        </p:grpSpPr>
        <p:sp>
          <p:nvSpPr>
            <p:cNvPr id="252" name=""/>
            <p:cNvSpPr/>
            <p:nvPr/>
          </p:nvSpPr>
          <p:spPr>
            <a:xfrm flipV="1">
              <a:off x="2438280" y="3428640"/>
              <a:ext cx="533160" cy="1295640"/>
            </a:xfrm>
            <a:prstGeom prst="line">
              <a:avLst/>
            </a:prstGeom>
            <a:ln w="38160">
              <a:solidFill>
                <a:srgbClr val="ef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2438280" y="4648320"/>
              <a:ext cx="457200" cy="1295280"/>
            </a:xfrm>
            <a:prstGeom prst="line">
              <a:avLst/>
            </a:prstGeom>
            <a:ln w="38160">
              <a:solidFill>
                <a:srgbClr val="ef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200400" y="2895480"/>
            <a:ext cx="419112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1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患儿的用物及时消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鹅口疮患儿乳瓶等应消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哺乳妇女要勤换内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疱疹性口腔炎注意隔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245360" y="5318280"/>
            <a:ext cx="1898640" cy="1539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ef9100"/>
                </a:solidFill>
                <a:latin typeface="Arial"/>
                <a:ea typeface="华文新魏"/>
              </a:rPr>
              <a:t>体 温 监 测</a:t>
            </a:r>
            <a:endParaRPr b="0" i="1" lang="en-US" sz="5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124080"/>
            <a:ext cx="32004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发烧了！怎么办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点击放大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371600" y="2057400"/>
            <a:ext cx="2057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1981080"/>
            <a:ext cx="3048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降温措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4572000"/>
            <a:ext cx="2133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护理观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4495680"/>
            <a:ext cx="2057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指导家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ef9100"/>
                </a:solidFill>
                <a:latin typeface="Arial"/>
                <a:ea typeface="华文新魏"/>
              </a:rPr>
              <a:t>饮 食 护 理</a:t>
            </a:r>
            <a:endParaRPr b="0" i="1" lang="en-US" sz="5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热量、高蛋白、含丰富维生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温凉的流质或半流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避免酸、辣、热、粗、硬等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能进食者，给予肠道外营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证能量与水分供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315200" y="5181480"/>
            <a:ext cx="1371600" cy="140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高机体抗病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视口腔卫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食具、玩具等的清洁消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疱疹性口炎注意隔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146680" y="427320"/>
            <a:ext cx="4705560" cy="808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fff"/>
                </a:solidFill>
                <a:latin typeface="Arial"/>
              </a:rPr>
              <a:t>第三节  小儿腹泻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【护理案例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患儿，男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月，人工喂养。秋季腹泻伴呕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入院。大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，蛋花样便，无臭味。伴低热及流涕，偶有呕吐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来尿量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思考：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该患儿导致腹泻最可能的病原体是什么？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根据患儿目前身心状况，列出其主要的护理诊断及相应的护理措施。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应怎样对患儿家长进行健康教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f9100"/>
                </a:solidFill>
                <a:latin typeface="华文新魏"/>
                <a:ea typeface="华文新魏"/>
              </a:rPr>
              <a:t>第三节小儿腹泻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993080" cy="407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9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腹泻病是一组由多病原、多因素引起的以大便次数增多及大便性状改变为特点的综合症，严重者可引起脱水及电解质紊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见于６个月～２岁婴幼儿，夏秋季发病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 rot="10800000">
            <a:off x="3634920" y="1700280"/>
            <a:ext cx="2016360" cy="57456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非感染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268360" y="2790720"/>
            <a:ext cx="4753080" cy="2943000"/>
            <a:chOff x="2268360" y="2790720"/>
            <a:chExt cx="4753080" cy="2943000"/>
          </a:xfrm>
        </p:grpSpPr>
        <p:sp>
          <p:nvSpPr>
            <p:cNvPr id="277" name=""/>
            <p:cNvSpPr/>
            <p:nvPr/>
          </p:nvSpPr>
          <p:spPr>
            <a:xfrm>
              <a:off x="2268360" y="3497040"/>
              <a:ext cx="1917720" cy="1431720"/>
            </a:xfrm>
            <a:prstGeom prst="hexagon">
              <a:avLst>
                <a:gd name="adj" fmla="val 33486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按病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08360" y="2790720"/>
              <a:ext cx="1917720" cy="1430280"/>
            </a:xfrm>
            <a:prstGeom prst="hexagon">
              <a:avLst>
                <a:gd name="adj" fmla="val 3352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按病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03720" y="3497040"/>
              <a:ext cx="1917720" cy="1431720"/>
            </a:xfrm>
            <a:prstGeom prst="hexagon">
              <a:avLst>
                <a:gd name="adj" fmla="val 33486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按病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0800000">
              <a:off x="3419280" y="4005000"/>
              <a:ext cx="2447640" cy="1728720"/>
            </a:xfrm>
            <a:custGeom>
              <a:avLst/>
              <a:gdLst>
                <a:gd name="textAreaLeft" fmla="*/ 542880 w 2447640"/>
                <a:gd name="textAreaRight" fmla="*/ 1904760 w 2447640"/>
                <a:gd name="textAreaTop" fmla="*/ 383400 h 1728720"/>
                <a:gd name="textAreaBottom" fmla="*/ 13453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3" y="21600"/>
                  </a:lnTo>
                  <a:lnTo>
                    <a:pt x="5477" y="21600"/>
                  </a:lnTo>
                  <a:close/>
                </a:path>
              </a:pathLst>
            </a:custGeom>
            <a:solidFill>
              <a:srgbClr val="69e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腹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分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195640" y="26028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ff9900"/>
                </a:solidFill>
                <a:latin typeface="隶书"/>
                <a:ea typeface="隶书"/>
              </a:rPr>
              <a:t>小儿腹泻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3440" y="2276640"/>
            <a:ext cx="360360" cy="431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0800000">
            <a:off x="2124000" y="4076280"/>
            <a:ext cx="217440" cy="289080"/>
          </a:xfrm>
          <a:custGeom>
            <a:avLst/>
            <a:gdLst>
              <a:gd name="textAreaLeft" fmla="*/ 0 w 217440"/>
              <a:gd name="textAreaRight" fmla="*/ 217800 w 21744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21440" y="400536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0800000">
            <a:off x="3634920" y="1196640"/>
            <a:ext cx="2016360" cy="57456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感染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0800000">
            <a:off x="178920" y="4367160"/>
            <a:ext cx="2016360" cy="57456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178920" y="3862440"/>
            <a:ext cx="2016360" cy="57456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迁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178920" y="3359160"/>
            <a:ext cx="2016360" cy="57456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急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7164360" y="3932280"/>
            <a:ext cx="1728720" cy="574560"/>
          </a:xfrm>
          <a:custGeom>
            <a:avLst/>
            <a:gdLst>
              <a:gd name="textAreaLeft" fmla="*/ 380160 w 1728720"/>
              <a:gd name="textAreaRight" fmla="*/ 1348560 w 172872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重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0800000">
            <a:off x="7308360" y="3429000"/>
            <a:ext cx="1513080" cy="574560"/>
          </a:xfrm>
          <a:custGeom>
            <a:avLst/>
            <a:gdLst>
              <a:gd name="textAreaLeft" fmla="*/ 332640 w 1513080"/>
              <a:gd name="textAreaRight" fmla="*/ 1180440 w 1513080"/>
              <a:gd name="textAreaTop" fmla="*/ 126360 h 574560"/>
              <a:gd name="textAreaBottom" fmla="*/ 4482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755e5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第一节  小儿消化系统的特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6031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解剖生理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婴儿粪便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2421000"/>
            <a:ext cx="7991280" cy="286056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92360" y="3213000"/>
            <a:ext cx="2087640" cy="2159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ff66"/>
              </a:gs>
              <a:gs pos="100000">
                <a:srgbClr val="c9e4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-11160" y="5386320"/>
            <a:ext cx="9154440" cy="1471680"/>
            <a:chOff x="-11160" y="5386320"/>
            <a:chExt cx="9154440" cy="1471680"/>
          </a:xfrm>
        </p:grpSpPr>
        <p:grpSp>
          <p:nvGrpSpPr>
            <p:cNvPr id="294" name=""/>
            <p:cNvGrpSpPr/>
            <p:nvPr/>
          </p:nvGrpSpPr>
          <p:grpSpPr>
            <a:xfrm>
              <a:off x="4564800" y="5386320"/>
              <a:ext cx="4578480" cy="1471680"/>
              <a:chOff x="4564800" y="5386320"/>
              <a:chExt cx="4578480" cy="1471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564800" y="5386320"/>
                <a:ext cx="4578480" cy="111996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64800" y="5386320"/>
                <a:ext cx="4578480" cy="131940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64800" y="5386320"/>
                <a:ext cx="434268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64800" y="5386320"/>
                <a:ext cx="363744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64800" y="5386320"/>
                <a:ext cx="297576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64800" y="5386320"/>
                <a:ext cx="230832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64800" y="5386320"/>
                <a:ext cx="172152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64800" y="5386320"/>
                <a:ext cx="113688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64800" y="5386320"/>
                <a:ext cx="54828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64800" y="5386320"/>
                <a:ext cx="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64800" y="5386320"/>
                <a:ext cx="4578480" cy="96876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64800" y="5386320"/>
                <a:ext cx="4578480" cy="8344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64800" y="5386320"/>
                <a:ext cx="4578480" cy="71856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64800" y="5386320"/>
                <a:ext cx="4578480" cy="6022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05120" y="5386320"/>
                <a:ext cx="4538160" cy="50184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64800" y="5386320"/>
                <a:ext cx="4578480" cy="40176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64800" y="5386320"/>
                <a:ext cx="4578480" cy="31644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64800" y="5386320"/>
                <a:ext cx="4578480" cy="23292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64800" y="5386320"/>
                <a:ext cx="4578480" cy="166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64800" y="5386320"/>
                <a:ext cx="4578480" cy="982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64800" y="5386320"/>
                <a:ext cx="4578480" cy="4896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-11160" y="5386320"/>
              <a:ext cx="4575600" cy="1471680"/>
              <a:chOff x="-11160" y="5386320"/>
              <a:chExt cx="4575600" cy="1471680"/>
            </a:xfrm>
          </p:grpSpPr>
          <p:sp>
            <p:nvSpPr>
              <p:cNvPr id="317" name=""/>
              <p:cNvSpPr/>
              <p:nvPr/>
            </p:nvSpPr>
            <p:spPr>
              <a:xfrm flipH="1">
                <a:off x="-11160" y="5386320"/>
                <a:ext cx="4575600" cy="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-11160" y="5386320"/>
                <a:ext cx="4575600" cy="111996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-11160" y="5386320"/>
                <a:ext cx="4575600" cy="131940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226440" y="5386320"/>
                <a:ext cx="433800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30600" y="5386320"/>
                <a:ext cx="363384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592280" y="5386320"/>
                <a:ext cx="297180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258280" y="5386320"/>
                <a:ext cx="230580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2848680" y="5386320"/>
                <a:ext cx="171540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3432600" y="5386320"/>
                <a:ext cx="113184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4021200" y="5386320"/>
                <a:ext cx="542880" cy="1471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-11160" y="5386320"/>
                <a:ext cx="4575600" cy="96876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-11160" y="5386320"/>
                <a:ext cx="4575600" cy="8344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-11160" y="5386320"/>
                <a:ext cx="4575600" cy="71856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-11160" y="5386320"/>
                <a:ext cx="4575600" cy="6022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-11160" y="5386320"/>
                <a:ext cx="4537440" cy="50184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-11160" y="5386320"/>
                <a:ext cx="4575600" cy="40176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-11160" y="5386320"/>
                <a:ext cx="4575600" cy="31644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-11160" y="5386320"/>
                <a:ext cx="4575600" cy="23292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-11160" y="5386320"/>
                <a:ext cx="4575600" cy="1666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-11160" y="5386320"/>
                <a:ext cx="4575600" cy="9828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-11160" y="5386320"/>
                <a:ext cx="4575600" cy="48960"/>
              </a:xfrm>
              <a:prstGeom prst="line">
                <a:avLst/>
              </a:prstGeom>
              <a:ln w="3240">
                <a:solidFill>
                  <a:srgbClr val="4d4d4d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-11160" y="5401440"/>
              <a:ext cx="9154080" cy="1254240"/>
              <a:chOff x="-11160" y="5401440"/>
              <a:chExt cx="9154080" cy="12542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-11160" y="6109560"/>
                <a:ext cx="9154080" cy="546120"/>
                <a:chOff x="-11160" y="6109560"/>
                <a:chExt cx="9154080" cy="546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-11160" y="6655680"/>
                  <a:ext cx="9154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-11160" y="6454080"/>
                  <a:ext cx="9154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-11160" y="6271920"/>
                  <a:ext cx="9150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-11160" y="6109560"/>
                  <a:ext cx="9150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-11160" y="5401440"/>
                <a:ext cx="9154080" cy="568800"/>
                <a:chOff x="-11160" y="5401440"/>
                <a:chExt cx="9154080" cy="5688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-11160" y="5970240"/>
                  <a:ext cx="9154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-11160" y="5836320"/>
                  <a:ext cx="9154080" cy="3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-11160" y="5714640"/>
                  <a:ext cx="91540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-11160" y="5617800"/>
                  <a:ext cx="91123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-11160" y="5535000"/>
                  <a:ext cx="9154080" cy="432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-11160" y="5481000"/>
                  <a:ext cx="91540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-11160" y="5450760"/>
                  <a:ext cx="9154080" cy="75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9160" y="5418360"/>
                  <a:ext cx="911376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-11160" y="5401440"/>
                  <a:ext cx="9154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4" name=""/>
          <p:cNvSpPr/>
          <p:nvPr/>
        </p:nvSpPr>
        <p:spPr>
          <a:xfrm>
            <a:off x="3490920" y="1554120"/>
            <a:ext cx="2376360" cy="76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82"/>
              </a:gs>
              <a:gs pos="5000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腹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35640" y="4076640"/>
            <a:ext cx="1474920" cy="1473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饮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20000" y="4116240"/>
            <a:ext cx="1474560" cy="1473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气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9640" y="4149720"/>
            <a:ext cx="1474920" cy="147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肠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24000" y="4149720"/>
            <a:ext cx="1474920" cy="1473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肠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440" y="5738760"/>
            <a:ext cx="147456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54160" y="57387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86120" y="5913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13320" y="57387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78680" y="57387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efef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 rot="19566600">
            <a:off x="3026880" y="3068280"/>
            <a:ext cx="1544760" cy="69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HY헤드라인M"/>
              </a:rPr>
              <a:t>感染因素</a:t>
            </a:r>
            <a:endParaRPr b="1" lang="en-US" sz="24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365" name=""/>
          <p:cNvSpPr txBox="1"/>
          <p:nvPr/>
        </p:nvSpPr>
        <p:spPr>
          <a:xfrm rot="2191800">
            <a:off x="4611240" y="3081240"/>
            <a:ext cx="1473120" cy="62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HY헤드라인M"/>
              </a:rPr>
              <a:t>非感染因素</a:t>
            </a:r>
            <a:endParaRPr b="1" lang="en-US" sz="24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140360" y="3457440"/>
            <a:ext cx="757080" cy="763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64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HY헤드라인M"/>
              </a:rPr>
              <a:t>发育因素</a:t>
            </a:r>
            <a:endParaRPr b="1" lang="en-US" sz="2400" spc="1" strike="noStrike">
              <a:ln w="0">
                <a:noFill/>
              </a:ln>
              <a:solidFill>
                <a:srgbClr val="ffcc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367" name=""/>
          <p:cNvSpPr/>
          <p:nvPr/>
        </p:nvSpPr>
        <p:spPr>
          <a:xfrm>
            <a:off x="3817800" y="4365720"/>
            <a:ext cx="1474920" cy="1473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易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95640" y="26028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隶书"/>
                <a:ea typeface="隶书"/>
              </a:rPr>
              <a:t>腹泻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310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发病机制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3104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非感染性腹泻：饮食不当、气候影响等因素使正常消化过程发生障碍，食物不能充分消化吸收，所产生的代谢不全产物刺激肠壁，使肠蠕动增加而引起腹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感染性腹泻：病原体及肠毒素侵入肠黏膜后，引起黏膜充血、水肿、炎细胞浸润、溃疡和渗出等病变，引起胃肠功能紊乱而致腹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-1181880" y="-762840"/>
            <a:ext cx="10325520" cy="7027200"/>
            <a:chOff x="-1181880" y="-762840"/>
            <a:chExt cx="10325520" cy="7027200"/>
          </a:xfrm>
        </p:grpSpPr>
        <p:sp>
          <p:nvSpPr>
            <p:cNvPr id="372" name=""/>
            <p:cNvSpPr/>
            <p:nvPr/>
          </p:nvSpPr>
          <p:spPr>
            <a:xfrm flipH="1" rot="10444200">
              <a:off x="-923760" y="-316080"/>
              <a:ext cx="8923320" cy="5456520"/>
            </a:xfrm>
            <a:custGeom>
              <a:avLst/>
              <a:gdLst>
                <a:gd name="textAreaLeft" fmla="*/ 0 w 8923320"/>
                <a:gd name="textAreaRight" fmla="*/ 8923320 w 8923320"/>
                <a:gd name="textAreaTop" fmla="*/ 0 h 5456520"/>
                <a:gd name="textAreaBottom" fmla="*/ 5456880 h 545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295" y="11585"/>
                  </a:moveTo>
                  <a:arcTo wR="-5561" hR="-5561" stAng="10313155" swAng="-7494215"/>
                  <a:lnTo>
                    <a:pt x="3432" y="2904"/>
                  </a:lnTo>
                  <a:arcTo wR="10800" hR="10800" stAng="-7981060" swAng="7494215"/>
                  <a:lnTo>
                    <a:pt x="24165" y="8895"/>
                  </a:lnTo>
                  <a:lnTo>
                    <a:pt x="19649" y="14912"/>
                  </a:lnTo>
                  <a:lnTo>
                    <a:pt x="13632" y="10396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69b4ff"/>
                </a:gs>
              </a:gsLst>
              <a:lin ang="158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5915160" y="3841920"/>
              <a:ext cx="1969560" cy="1747800"/>
              <a:chOff x="5915160" y="3841920"/>
              <a:chExt cx="1969560" cy="1747800"/>
            </a:xfrm>
          </p:grpSpPr>
          <p:sp>
            <p:nvSpPr>
              <p:cNvPr id="374" name=""/>
              <p:cNvSpPr/>
              <p:nvPr/>
            </p:nvSpPr>
            <p:spPr>
              <a:xfrm>
                <a:off x="6536880" y="5353200"/>
                <a:ext cx="1347840" cy="236520"/>
              </a:xfrm>
              <a:prstGeom prst="ellipse">
                <a:avLst/>
              </a:prstGeom>
              <a:gradFill rotWithShape="0">
                <a:gsLst>
                  <a:gs pos="0">
                    <a:srgbClr val="505074"/>
                  </a:gs>
                  <a:gs pos="100000">
                    <a:srgbClr val="ef91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>
                <a:hlinkClick r:id="rId2" action="ppaction://hlinksldjump"/>
              </p:cNvPr>
              <p:cNvSpPr/>
              <p:nvPr/>
            </p:nvSpPr>
            <p:spPr>
              <a:xfrm>
                <a:off x="5915160" y="3841920"/>
                <a:ext cx="1735200" cy="17334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 u="sng">
                    <a:solidFill>
                      <a:srgbClr val="009688"/>
                    </a:solidFill>
                    <a:uFillTx/>
                    <a:latin typeface="黑体"/>
                    <a:ea typeface="黑体"/>
                    <a:hlinkClick r:id="rId4" action="ppaction://hlinksldjump"/>
                  </a:rPr>
                  <a:t>护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 u="sng">
                    <a:solidFill>
                      <a:srgbClr val="009688"/>
                    </a:solidFill>
                    <a:uFillTx/>
                    <a:latin typeface="黑体"/>
                    <a:ea typeface="黑体"/>
                    <a:hlinkClick r:id="rId5" action="ppaction://hlinksldjump"/>
                  </a:rPr>
                  <a:t>措施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140360" y="4502160"/>
              <a:ext cx="1855800" cy="1755720"/>
              <a:chOff x="4140360" y="4502160"/>
              <a:chExt cx="1855800" cy="1755720"/>
            </a:xfrm>
          </p:grpSpPr>
          <p:sp>
            <p:nvSpPr>
              <p:cNvPr id="377" name=""/>
              <p:cNvSpPr/>
              <p:nvPr/>
            </p:nvSpPr>
            <p:spPr>
              <a:xfrm>
                <a:off x="4746600" y="6021360"/>
                <a:ext cx="1249560" cy="236520"/>
              </a:xfrm>
              <a:prstGeom prst="ellipse">
                <a:avLst/>
              </a:prstGeom>
              <a:gradFill rotWithShape="0">
                <a:gsLst>
                  <a:gs pos="0">
                    <a:srgbClr val="505074"/>
                  </a:gs>
                  <a:gs pos="100000">
                    <a:srgbClr val="ef91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>
                <a:hlinkClick r:id="rId6" action="ppaction://hlinksldjump"/>
              </p:cNvPr>
              <p:cNvSpPr/>
              <p:nvPr/>
            </p:nvSpPr>
            <p:spPr>
              <a:xfrm>
                <a:off x="4140360" y="4502160"/>
                <a:ext cx="1687320" cy="173520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 u="sng">
                    <a:solidFill>
                      <a:srgbClr val="009688"/>
                    </a:solidFill>
                    <a:uFillTx/>
                    <a:latin typeface="黑体"/>
                    <a:ea typeface="黑体"/>
                    <a:hlinkClick r:id="rId8" action="ppaction://hlinksldjump"/>
                  </a:rPr>
                  <a:t>护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 u="sng">
                    <a:solidFill>
                      <a:srgbClr val="009688"/>
                    </a:solidFill>
                    <a:uFillTx/>
                    <a:latin typeface="黑体"/>
                    <a:ea typeface="黑体"/>
                    <a:hlinkClick r:id="rId9" action="ppaction://hlinksldjump"/>
                  </a:rPr>
                  <a:t>目标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395280" y="4508640"/>
              <a:ext cx="1900080" cy="1755720"/>
              <a:chOff x="395280" y="4508640"/>
              <a:chExt cx="1900080" cy="1755720"/>
            </a:xfrm>
          </p:grpSpPr>
          <p:sp>
            <p:nvSpPr>
              <p:cNvPr id="380" name=""/>
              <p:cNvSpPr/>
              <p:nvPr/>
            </p:nvSpPr>
            <p:spPr>
              <a:xfrm>
                <a:off x="1046160" y="6027840"/>
                <a:ext cx="1249200" cy="236520"/>
              </a:xfrm>
              <a:prstGeom prst="ellipse">
                <a:avLst/>
              </a:prstGeom>
              <a:gradFill rotWithShape="0">
                <a:gsLst>
                  <a:gs pos="0">
                    <a:srgbClr val="505074"/>
                  </a:gs>
                  <a:gs pos="100000">
                    <a:srgbClr val="ef91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>
                <a:hlinkClick r:id="" action="ppaction://hlinkshowjump?jump=nextslide"/>
              </p:cNvPr>
              <p:cNvSpPr/>
              <p:nvPr/>
            </p:nvSpPr>
            <p:spPr>
              <a:xfrm>
                <a:off x="395280" y="4508640"/>
                <a:ext cx="1679760" cy="17352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 u="sng">
                    <a:solidFill>
                      <a:srgbClr val="009688"/>
                    </a:solidFill>
                    <a:uFillTx/>
                    <a:latin typeface="HY견고딕"/>
                    <a:ea typeface="黑体"/>
                    <a:hlinkClick r:id="rId11" action="ppaction://hlinksldjump"/>
                  </a:rPr>
                  <a:t>护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 u="sng">
                    <a:solidFill>
                      <a:srgbClr val="009688"/>
                    </a:solidFill>
                    <a:uFillTx/>
                    <a:latin typeface="HY견고딕"/>
                    <a:ea typeface="黑体"/>
                    <a:hlinkClick r:id="rId12" action="ppaction://hlinksldjump"/>
                  </a:rPr>
                  <a:t>评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093080" y="2401920"/>
              <a:ext cx="2050560" cy="1747800"/>
              <a:chOff x="7093080" y="2401920"/>
              <a:chExt cx="2050560" cy="1747800"/>
            </a:xfrm>
          </p:grpSpPr>
          <p:sp>
            <p:nvSpPr>
              <p:cNvPr id="383" name=""/>
              <p:cNvSpPr/>
              <p:nvPr/>
            </p:nvSpPr>
            <p:spPr>
              <a:xfrm>
                <a:off x="7738920" y="3913200"/>
                <a:ext cx="1404720" cy="236520"/>
              </a:xfrm>
              <a:prstGeom prst="ellipse">
                <a:avLst/>
              </a:prstGeom>
              <a:gradFill rotWithShape="0">
                <a:gsLst>
                  <a:gs pos="0">
                    <a:srgbClr val="505074"/>
                  </a:gs>
                  <a:gs pos="100000">
                    <a:srgbClr val="ef91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>
                <a:hlinkClick r:id="rId13" action="ppaction://hlinksldjump"/>
              </p:cNvPr>
              <p:cNvSpPr/>
              <p:nvPr/>
            </p:nvSpPr>
            <p:spPr>
              <a:xfrm>
                <a:off x="7093080" y="2401920"/>
                <a:ext cx="1808280" cy="17337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 u="sng">
                    <a:solidFill>
                      <a:srgbClr val="009688"/>
                    </a:solidFill>
                    <a:uFillTx/>
                    <a:latin typeface="黑体"/>
                    <a:ea typeface="黑体"/>
                    <a:hlinkClick r:id="rId15" action="ppaction://hlinksldjump"/>
                  </a:rPr>
                  <a:t>护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 u="sng">
                    <a:solidFill>
                      <a:srgbClr val="009688"/>
                    </a:solidFill>
                    <a:uFillTx/>
                    <a:latin typeface="黑体"/>
                    <a:ea typeface="黑体"/>
                    <a:hlinkClick r:id="rId16" action="ppaction://hlinksldjump"/>
                  </a:rPr>
                  <a:t>评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 txBox="1"/>
            <p:nvPr/>
          </p:nvSpPr>
          <p:spPr>
            <a:xfrm rot="20010600">
              <a:off x="2325600" y="2073240"/>
              <a:ext cx="4630680" cy="1908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8bc5ff"/>
                  </a:solidFill>
                  <a:effectLst>
                    <a:outerShdw dist="17819" dir="2700000" blurRad="0" rotWithShape="0">
                      <a:srgbClr val="537598"/>
                    </a:outerShdw>
                  </a:effectLst>
                  <a:latin typeface="隶书"/>
                </a:rPr>
                <a:t>腹泻患儿的护理</a:t>
              </a:r>
              <a:endParaRPr b="0" lang="en-US" sz="2400" spc="1" strike="noStrike">
                <a:ln w="0">
                  <a:noFill/>
                </a:ln>
                <a:solidFill>
                  <a:srgbClr val="8bc5ff"/>
                </a:solidFill>
                <a:effectLst>
                  <a:outerShdw dist="17819" dir="2700000" blurRad="0" rotWithShape="0">
                    <a:srgbClr val="537598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195640" y="26028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隶书"/>
                <a:ea typeface="隶书"/>
              </a:rPr>
              <a:t>第三节  小儿腹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7"/>
          <a:srcRect l="22687" t="2626" r="22024" b="0"/>
          <a:stretch/>
        </p:blipFill>
        <p:spPr>
          <a:xfrm>
            <a:off x="2411280" y="1484280"/>
            <a:ext cx="1414440" cy="20671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2268360" y="4705200"/>
            <a:ext cx="1898640" cy="1747800"/>
            <a:chOff x="2268360" y="4705200"/>
            <a:chExt cx="1898640" cy="1747800"/>
          </a:xfrm>
        </p:grpSpPr>
        <p:sp>
          <p:nvSpPr>
            <p:cNvPr id="389" name=""/>
            <p:cNvSpPr/>
            <p:nvPr/>
          </p:nvSpPr>
          <p:spPr>
            <a:xfrm>
              <a:off x="2917800" y="6216480"/>
              <a:ext cx="1249200" cy="236520"/>
            </a:xfrm>
            <a:prstGeom prst="ellipse">
              <a:avLst/>
            </a:prstGeom>
            <a:gradFill rotWithShape="0">
              <a:gsLst>
                <a:gs pos="0">
                  <a:srgbClr val="505074"/>
                </a:gs>
                <a:gs pos="100000">
                  <a:srgbClr val="ef9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18" action="ppaction://hlinksldjump"/>
            </p:cNvPr>
            <p:cNvSpPr/>
            <p:nvPr/>
          </p:nvSpPr>
          <p:spPr>
            <a:xfrm>
              <a:off x="2268360" y="4705200"/>
              <a:ext cx="1649520" cy="173376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9688"/>
                  </a:solidFill>
                  <a:uFillTx/>
                  <a:latin typeface="黑体"/>
                  <a:ea typeface="黑体"/>
                  <a:hlinkClick r:id="rId20" action="ppaction://hlinksldjump"/>
                </a:rPr>
                <a:t>护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9688"/>
                  </a:solidFill>
                  <a:uFillTx/>
                  <a:latin typeface="黑体"/>
                  <a:ea typeface="黑体"/>
                  <a:hlinkClick r:id="rId21" action="ppaction://hlinksldjump"/>
                </a:rPr>
                <a:t>诊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500720" y="1700280"/>
            <a:ext cx="4176720" cy="2232000"/>
            <a:chOff x="4500720" y="1700280"/>
            <a:chExt cx="4176720" cy="2232000"/>
          </a:xfrm>
        </p:grpSpPr>
        <p:sp>
          <p:nvSpPr>
            <p:cNvPr id="393" name=""/>
            <p:cNvSpPr/>
            <p:nvPr/>
          </p:nvSpPr>
          <p:spPr>
            <a:xfrm>
              <a:off x="4500720" y="1752120"/>
              <a:ext cx="4176720" cy="2043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32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机体防御功能较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(1)</a:t>
              </a:r>
              <a:r>
                <a:rPr b="1" lang="zh-CN" sz="32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胃酸偏低、排空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(2)</a:t>
              </a:r>
              <a:r>
                <a:rPr b="1" lang="zh-CN" sz="32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血清中免疫球蛋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2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和胃肠道</a:t>
              </a:r>
              <a:r>
                <a:rPr b="1" lang="zh-CN" sz="32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SIgA</a:t>
              </a:r>
              <a:r>
                <a:rPr b="1" lang="en-US" sz="32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较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0720" y="1700280"/>
              <a:ext cx="3948840" cy="22320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724280" y="4724280"/>
            <a:ext cx="3303360" cy="1080720"/>
            <a:chOff x="4724280" y="4724280"/>
            <a:chExt cx="3303360" cy="1080720"/>
          </a:xfrm>
        </p:grpSpPr>
        <p:sp>
          <p:nvSpPr>
            <p:cNvPr id="396" name=""/>
            <p:cNvSpPr/>
            <p:nvPr/>
          </p:nvSpPr>
          <p:spPr>
            <a:xfrm>
              <a:off x="5148000" y="4955760"/>
              <a:ext cx="2541240" cy="64260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32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人工喂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4724280"/>
              <a:ext cx="3303360" cy="108072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24000" y="1484280"/>
            <a:ext cx="3600360" cy="2233800"/>
            <a:chOff x="324000" y="1484280"/>
            <a:chExt cx="3600360" cy="2233800"/>
          </a:xfrm>
        </p:grpSpPr>
        <p:sp>
          <p:nvSpPr>
            <p:cNvPr id="399" name=""/>
            <p:cNvSpPr/>
            <p:nvPr/>
          </p:nvSpPr>
          <p:spPr>
            <a:xfrm>
              <a:off x="324000" y="1484280"/>
              <a:ext cx="3536640" cy="223380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1756440"/>
              <a:ext cx="3600360" cy="157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消化系统发育未成熟，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胃酸和消化酶分泌少，活力低，对食物的耐受性差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50920" y="4149720"/>
            <a:ext cx="3926880" cy="1797120"/>
            <a:chOff x="250920" y="4149720"/>
            <a:chExt cx="3926880" cy="1797120"/>
          </a:xfrm>
        </p:grpSpPr>
        <p:sp>
          <p:nvSpPr>
            <p:cNvPr id="402" name=""/>
            <p:cNvSpPr/>
            <p:nvPr/>
          </p:nvSpPr>
          <p:spPr>
            <a:xfrm>
              <a:off x="250920" y="4149720"/>
              <a:ext cx="3857760" cy="1797120"/>
            </a:xfrm>
            <a:prstGeom prst="foldedCorner">
              <a:avLst>
                <a:gd name="adj" fmla="val 12500"/>
              </a:avLst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0920" y="4367520"/>
              <a:ext cx="3926880" cy="13122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2.</a:t>
              </a:r>
              <a:r>
                <a:rPr b="1" lang="zh-CN" sz="3200" spc="-1" strike="noStrike">
                  <a:solidFill>
                    <a:srgbClr val="009fff"/>
                  </a:solidFill>
                  <a:latin typeface="Arial"/>
                  <a:ea typeface="隶书"/>
                </a:rPr>
                <a:t>生长发育快，所需营养物质多，胃肠负担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771640" y="765000"/>
            <a:ext cx="303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（一）易感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68360" y="0"/>
            <a:ext cx="4537080" cy="86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【护理评估】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7774200" cy="8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fff"/>
                </a:solidFill>
                <a:latin typeface="Arial"/>
              </a:rPr>
              <a:t>（二）感染因素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肠道内感染：病毒、细菌和寄生虫等感染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肠道外感染：患中耳炎、上呼吸道感染、肺炎、肾盂肾炎、皮肤感染以及急性传染病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68360" y="404640"/>
            <a:ext cx="4537080" cy="86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【护理评估】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826920" y="105264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fff"/>
                </a:solidFill>
                <a:latin typeface="Arial"/>
              </a:rPr>
              <a:t>（三）非感染因素</a:t>
            </a:r>
            <a:r>
              <a:rPr b="1" lang="zh-CN" sz="3200" spc="-1" strike="noStrike">
                <a:solidFill>
                  <a:srgbClr val="009fff"/>
                </a:solidFill>
                <a:latin typeface="Arial"/>
              </a:rPr>
              <a:t>  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9640" y="3933720"/>
            <a:ext cx="2016360" cy="1544760"/>
          </a:xfrm>
          <a:prstGeom prst="cloudCallout">
            <a:avLst>
              <a:gd name="adj1" fmla="val 86379"/>
              <a:gd name="adj2" fmla="val 6115"/>
            </a:avLst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1628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喂养不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o.gif (2679 bytes)"/>
          <p:cNvPicPr/>
          <p:nvPr/>
        </p:nvPicPr>
        <p:blipFill>
          <a:blip r:embed="rId2"/>
          <a:stretch/>
        </p:blipFill>
        <p:spPr>
          <a:xfrm>
            <a:off x="3348000" y="177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o.gif (2679 bytes)"/>
          <p:cNvPicPr/>
          <p:nvPr/>
        </p:nvPicPr>
        <p:blipFill>
          <a:blip r:embed="rId3"/>
          <a:stretch/>
        </p:blipFill>
        <p:spPr>
          <a:xfrm>
            <a:off x="341964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3995640" y="220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敏性腹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o.gif (2679 bytes)"/>
          <p:cNvPicPr/>
          <p:nvPr/>
        </p:nvPicPr>
        <p:blipFill>
          <a:blip r:embed="rId4"/>
          <a:stretch/>
        </p:blipFill>
        <p:spPr>
          <a:xfrm>
            <a:off x="3419640" y="278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24360" y="2708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性或继发性双糖酶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1280" y="414972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气候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5640" y="1484280"/>
            <a:ext cx="1368360" cy="2305080"/>
          </a:xfrm>
          <a:custGeom>
            <a:avLst/>
            <a:gdLst/>
            <a:ahLst/>
            <a:rect l="l" t="t" r="r" b="b"/>
            <a:pathLst>
              <a:path w="743" h="1026">
                <a:moveTo>
                  <a:pt x="725" y="1024"/>
                </a:moveTo>
                <a:lnTo>
                  <a:pt x="213" y="1025"/>
                </a:lnTo>
                <a:lnTo>
                  <a:pt x="224" y="786"/>
                </a:lnTo>
                <a:lnTo>
                  <a:pt x="223" y="755"/>
                </a:lnTo>
                <a:lnTo>
                  <a:pt x="220" y="739"/>
                </a:lnTo>
                <a:lnTo>
                  <a:pt x="213" y="729"/>
                </a:lnTo>
                <a:lnTo>
                  <a:pt x="190" y="716"/>
                </a:lnTo>
                <a:lnTo>
                  <a:pt x="145" y="698"/>
                </a:lnTo>
                <a:lnTo>
                  <a:pt x="102" y="683"/>
                </a:lnTo>
                <a:lnTo>
                  <a:pt x="57" y="667"/>
                </a:lnTo>
                <a:lnTo>
                  <a:pt x="45" y="659"/>
                </a:lnTo>
                <a:lnTo>
                  <a:pt x="36" y="647"/>
                </a:lnTo>
                <a:lnTo>
                  <a:pt x="31" y="636"/>
                </a:lnTo>
                <a:lnTo>
                  <a:pt x="27" y="623"/>
                </a:lnTo>
                <a:lnTo>
                  <a:pt x="28" y="609"/>
                </a:lnTo>
                <a:lnTo>
                  <a:pt x="33" y="594"/>
                </a:lnTo>
                <a:lnTo>
                  <a:pt x="41" y="580"/>
                </a:lnTo>
                <a:lnTo>
                  <a:pt x="44" y="567"/>
                </a:lnTo>
                <a:lnTo>
                  <a:pt x="44" y="554"/>
                </a:lnTo>
                <a:lnTo>
                  <a:pt x="39" y="545"/>
                </a:lnTo>
                <a:lnTo>
                  <a:pt x="36" y="537"/>
                </a:lnTo>
                <a:lnTo>
                  <a:pt x="37" y="528"/>
                </a:lnTo>
                <a:lnTo>
                  <a:pt x="42" y="522"/>
                </a:lnTo>
                <a:lnTo>
                  <a:pt x="50" y="516"/>
                </a:lnTo>
                <a:lnTo>
                  <a:pt x="54" y="515"/>
                </a:lnTo>
                <a:lnTo>
                  <a:pt x="58" y="513"/>
                </a:lnTo>
                <a:lnTo>
                  <a:pt x="51" y="510"/>
                </a:lnTo>
                <a:lnTo>
                  <a:pt x="45" y="505"/>
                </a:lnTo>
                <a:lnTo>
                  <a:pt x="42" y="502"/>
                </a:lnTo>
                <a:lnTo>
                  <a:pt x="38" y="495"/>
                </a:lnTo>
                <a:lnTo>
                  <a:pt x="36" y="489"/>
                </a:lnTo>
                <a:lnTo>
                  <a:pt x="37" y="481"/>
                </a:lnTo>
                <a:lnTo>
                  <a:pt x="40" y="476"/>
                </a:lnTo>
                <a:lnTo>
                  <a:pt x="47" y="466"/>
                </a:lnTo>
                <a:lnTo>
                  <a:pt x="53" y="454"/>
                </a:lnTo>
                <a:lnTo>
                  <a:pt x="55" y="441"/>
                </a:lnTo>
                <a:lnTo>
                  <a:pt x="55" y="432"/>
                </a:lnTo>
                <a:lnTo>
                  <a:pt x="50" y="428"/>
                </a:lnTo>
                <a:lnTo>
                  <a:pt x="39" y="425"/>
                </a:lnTo>
                <a:lnTo>
                  <a:pt x="25" y="421"/>
                </a:lnTo>
                <a:lnTo>
                  <a:pt x="14" y="415"/>
                </a:lnTo>
                <a:lnTo>
                  <a:pt x="6" y="406"/>
                </a:lnTo>
                <a:lnTo>
                  <a:pt x="0" y="395"/>
                </a:lnTo>
                <a:lnTo>
                  <a:pt x="0" y="382"/>
                </a:lnTo>
                <a:lnTo>
                  <a:pt x="5" y="371"/>
                </a:lnTo>
                <a:lnTo>
                  <a:pt x="11" y="365"/>
                </a:lnTo>
                <a:lnTo>
                  <a:pt x="25" y="353"/>
                </a:lnTo>
                <a:lnTo>
                  <a:pt x="59" y="314"/>
                </a:lnTo>
                <a:lnTo>
                  <a:pt x="90" y="281"/>
                </a:lnTo>
                <a:lnTo>
                  <a:pt x="96" y="270"/>
                </a:lnTo>
                <a:lnTo>
                  <a:pt x="99" y="261"/>
                </a:lnTo>
                <a:lnTo>
                  <a:pt x="99" y="240"/>
                </a:lnTo>
                <a:lnTo>
                  <a:pt x="100" y="221"/>
                </a:lnTo>
                <a:lnTo>
                  <a:pt x="102" y="201"/>
                </a:lnTo>
                <a:lnTo>
                  <a:pt x="111" y="179"/>
                </a:lnTo>
                <a:lnTo>
                  <a:pt x="120" y="155"/>
                </a:lnTo>
                <a:lnTo>
                  <a:pt x="145" y="111"/>
                </a:lnTo>
                <a:lnTo>
                  <a:pt x="171" y="76"/>
                </a:lnTo>
                <a:lnTo>
                  <a:pt x="203" y="50"/>
                </a:lnTo>
                <a:lnTo>
                  <a:pt x="232" y="35"/>
                </a:lnTo>
                <a:lnTo>
                  <a:pt x="265" y="23"/>
                </a:lnTo>
                <a:lnTo>
                  <a:pt x="301" y="14"/>
                </a:lnTo>
                <a:lnTo>
                  <a:pt x="335" y="7"/>
                </a:lnTo>
                <a:lnTo>
                  <a:pt x="374" y="1"/>
                </a:lnTo>
                <a:lnTo>
                  <a:pt x="423" y="0"/>
                </a:lnTo>
                <a:lnTo>
                  <a:pt x="466" y="5"/>
                </a:lnTo>
                <a:lnTo>
                  <a:pt x="512" y="13"/>
                </a:lnTo>
                <a:lnTo>
                  <a:pt x="554" y="26"/>
                </a:lnTo>
                <a:lnTo>
                  <a:pt x="590" y="41"/>
                </a:lnTo>
                <a:lnTo>
                  <a:pt x="624" y="60"/>
                </a:lnTo>
                <a:lnTo>
                  <a:pt x="654" y="84"/>
                </a:lnTo>
                <a:lnTo>
                  <a:pt x="677" y="108"/>
                </a:lnTo>
                <a:lnTo>
                  <a:pt x="699" y="142"/>
                </a:lnTo>
                <a:lnTo>
                  <a:pt x="715" y="178"/>
                </a:lnTo>
                <a:lnTo>
                  <a:pt x="729" y="217"/>
                </a:lnTo>
                <a:lnTo>
                  <a:pt x="738" y="261"/>
                </a:lnTo>
                <a:lnTo>
                  <a:pt x="742" y="300"/>
                </a:lnTo>
                <a:lnTo>
                  <a:pt x="738" y="339"/>
                </a:lnTo>
                <a:lnTo>
                  <a:pt x="731" y="375"/>
                </a:lnTo>
                <a:lnTo>
                  <a:pt x="717" y="409"/>
                </a:lnTo>
                <a:lnTo>
                  <a:pt x="700" y="438"/>
                </a:lnTo>
                <a:lnTo>
                  <a:pt x="674" y="477"/>
                </a:lnTo>
                <a:lnTo>
                  <a:pt x="652" y="509"/>
                </a:lnTo>
                <a:lnTo>
                  <a:pt x="634" y="544"/>
                </a:lnTo>
                <a:lnTo>
                  <a:pt x="626" y="575"/>
                </a:lnTo>
                <a:lnTo>
                  <a:pt x="621" y="613"/>
                </a:lnTo>
                <a:lnTo>
                  <a:pt x="621" y="645"/>
                </a:lnTo>
                <a:lnTo>
                  <a:pt x="624" y="689"/>
                </a:lnTo>
                <a:lnTo>
                  <a:pt x="637" y="745"/>
                </a:lnTo>
                <a:lnTo>
                  <a:pt x="658" y="794"/>
                </a:lnTo>
                <a:lnTo>
                  <a:pt x="677" y="858"/>
                </a:lnTo>
                <a:lnTo>
                  <a:pt x="692" y="918"/>
                </a:lnTo>
                <a:lnTo>
                  <a:pt x="708" y="973"/>
                </a:lnTo>
                <a:lnTo>
                  <a:pt x="725" y="1024"/>
                </a:lnTo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26920" y="2133720"/>
            <a:ext cx="720720" cy="1582560"/>
          </a:xfrm>
          <a:custGeom>
            <a:avLst/>
            <a:gdLst/>
            <a:ahLst/>
            <a:rect l="l" t="t" r="r" b="b"/>
            <a:pathLst>
              <a:path w="409" h="769">
                <a:moveTo>
                  <a:pt x="21" y="114"/>
                </a:moveTo>
                <a:lnTo>
                  <a:pt x="48" y="84"/>
                </a:lnTo>
                <a:lnTo>
                  <a:pt x="87" y="45"/>
                </a:lnTo>
                <a:lnTo>
                  <a:pt x="129" y="0"/>
                </a:lnTo>
                <a:lnTo>
                  <a:pt x="198" y="18"/>
                </a:lnTo>
                <a:lnTo>
                  <a:pt x="273" y="27"/>
                </a:lnTo>
                <a:lnTo>
                  <a:pt x="288" y="93"/>
                </a:lnTo>
                <a:lnTo>
                  <a:pt x="333" y="117"/>
                </a:lnTo>
                <a:lnTo>
                  <a:pt x="351" y="174"/>
                </a:lnTo>
                <a:lnTo>
                  <a:pt x="408" y="228"/>
                </a:lnTo>
                <a:lnTo>
                  <a:pt x="378" y="768"/>
                </a:lnTo>
                <a:lnTo>
                  <a:pt x="342" y="768"/>
                </a:lnTo>
                <a:lnTo>
                  <a:pt x="360" y="678"/>
                </a:lnTo>
                <a:lnTo>
                  <a:pt x="360" y="531"/>
                </a:lnTo>
                <a:lnTo>
                  <a:pt x="366" y="387"/>
                </a:lnTo>
                <a:lnTo>
                  <a:pt x="366" y="342"/>
                </a:lnTo>
                <a:lnTo>
                  <a:pt x="336" y="342"/>
                </a:lnTo>
                <a:lnTo>
                  <a:pt x="333" y="369"/>
                </a:lnTo>
                <a:lnTo>
                  <a:pt x="324" y="345"/>
                </a:lnTo>
                <a:lnTo>
                  <a:pt x="294" y="288"/>
                </a:lnTo>
                <a:lnTo>
                  <a:pt x="276" y="207"/>
                </a:lnTo>
                <a:lnTo>
                  <a:pt x="237" y="177"/>
                </a:lnTo>
                <a:lnTo>
                  <a:pt x="171" y="168"/>
                </a:lnTo>
                <a:lnTo>
                  <a:pt x="120" y="189"/>
                </a:lnTo>
                <a:lnTo>
                  <a:pt x="96" y="234"/>
                </a:lnTo>
                <a:lnTo>
                  <a:pt x="81" y="264"/>
                </a:lnTo>
                <a:lnTo>
                  <a:pt x="96" y="288"/>
                </a:lnTo>
                <a:lnTo>
                  <a:pt x="87" y="294"/>
                </a:lnTo>
                <a:lnTo>
                  <a:pt x="72" y="279"/>
                </a:lnTo>
                <a:lnTo>
                  <a:pt x="51" y="261"/>
                </a:lnTo>
                <a:lnTo>
                  <a:pt x="15" y="276"/>
                </a:lnTo>
                <a:lnTo>
                  <a:pt x="0" y="249"/>
                </a:lnTo>
                <a:lnTo>
                  <a:pt x="45" y="243"/>
                </a:lnTo>
                <a:lnTo>
                  <a:pt x="60" y="234"/>
                </a:lnTo>
                <a:lnTo>
                  <a:pt x="75" y="237"/>
                </a:lnTo>
                <a:lnTo>
                  <a:pt x="105" y="180"/>
                </a:lnTo>
                <a:lnTo>
                  <a:pt x="153" y="144"/>
                </a:lnTo>
                <a:lnTo>
                  <a:pt x="216" y="147"/>
                </a:lnTo>
                <a:lnTo>
                  <a:pt x="258" y="162"/>
                </a:lnTo>
                <a:lnTo>
                  <a:pt x="297" y="210"/>
                </a:lnTo>
                <a:lnTo>
                  <a:pt x="312" y="270"/>
                </a:lnTo>
                <a:lnTo>
                  <a:pt x="324" y="288"/>
                </a:lnTo>
                <a:lnTo>
                  <a:pt x="354" y="291"/>
                </a:lnTo>
                <a:lnTo>
                  <a:pt x="360" y="267"/>
                </a:lnTo>
                <a:lnTo>
                  <a:pt x="354" y="225"/>
                </a:lnTo>
                <a:lnTo>
                  <a:pt x="330" y="186"/>
                </a:lnTo>
                <a:lnTo>
                  <a:pt x="282" y="129"/>
                </a:lnTo>
                <a:lnTo>
                  <a:pt x="225" y="117"/>
                </a:lnTo>
                <a:lnTo>
                  <a:pt x="126" y="117"/>
                </a:lnTo>
                <a:lnTo>
                  <a:pt x="75" y="123"/>
                </a:lnTo>
                <a:lnTo>
                  <a:pt x="21" y="1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32000" y="155736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饮食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43480" y="4043520"/>
            <a:ext cx="182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95640" y="189000"/>
            <a:ext cx="475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27280" y="260280"/>
            <a:ext cx="453708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【护理评估】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755640" y="1484280"/>
            <a:ext cx="25923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身体状况 </a:t>
            </a:r>
            <a:endParaRPr b="0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828720" y="2766960"/>
            <a:ext cx="15825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宋体"/>
                <a:ea typeface="隶书"/>
              </a:rPr>
              <a:t>1.</a:t>
            </a:r>
            <a:r>
              <a:rPr b="0" lang="zh-CN" sz="3200" spc="-1" strike="noStrike">
                <a:solidFill>
                  <a:srgbClr val="a50021"/>
                </a:solidFill>
                <a:latin typeface="宋体"/>
                <a:ea typeface="隶书"/>
              </a:rPr>
              <a:t>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49039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重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11280" y="2852640"/>
            <a:ext cx="255600" cy="817560"/>
          </a:xfrm>
          <a:custGeom>
            <a:avLst/>
            <a:gdLst>
              <a:gd name="textAreaLeft" fmla="*/ 163440 w 255600"/>
              <a:gd name="textAreaRight" fmla="*/ 255600 w 255600"/>
              <a:gd name="textAreaTop" fmla="*/ 21240 h 817560"/>
              <a:gd name="textAreaBottom" fmla="*/ 796320 h 8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39880" y="263700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胃肠道症状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39880" y="3281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全身中毒症状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9880" y="5297400"/>
            <a:ext cx="52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水、电解质及酸碱平衡紊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11280" y="4579920"/>
            <a:ext cx="184320" cy="1147680"/>
          </a:xfrm>
          <a:custGeom>
            <a:avLst/>
            <a:gdLst>
              <a:gd name="textAreaLeft" fmla="*/ 117720 w 184320"/>
              <a:gd name="textAreaRight" fmla="*/ 184680 w 184320"/>
              <a:gd name="textAreaTop" fmla="*/ 29880 h 1147680"/>
              <a:gd name="textAreaBottom" fmla="*/ 1117800 h 114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39880" y="4148280"/>
            <a:ext cx="27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胃肠道症状重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688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全身中毒症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43280" y="476280"/>
            <a:ext cx="35290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【护理评估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227640" y="3429000"/>
            <a:ext cx="2305080" cy="15462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805440" y="4869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臀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rcRect l="19391" t="31663" r="0" b="14587"/>
          <a:stretch/>
        </p:blipFill>
        <p:spPr>
          <a:xfrm>
            <a:off x="6153120" y="1522440"/>
            <a:ext cx="2306520" cy="12589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013440" y="26226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蛋花汤样大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267200">
            <a:off x="4712760" y="2319120"/>
            <a:ext cx="1079640" cy="4428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688"/>
              </a:gs>
              <a:gs pos="100000">
                <a:srgbClr val="3366ff"/>
              </a:gs>
            </a:gsLst>
            <a:lin ang="5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267200">
            <a:off x="5148000" y="3859920"/>
            <a:ext cx="1079280" cy="4431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688"/>
              </a:gs>
              <a:gs pos="100000">
                <a:srgbClr val="3366ff"/>
              </a:gs>
            </a:gsLst>
            <a:lin ang="5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00000" y="2205000"/>
            <a:ext cx="25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一、急性腹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2709360" y="1940040"/>
            <a:ext cx="1295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脱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98880" y="1557360"/>
            <a:ext cx="48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程度：轻度、中度、重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81120" y="2320920"/>
            <a:ext cx="190800" cy="2057400"/>
          </a:xfrm>
          <a:custGeom>
            <a:avLst/>
            <a:gdLst>
              <a:gd name="textAreaLeft" fmla="*/ 122040 w 190800"/>
              <a:gd name="textAreaRight" fmla="*/ 191160 w 1908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70280" y="178596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67280" y="3828960"/>
            <a:ext cx="190440" cy="1295640"/>
          </a:xfrm>
          <a:custGeom>
            <a:avLst/>
            <a:gdLst>
              <a:gd name="textAreaLeft" fmla="*/ 121680 w 190440"/>
              <a:gd name="textAreaRight" fmla="*/ 190800 w 1904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33760" y="2959200"/>
            <a:ext cx="6330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代谢性酸中毒：呼吸、唇色改变等</a:t>
            </a:r>
            <a:r>
              <a:rPr b="0" lang="zh-CN" sz="3200" spc="-1" strike="noStrike">
                <a:solidFill>
                  <a:srgbClr val="a50021"/>
                </a:solidFill>
                <a:latin typeface="宋体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95880" y="34671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钾血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22760" y="4081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钙血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22760" y="4691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镁血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04480" y="3965400"/>
            <a:ext cx="9122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电解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紊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98880" y="2243160"/>
            <a:ext cx="48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性质：等渗、低渗、高渗</a:t>
            </a:r>
            <a:r>
              <a:rPr b="0" lang="zh-CN" sz="3200" spc="-1" strike="noStrike">
                <a:solidFill>
                  <a:srgbClr val="a50021"/>
                </a:solidFill>
                <a:latin typeface="宋体"/>
                <a:ea typeface="隶书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8360" y="2489040"/>
            <a:ext cx="1727280" cy="581400"/>
          </a:xfrm>
          <a:prstGeom prst="rect">
            <a:avLst/>
          </a:prstGeom>
          <a:noFill/>
          <a:ln w="50760">
            <a:solidFill>
              <a:srgbClr val="cc99ff"/>
            </a:solidFill>
            <a:miter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水、电解质及酸碱平衡紊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43280" y="476280"/>
            <a:ext cx="35290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【护理评估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588000" y="4000680"/>
            <a:ext cx="2179800" cy="17794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13027200">
            <a:off x="6156360" y="3572640"/>
            <a:ext cx="706320" cy="4431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688"/>
              </a:gs>
              <a:gs pos="100000">
                <a:srgbClr val="3366ff"/>
              </a:gs>
            </a:gsLst>
            <a:lin ang="193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89800" y="5780160"/>
            <a:ext cx="21589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低致严重腹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26920" y="1484280"/>
            <a:ext cx="259272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身体状况 </a:t>
            </a:r>
            <a:endParaRPr b="0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0629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（二）</a:t>
            </a:r>
            <a:r>
              <a:rPr b="1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迁延性腹泻和慢性腹泻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迁延性腹泻和慢性腹泻多与营养不良、急性腹泻治疗未彻底或治疗不当有关。表现为腹泻迁延不愈，病情反复，大便次数和性质不稳定，严重时可出现水、电解质紊乱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671560" y="375840"/>
            <a:ext cx="3368520" cy="560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（三）生理性腹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多见于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6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个月以内虚胖的婴儿，生后不久即出现腹泻，大便呈黄绿色稀便，每日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～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5</a:t>
            </a:r>
            <a:r>
              <a:rPr b="0" lang="zh-CN" sz="3200" spc="-1" strike="noStrike">
                <a:solidFill>
                  <a:srgbClr val="990000"/>
                </a:solidFill>
                <a:latin typeface="隶书"/>
                <a:ea typeface="隶书"/>
              </a:rPr>
              <a:t>次或更多，无其他症状，食欲好，生长发育不受影响，常随添加辅食后自然痊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102480" y="374760"/>
            <a:ext cx="3659760" cy="554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9fff"/>
                </a:solidFill>
                <a:latin typeface="Arial"/>
              </a:rPr>
              <a:t>一、解剖生理特点</a:t>
            </a:r>
            <a:endParaRPr b="0" i="1" lang="en-US" sz="5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631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口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足月新生儿具有较好的吸吮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及婴儿口腔粘膜柔嫩，血管丰富，且新生儿唾液腺发育欠完善，唾液分泌少，口腔粘膜干燥，故易受损而发生感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时唾液分泌逐渐增多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更显著，常出现生理性流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300720" y="4365720"/>
          <a:ext cx="2333520" cy="18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4365720"/>
                    <a:ext cx="23335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68360" y="133668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（四）不同病原所致腹泻的大便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395280" y="2101680"/>
          <a:ext cx="8353440" cy="4064040"/>
        </p:xfrm>
        <a:graphic>
          <a:graphicData uri="http://schemas.openxmlformats.org/drawingml/2006/table">
            <a:tbl>
              <a:tblPr/>
              <a:tblGrid>
                <a:gridCol w="3816360"/>
                <a:gridCol w="45370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大便特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轮状病毒肠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黄色水样或蛋花汤样，无腥臭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致病性和产毒性大肠埃希菌肠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蛋花汤样或水样、含有粘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侵袭性大肠埃希菌肠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大便呈粘液脓血便，有腥臭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出血性大肠埃希菌肠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由黄色水样后转为血水便，有特殊臭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金黄色葡萄球菌肠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暗绿色似海水样，含粘液和伪膜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空肠弯曲菌肠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脓血便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00000"/>
                          </a:solidFill>
                          <a:latin typeface="黑体"/>
                          <a:ea typeface="黑体"/>
                        </a:rPr>
                        <a:t>真菌性肠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稀黄，泡沫较多，可见豆腐渣样细块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5" name=""/>
          <p:cNvSpPr/>
          <p:nvPr/>
        </p:nvSpPr>
        <p:spPr>
          <a:xfrm>
            <a:off x="2843280" y="476280"/>
            <a:ext cx="35290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护理评估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692360" y="2424240"/>
            <a:ext cx="5473440" cy="29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66"/>
                </a:solidFill>
                <a:latin typeface="隶书"/>
                <a:ea typeface="隶书"/>
              </a:rPr>
              <a:t>大便检查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判断病因、明确病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66"/>
                </a:solidFill>
                <a:latin typeface="隶书"/>
                <a:ea typeface="隶书"/>
              </a:rPr>
              <a:t>血液生化检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了解脱水性质，有无电解质紊乱、酸碱平衡失衡的程度和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42920" y="1628640"/>
            <a:ext cx="23767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辅助检查 </a:t>
            </a:r>
            <a:endParaRPr b="0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8" name=""/>
          <p:cNvSpPr/>
          <p:nvPr/>
        </p:nvSpPr>
        <p:spPr>
          <a:xfrm>
            <a:off x="2843280" y="476280"/>
            <a:ext cx="35290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护理评估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6948360" y="1700280"/>
            <a:ext cx="1565280" cy="1595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1042920" y="1844640"/>
            <a:ext cx="367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心理</a:t>
            </a:r>
            <a:r>
              <a:rPr b="0" i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-</a:t>
            </a:r>
            <a:r>
              <a:rPr b="0" i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社会状况  </a:t>
            </a:r>
            <a:endParaRPr b="0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692000" y="2664000"/>
            <a:ext cx="6553080" cy="227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了解家长对本病的认知程度，是否缺乏对小儿喂养、饮食卫生、疾病护理等方面的知识，是否因担心危重患儿的预后而焦虑；住院患儿有无焦虑和恐惧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43280" y="476280"/>
            <a:ext cx="35290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护理评估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345440" cy="22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767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调整饮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7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控制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7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预防和纠正水、电解质紊乱及酸碱失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7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预防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7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826920" y="1484280"/>
            <a:ext cx="2448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治疗要点  </a:t>
            </a:r>
            <a:endParaRPr b="0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5" name=""/>
          <p:cNvSpPr/>
          <p:nvPr/>
        </p:nvSpPr>
        <p:spPr>
          <a:xfrm>
            <a:off x="2843280" y="476280"/>
            <a:ext cx="35290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护理评估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249960" y="4424400"/>
            <a:ext cx="1417680" cy="15969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rcRect l="4936" t="2775" r="0" b="0"/>
          <a:stretch/>
        </p:blipFill>
        <p:spPr>
          <a:xfrm>
            <a:off x="6156360" y="1973160"/>
            <a:ext cx="1366920" cy="12956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8101080" y="6093000"/>
            <a:ext cx="523800" cy="4284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4211640" y="4437000"/>
            <a:ext cx="1336680" cy="144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042920" y="2205000"/>
            <a:ext cx="7416720" cy="108108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6920" y="4941720"/>
            <a:ext cx="7648920" cy="115272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5640" y="4869000"/>
            <a:ext cx="2324160" cy="122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皮肤完整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受损的危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4360" y="2205000"/>
            <a:ext cx="2313000" cy="115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体液不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16000" y="1052640"/>
            <a:ext cx="7272360" cy="100800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4360" y="1052640"/>
            <a:ext cx="2319120" cy="1079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腹 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3640" y="1268280"/>
            <a:ext cx="5083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与喂养不当、感染致胃肠紊乱有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48000" y="5013360"/>
            <a:ext cx="454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与大便次数多刺激臀部皮肤有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59280" y="2421000"/>
            <a:ext cx="547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与呼吸道分泌物粘、多、不易排出有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47640" y="189000"/>
            <a:ext cx="630108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护理诊断及合作性问题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093000"/>
            <a:ext cx="523800" cy="4284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042920" y="3500280"/>
            <a:ext cx="7416720" cy="115272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3429000"/>
            <a:ext cx="2324160" cy="122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体温过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48000" y="3716280"/>
            <a:ext cx="454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与感染有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743200" y="990720"/>
            <a:ext cx="4191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76360" y="1773360"/>
            <a:ext cx="6624720" cy="352872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患儿腹泻次数逐渐减少，大便性状恢复正常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脱水、电解质紊乱得以纠正，体重恢复正常，尿量正常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皮肤保持完整，患儿舒适，无臀红发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43280" y="476280"/>
            <a:ext cx="35290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护理目标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093000"/>
            <a:ext cx="523800" cy="42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416520" y="1413000"/>
            <a:ext cx="4010760" cy="2366280"/>
            <a:chOff x="416520" y="1413000"/>
            <a:chExt cx="4010760" cy="2366280"/>
          </a:xfrm>
        </p:grpSpPr>
        <p:sp>
          <p:nvSpPr>
            <p:cNvPr id="499" name=""/>
            <p:cNvSpPr/>
            <p:nvPr/>
          </p:nvSpPr>
          <p:spPr>
            <a:xfrm>
              <a:off x="884880" y="1505160"/>
              <a:ext cx="3479040" cy="22741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99640" y="1605960"/>
              <a:ext cx="3527640" cy="18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减轻腹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调整饮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防止交互感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按医嘱用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8400" y="1413000"/>
              <a:ext cx="401040" cy="227484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6520" y="2106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Arial Black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736880" y="1413000"/>
            <a:ext cx="4190400" cy="2376000"/>
            <a:chOff x="4736880" y="1413000"/>
            <a:chExt cx="4190400" cy="2376000"/>
          </a:xfrm>
        </p:grpSpPr>
        <p:sp>
          <p:nvSpPr>
            <p:cNvPr id="504" name=""/>
            <p:cNvSpPr/>
            <p:nvPr/>
          </p:nvSpPr>
          <p:spPr>
            <a:xfrm>
              <a:off x="5227920" y="1505880"/>
              <a:ext cx="3633840" cy="22831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43040" y="1606680"/>
              <a:ext cx="368424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按医嘱进行补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口服补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静脉补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50920" y="1413000"/>
              <a:ext cx="418680" cy="2283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36880" y="21088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Arial Black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16520" y="4078440"/>
            <a:ext cx="4010760" cy="2086560"/>
            <a:chOff x="416520" y="4078440"/>
            <a:chExt cx="4010760" cy="2086560"/>
          </a:xfrm>
        </p:grpSpPr>
        <p:sp>
          <p:nvSpPr>
            <p:cNvPr id="509" name=""/>
            <p:cNvSpPr/>
            <p:nvPr/>
          </p:nvSpPr>
          <p:spPr>
            <a:xfrm>
              <a:off x="884880" y="4159800"/>
              <a:ext cx="3479040" cy="20052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99640" y="4248720"/>
              <a:ext cx="352764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加强臀部护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及时清洗及换尿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防止臀红发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8400" y="4078440"/>
              <a:ext cx="401040" cy="200592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6520" y="46897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Arial Black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16360" y="4076640"/>
            <a:ext cx="4211280" cy="2130120"/>
            <a:chOff x="4716360" y="4076640"/>
            <a:chExt cx="4211280" cy="2130120"/>
          </a:xfrm>
        </p:grpSpPr>
        <p:sp>
          <p:nvSpPr>
            <p:cNvPr id="514" name=""/>
            <p:cNvSpPr/>
            <p:nvPr/>
          </p:nvSpPr>
          <p:spPr>
            <a:xfrm>
              <a:off x="5206320" y="4159800"/>
              <a:ext cx="3721320" cy="20469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21440" y="4190040"/>
              <a:ext cx="3706200" cy="96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密切观察病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监测生命体征；观察水、电解质、酸碱平衡紊乱的程度；观察大便情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49840" y="4076640"/>
              <a:ext cx="428400" cy="204732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16360" y="4700520"/>
              <a:ext cx="53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Arial Black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2843280" y="476280"/>
            <a:ext cx="35290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96200" y="6313320"/>
            <a:ext cx="523800" cy="42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476000" y="1915920"/>
            <a:ext cx="6767640" cy="38862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a50021"/>
                </a:solidFill>
                <a:latin typeface="宋体"/>
                <a:ea typeface="隶书"/>
              </a:rPr>
              <a:t>经过治疗和护理患儿是否达到：腹泻次数逐渐减少，大便性状恢复正常；脱水、电解质紊乱得以纠正，体重、尿量恢复正常；皮肤保持完整，无臀红发生；家长能说出防治及护理感染性腹泻患儿的方法，积极配合治疗和护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43280" y="476280"/>
            <a:ext cx="35290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护理评价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228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f9100"/>
                </a:solidFill>
                <a:latin typeface="华文新魏"/>
                <a:ea typeface="华文新魏"/>
              </a:rPr>
              <a:t>健康指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89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合理喂养，提倡母乳喂养，及时添加辅食，每次限一种，逐步增加，避免夏季断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养成良好的卫生习惯，注意乳品的保存和奶具、食具的定期消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气候变化时，避免过热或受凉，居室要通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性腹泻要做好消毒隔离工作，防止交叉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口服轮状病毒疫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685800" y="7048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f9100"/>
                </a:solidFill>
                <a:latin typeface="Times New Roman"/>
                <a:ea typeface="华文新魏"/>
              </a:rPr>
              <a:t>             </a:t>
            </a:r>
            <a:r>
              <a:rPr b="0" lang="zh-CN" sz="6000" spc="-1" strike="noStrike">
                <a:solidFill>
                  <a:srgbClr val="ef9100"/>
                </a:solidFill>
                <a:latin typeface="Times New Roman"/>
                <a:ea typeface="华文新魏"/>
              </a:rPr>
              <a:t>第四节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f9100"/>
                </a:solidFill>
                <a:latin typeface="Times New Roman"/>
                <a:ea typeface="华文新魏"/>
              </a:rPr>
              <a:t>    </a:t>
            </a:r>
            <a:r>
              <a:rPr b="0" lang="zh-CN" sz="6000" spc="-1" strike="noStrike">
                <a:solidFill>
                  <a:srgbClr val="ef9100"/>
                </a:solidFill>
                <a:latin typeface="Times New Roman"/>
                <a:ea typeface="华文新魏"/>
              </a:rPr>
              <a:t>小儿体液平衡特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f9100"/>
                </a:solidFill>
                <a:latin typeface="Times New Roman"/>
                <a:ea typeface="华文新魏"/>
              </a:rPr>
              <a:t>           </a:t>
            </a:r>
            <a:r>
              <a:rPr b="0" lang="zh-CN" sz="6000" spc="-1" strike="noStrike">
                <a:solidFill>
                  <a:srgbClr val="ef9100"/>
                </a:solidFill>
                <a:latin typeface="Times New Roman"/>
                <a:ea typeface="华文新魏"/>
              </a:rPr>
              <a:t>和液体疗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 食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贲门括约肌发育不成熟，控制力差，易致胃食管反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同年龄小儿食管长度不同，可作为临床插胃管时参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685440" y="1052640"/>
            <a:ext cx="8062920" cy="47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【护理案例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患儿，男，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岁，进食不洁食物后出现腹泻、呕吐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天入院。大便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15~20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次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天，蛋花样便，有腥臭味。伴低热及流涕，偶有呕吐，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天来尿少，近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小时无尿。检查：精神萎靡、口干、眼窝及前囟明显凹陷，皮肤弹性差，四肢凉，血压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65/40mmHg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，血清钠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126mmol/L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，血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HCO3- 8mmol/L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。请思考：（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）判断患儿脱水的程度及性质。（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）判断患儿酸碱平衡紊乱的类型及程度。（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）根据患儿目前身心状况，列出其主要护理诊断。（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）在该患儿的补液过程中应注意哪些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90440" y="115920"/>
            <a:ext cx="650592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ONTENTS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042920" y="907920"/>
            <a:ext cx="6985080" cy="1728720"/>
            <a:chOff x="1042920" y="907920"/>
            <a:chExt cx="6985080" cy="1728720"/>
          </a:xfrm>
        </p:grpSpPr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1332000" y="1268280"/>
              <a:ext cx="78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1042920" y="907920"/>
              <a:ext cx="6985080" cy="1728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68360" y="1268280"/>
              <a:ext cx="5543640" cy="100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340000" y="1555560"/>
              <a:ext cx="48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</a:rPr>
                <a:t>小儿体液平衡特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05080" y="148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708280"/>
            <a:ext cx="6985080" cy="1512720"/>
            <a:chOff x="1116000" y="2708280"/>
            <a:chExt cx="6985080" cy="1512720"/>
          </a:xfrm>
        </p:grpSpPr>
        <p:pic>
          <p:nvPicPr>
            <p:cNvPr id="535" name="" descr=""/>
            <p:cNvPicPr/>
            <p:nvPr/>
          </p:nvPicPr>
          <p:blipFill>
            <a:blip r:embed="rId4"/>
            <a:stretch/>
          </p:blipFill>
          <p:spPr>
            <a:xfrm>
              <a:off x="1405080" y="3023280"/>
              <a:ext cx="785520" cy="88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1116000" y="2708280"/>
              <a:ext cx="6985080" cy="1512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41440" y="3023280"/>
              <a:ext cx="5543640" cy="88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d4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13080" y="3276360"/>
              <a:ext cx="48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Arial"/>
                </a:rPr>
                <a:t>水、电解质、酸碱平衡紊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49080" y="3215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042920" y="4363920"/>
            <a:ext cx="6985080" cy="1728720"/>
            <a:chOff x="1042920" y="4363920"/>
            <a:chExt cx="6985080" cy="1728720"/>
          </a:xfrm>
        </p:grpSpPr>
        <p:pic>
          <p:nvPicPr>
            <p:cNvPr id="541" name="" descr=""/>
            <p:cNvPicPr/>
            <p:nvPr/>
          </p:nvPicPr>
          <p:blipFill>
            <a:blip r:embed="rId6"/>
            <a:stretch/>
          </p:blipFill>
          <p:spPr>
            <a:xfrm>
              <a:off x="1332000" y="4724280"/>
              <a:ext cx="7855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1042920" y="4363920"/>
              <a:ext cx="6985080" cy="1728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7"/>
              <a:srcRect/>
              <a:stretch/>
            </a:blip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68360" y="4724280"/>
              <a:ext cx="5543640" cy="100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40000" y="5011560"/>
              <a:ext cx="48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Arial"/>
                </a:rPr>
                <a:t>液体疗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76000" y="4940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440" y="2184480"/>
            <a:ext cx="5791320" cy="330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  </a:t>
            </a:r>
            <a:r>
              <a:rPr b="1" i="1" lang="zh-CN" sz="3600" spc="-1" strike="noStrike">
                <a:solidFill>
                  <a:srgbClr val="00ff00"/>
                </a:solidFill>
                <a:latin typeface="宋体"/>
              </a:rPr>
              <a:t>（一）体液的总量和分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zh-CN" sz="3600" spc="-1" strike="noStrike">
                <a:solidFill>
                  <a:srgbClr val="00ff00"/>
                </a:solidFill>
                <a:latin typeface="宋体"/>
              </a:rPr>
              <a:t>（二）体液电解质的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zh-CN" sz="3600" spc="-1" strike="noStrike">
                <a:solidFill>
                  <a:srgbClr val="00ff00"/>
                </a:solidFill>
                <a:latin typeface="宋体"/>
              </a:rPr>
              <a:t>（三）水代谢特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一、小儿体液平衡的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6705720" y="3886200"/>
            <a:ext cx="1720800" cy="23590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085400"/>
            <a:ext cx="5943600" cy="22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ff00"/>
                </a:solidFill>
                <a:latin typeface="宋体"/>
              </a:rPr>
              <a:t>（一）体液的总量和分布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90640" y="2900520"/>
            <a:ext cx="2044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细胞内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外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血　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质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62120" y="167652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　　　 不同年龄的体液分布（占体重的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　　　 新生儿　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~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岁　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~14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岁　  成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总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8         70              65        55~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　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5         40              40        40~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3         30              25        15~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            5                5       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37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25              20        10~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048120" y="1523880"/>
            <a:ext cx="5867280" cy="5028840"/>
            <a:chOff x="3048120" y="1523880"/>
            <a:chExt cx="5867280" cy="5028840"/>
          </a:xfrm>
        </p:grpSpPr>
        <p:grpSp>
          <p:nvGrpSpPr>
            <p:cNvPr id="554" name=""/>
            <p:cNvGrpSpPr/>
            <p:nvPr/>
          </p:nvGrpSpPr>
          <p:grpSpPr>
            <a:xfrm>
              <a:off x="4564080" y="1523880"/>
              <a:ext cx="1384200" cy="5028480"/>
              <a:chOff x="4564080" y="1523880"/>
              <a:chExt cx="1384200" cy="5028480"/>
            </a:xfrm>
          </p:grpSpPr>
          <p:graphicFrame>
            <p:nvGraphicFramePr>
              <p:cNvPr id="555" name=""/>
              <p:cNvGraphicFramePr/>
              <p:nvPr/>
            </p:nvGraphicFramePr>
            <p:xfrm>
              <a:off x="4564080" y="4955400"/>
              <a:ext cx="1384200" cy="1596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56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564080" y="4955400"/>
                        <a:ext cx="1384200" cy="159696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7" name=""/>
              <p:cNvGraphicFramePr/>
              <p:nvPr/>
            </p:nvGraphicFramePr>
            <p:xfrm>
              <a:off x="4564080" y="1523880"/>
              <a:ext cx="1384200" cy="3431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558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564080" y="1523880"/>
                        <a:ext cx="1384200" cy="343152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59" name=""/>
            <p:cNvGraphicFramePr/>
            <p:nvPr/>
          </p:nvGraphicFramePr>
          <p:xfrm>
            <a:off x="7201440" y="1523880"/>
            <a:ext cx="1713960" cy="2982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01440" y="1523880"/>
                      <a:ext cx="1713960" cy="29822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61" name=""/>
            <p:cNvGraphicFramePr/>
            <p:nvPr/>
          </p:nvGraphicFramePr>
          <p:xfrm>
            <a:off x="7201440" y="4506120"/>
            <a:ext cx="1713960" cy="2046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201440" y="4506120"/>
                      <a:ext cx="1713960" cy="20466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563" name=""/>
            <p:cNvGrpSpPr/>
            <p:nvPr/>
          </p:nvGrpSpPr>
          <p:grpSpPr>
            <a:xfrm>
              <a:off x="3048120" y="1523880"/>
              <a:ext cx="1515600" cy="5028120"/>
              <a:chOff x="3048120" y="1523880"/>
              <a:chExt cx="1515600" cy="5028120"/>
            </a:xfrm>
          </p:grpSpPr>
          <p:graphicFrame>
            <p:nvGraphicFramePr>
              <p:cNvPr id="564" name=""/>
              <p:cNvGraphicFramePr/>
              <p:nvPr/>
            </p:nvGraphicFramePr>
            <p:xfrm>
              <a:off x="3048120" y="1523880"/>
              <a:ext cx="1515600" cy="29714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565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048120" y="1523880"/>
                        <a:ext cx="1515600" cy="297144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6" name=""/>
              <p:cNvGraphicFramePr/>
              <p:nvPr/>
            </p:nvGraphicFramePr>
            <p:xfrm>
              <a:off x="3048120" y="4419000"/>
              <a:ext cx="1515600" cy="21330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567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3048120" y="4419000"/>
                        <a:ext cx="1515600" cy="213300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68" name=""/>
            <p:cNvGrpSpPr/>
            <p:nvPr/>
          </p:nvGrpSpPr>
          <p:grpSpPr>
            <a:xfrm>
              <a:off x="5948640" y="1523880"/>
              <a:ext cx="1252080" cy="5028120"/>
              <a:chOff x="5948640" y="1523880"/>
              <a:chExt cx="1252080" cy="5028120"/>
            </a:xfrm>
          </p:grpSpPr>
          <p:graphicFrame>
            <p:nvGraphicFramePr>
              <p:cNvPr id="569" name=""/>
              <p:cNvGraphicFramePr/>
              <p:nvPr/>
            </p:nvGraphicFramePr>
            <p:xfrm>
              <a:off x="5948640" y="1523880"/>
              <a:ext cx="1245600" cy="31950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570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948640" y="1523880"/>
                        <a:ext cx="1245600" cy="319500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71" name=""/>
              <p:cNvGraphicFramePr/>
              <p:nvPr/>
            </p:nvGraphicFramePr>
            <p:xfrm>
              <a:off x="5948640" y="4718880"/>
              <a:ext cx="1252080" cy="18331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572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5948640" y="4718880"/>
                        <a:ext cx="1252080" cy="183312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7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一、小儿体液平衡的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23880" y="1398600"/>
          <a:ext cx="6096240" cy="4057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523880" y="1398600"/>
                    <a:ext cx="609624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1523880" y="1447920"/>
          <a:ext cx="6096240" cy="40575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523880" y="1447920"/>
                    <a:ext cx="609624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8" name=""/>
          <p:cNvGrpSpPr/>
          <p:nvPr/>
        </p:nvGrpSpPr>
        <p:grpSpPr>
          <a:xfrm>
            <a:off x="3124080" y="2514600"/>
            <a:ext cx="4876920" cy="2336760"/>
            <a:chOff x="3124080" y="2514600"/>
            <a:chExt cx="4876920" cy="2336760"/>
          </a:xfrm>
        </p:grpSpPr>
        <p:sp>
          <p:nvSpPr>
            <p:cNvPr id="579" name=""/>
            <p:cNvSpPr/>
            <p:nvPr/>
          </p:nvSpPr>
          <p:spPr>
            <a:xfrm>
              <a:off x="6189120" y="3352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细胞内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66880" y="3733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血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1" name=""/>
            <p:cNvGraphicFramePr/>
            <p:nvPr/>
          </p:nvGraphicFramePr>
          <p:xfrm>
            <a:off x="3124080" y="2514600"/>
            <a:ext cx="4876920" cy="2336760"/>
          </p:xfrm>
          <a:graphic>
            <a:graphicData uri="http://schemas.openxmlformats.org/presentationml/2006/ole">
              <p:oleObj progId="Excel.Sheet.12" r:id="rId22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124080" y="2514600"/>
                      <a:ext cx="4876920" cy="233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3" name=""/>
            <p:cNvSpPr/>
            <p:nvPr/>
          </p:nvSpPr>
          <p:spPr>
            <a:xfrm>
              <a:off x="4070880" y="3047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间质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66880" y="3733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Times New Roman"/>
                </a:rPr>
                <a:t>血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12800" y="3276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细胞内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一、小儿体液平衡的特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838080" y="1523880"/>
          <a:ext cx="3200400" cy="472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523880"/>
                    <a:ext cx="3200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4343400" y="1523880"/>
          <a:ext cx="3948120" cy="472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1523880"/>
                    <a:ext cx="39481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ff00"/>
                </a:solidFill>
                <a:latin typeface="宋体"/>
              </a:rPr>
              <a:t>（二）体液中电解质组成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58320" y="4343040"/>
            <a:ext cx="6613560" cy="108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904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成人相似，但生后数天内血钾、氯、磷和乳酸偏高；血钠、钙和碳酸氢盐偏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752480" y="2743200"/>
            <a:ext cx="4953240" cy="1523880"/>
            <a:chOff x="1752480" y="2743200"/>
            <a:chExt cx="4953240" cy="1523880"/>
          </a:xfrm>
        </p:grpSpPr>
        <p:sp>
          <p:nvSpPr>
            <p:cNvPr id="595" name=""/>
            <p:cNvSpPr/>
            <p:nvPr/>
          </p:nvSpPr>
          <p:spPr>
            <a:xfrm>
              <a:off x="1752480" y="2743200"/>
              <a:ext cx="274320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688"/>
                  </a:solidFill>
                  <a:latin typeface="Times New Roman"/>
                </a:rPr>
                <a:t>细胞外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688"/>
                  </a:solidFill>
                  <a:latin typeface="Times New Roman"/>
                </a:rPr>
                <a:t>Na</a:t>
              </a:r>
              <a:r>
                <a:rPr b="0" lang="zh-CN" sz="2400" spc="-1" strike="noStrike" baseline="30000">
                  <a:solidFill>
                    <a:srgbClr val="009688"/>
                  </a:solidFill>
                  <a:latin typeface="Times New Roman"/>
                </a:rPr>
                <a:t>+</a:t>
              </a:r>
              <a:r>
                <a:rPr b="0" lang="zh-CN" sz="2400" spc="-1" strike="noStrike">
                  <a:solidFill>
                    <a:srgbClr val="009688"/>
                  </a:solidFill>
                  <a:latin typeface="Times New Roman"/>
                </a:rPr>
                <a:t>、</a:t>
              </a:r>
              <a:r>
                <a:rPr b="0" lang="zh-CN" sz="2400" spc="-1" strike="noStrike">
                  <a:solidFill>
                    <a:srgbClr val="009688"/>
                  </a:solidFill>
                  <a:latin typeface="Times New Roman"/>
                </a:rPr>
                <a:t>Cl</a:t>
              </a:r>
              <a:r>
                <a:rPr b="0" lang="zh-CN" sz="2400" spc="-1" strike="noStrike" baseline="30000">
                  <a:solidFill>
                    <a:srgbClr val="009688"/>
                  </a:solidFill>
                  <a:latin typeface="Times New Roman"/>
                </a:rPr>
                <a:t>-</a:t>
              </a:r>
              <a:r>
                <a:rPr b="0" lang="zh-CN" sz="2400" spc="-1" strike="noStrike">
                  <a:solidFill>
                    <a:srgbClr val="009688"/>
                  </a:solidFill>
                  <a:latin typeface="Times New Roman"/>
                </a:rPr>
                <a:t>、</a:t>
              </a:r>
              <a:r>
                <a:rPr b="0" lang="zh-CN" sz="2400" spc="-1" strike="noStrike">
                  <a:solidFill>
                    <a:srgbClr val="009688"/>
                  </a:solidFill>
                  <a:latin typeface="Times New Roman"/>
                </a:rPr>
                <a:t>HCO</a:t>
              </a:r>
              <a:r>
                <a:rPr b="0" lang="zh-CN" sz="2400" spc="-1" strike="noStrike" baseline="-25000">
                  <a:solidFill>
                    <a:srgbClr val="009688"/>
                  </a:solidFill>
                  <a:latin typeface="Times New Roman"/>
                </a:rPr>
                <a:t>3</a:t>
              </a:r>
              <a:r>
                <a:rPr b="0" lang="zh-CN" sz="2400" spc="-1" strike="noStrike" baseline="30000">
                  <a:solidFill>
                    <a:srgbClr val="009688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688"/>
                  </a:solidFill>
                  <a:latin typeface="Times New Roman"/>
                </a:rPr>
                <a:t>Na</a:t>
              </a:r>
              <a:r>
                <a:rPr b="0" lang="zh-CN" sz="2400" spc="-1" strike="noStrike" baseline="30000">
                  <a:solidFill>
                    <a:srgbClr val="009688"/>
                  </a:solidFill>
                  <a:latin typeface="Times New Roman"/>
                </a:rPr>
                <a:t>+</a:t>
              </a:r>
              <a:r>
                <a:rPr b="0" lang="zh-CN" sz="2400" spc="-1" strike="noStrike">
                  <a:solidFill>
                    <a:srgbClr val="009688"/>
                  </a:solidFill>
                  <a:latin typeface="Times New Roman"/>
                </a:rPr>
                <a:t>占阳离子</a:t>
              </a:r>
              <a:r>
                <a:rPr b="0" lang="zh-CN" sz="2400" spc="-1" strike="noStrike">
                  <a:solidFill>
                    <a:srgbClr val="009688"/>
                  </a:solidFill>
                  <a:latin typeface="Times New Roman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95680" y="2743200"/>
              <a:ext cx="2210040" cy="1523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688"/>
                  </a:solidFill>
                  <a:latin typeface="Times New Roman"/>
                </a:rPr>
                <a:t>细胞内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9688"/>
                  </a:solidFill>
                  <a:latin typeface="Times New Roman"/>
                </a:rPr>
                <a:t>K</a:t>
              </a:r>
              <a:r>
                <a:rPr b="0" lang="zh-CN" sz="1800" spc="-1" strike="noStrike" baseline="30000">
                  <a:solidFill>
                    <a:srgbClr val="009688"/>
                  </a:solidFill>
                  <a:latin typeface="Times New Roman"/>
                </a:rPr>
                <a:t>+</a:t>
              </a:r>
              <a:r>
                <a:rPr b="0" lang="zh-CN" sz="1800" spc="-1" strike="noStrike">
                  <a:solidFill>
                    <a:srgbClr val="009688"/>
                  </a:solidFill>
                  <a:latin typeface="Times New Roman"/>
                </a:rPr>
                <a:t>、</a:t>
              </a:r>
              <a:r>
                <a:rPr b="0" lang="zh-CN" sz="1800" spc="-1" strike="noStrike">
                  <a:solidFill>
                    <a:srgbClr val="009688"/>
                  </a:solidFill>
                  <a:latin typeface="Times New Roman"/>
                </a:rPr>
                <a:t>Mg</a:t>
              </a:r>
              <a:r>
                <a:rPr b="0" lang="zh-CN" sz="1800" spc="-1" strike="noStrike" baseline="30000">
                  <a:solidFill>
                    <a:srgbClr val="009688"/>
                  </a:solidFill>
                  <a:latin typeface="Times New Roman"/>
                </a:rPr>
                <a:t>++</a:t>
              </a:r>
              <a:r>
                <a:rPr b="0" lang="zh-CN" sz="1800" spc="-1" strike="noStrike">
                  <a:solidFill>
                    <a:srgbClr val="009688"/>
                  </a:solidFill>
                  <a:latin typeface="Times New Roman"/>
                </a:rPr>
                <a:t>、</a:t>
              </a:r>
              <a:r>
                <a:rPr b="0" lang="zh-CN" sz="1800" spc="-1" strike="noStrike">
                  <a:solidFill>
                    <a:srgbClr val="009688"/>
                  </a:solidFill>
                  <a:latin typeface="Times New Roman"/>
                </a:rPr>
                <a:t>HPO</a:t>
              </a:r>
              <a:r>
                <a:rPr b="0" lang="zh-CN" sz="1800" spc="-1" strike="noStrike" baseline="-25000">
                  <a:solidFill>
                    <a:srgbClr val="009688"/>
                  </a:solidFill>
                  <a:latin typeface="Times New Roman"/>
                </a:rPr>
                <a:t>4</a:t>
              </a:r>
              <a:r>
                <a:rPr b="0" lang="zh-CN" sz="1800" spc="-1" strike="noStrike" baseline="30000">
                  <a:solidFill>
                    <a:srgbClr val="009688"/>
                  </a:solidFill>
                  <a:latin typeface="Times New Roman"/>
                </a:rPr>
                <a:t>2</a:t>
              </a:r>
              <a:r>
                <a:rPr b="0" lang="zh-CN" sz="2400" spc="-1" strike="noStrike" baseline="30000">
                  <a:solidFill>
                    <a:srgbClr val="009688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一、小儿体液平衡的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6727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ff00"/>
                </a:solidFill>
                <a:latin typeface="宋体"/>
              </a:rPr>
              <a:t>（三）水代谢的特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58680" y="2238120"/>
            <a:ext cx="2864160" cy="282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宋体"/>
              </a:rPr>
              <a:t>水的需要量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9688"/>
                </a:solidFill>
                <a:latin typeface="宋体"/>
              </a:rPr>
              <a:t>水交换率大：尿液，不显性失水，大便，汗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ffcc"/>
                </a:solidFill>
                <a:latin typeface="宋体"/>
              </a:rPr>
              <a:t>体液调节功能不成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10080" y="1905120"/>
            <a:ext cx="2743200" cy="3993480"/>
          </a:xfrm>
          <a:prstGeom prst="rect">
            <a:avLst/>
          </a:prstGeom>
          <a:solidFill>
            <a:srgbClr val="ff33cc"/>
          </a:solidFill>
          <a:ln w="936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长发育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细胞组织增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新陈代谢旺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摄入量相对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体表面积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呼吸频率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活动量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10080" y="2133720"/>
            <a:ext cx="2819520" cy="3506760"/>
          </a:xfrm>
          <a:prstGeom prst="rect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不显性失水增多</a:t>
            </a:r>
            <a:r>
              <a:rPr b="1" lang="zh-CN" sz="2800" spc="-1" strike="noStrike">
                <a:solidFill>
                  <a:srgbClr val="009688"/>
                </a:solidFill>
                <a:latin typeface="宋体"/>
              </a:rPr>
              <a:t>交换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宋体"/>
              </a:rPr>
              <a:t>缺水耐受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495680" y="3886200"/>
            <a:ext cx="4267440" cy="222696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肾浓缩稀释功能不完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肾小管重吸收功能未完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838080" y="5638680"/>
            <a:ext cx="1981080" cy="685440"/>
            <a:chOff x="838080" y="5638680"/>
            <a:chExt cx="1981080" cy="685440"/>
          </a:xfrm>
        </p:grpSpPr>
        <p:sp>
          <p:nvSpPr>
            <p:cNvPr id="605" name=""/>
            <p:cNvSpPr/>
            <p:nvPr/>
          </p:nvSpPr>
          <p:spPr>
            <a:xfrm>
              <a:off x="838080" y="5638680"/>
              <a:ext cx="699120" cy="571320"/>
            </a:xfrm>
            <a:custGeom>
              <a:avLst/>
              <a:gdLst>
                <a:gd name="textAreaLeft" fmla="*/ 0 w 699120"/>
                <a:gd name="textAreaRight" fmla="*/ 699480 w 699120"/>
                <a:gd name="textAreaTop" fmla="*/ 73800 h 571320"/>
                <a:gd name="textAreaBottom" fmla="*/ 49752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37200" y="5695920"/>
              <a:ext cx="640800" cy="57132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73800 h 571320"/>
                <a:gd name="textAreaBottom" fmla="*/ 49752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78360" y="5752800"/>
              <a:ext cx="640800" cy="57132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73800 h 571320"/>
                <a:gd name="textAreaBottom" fmla="*/ 49752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一、小儿体液平衡的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4" dur="1" fill="hold"/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9335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0" y="609480"/>
          <a:ext cx="9144000" cy="624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1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0948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一、小儿体液平衡的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二、水、电解质和酸碱平衡紊乱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（一）脱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指水分摄入不足或丢失过多所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起的体液总量尤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细胞外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量的减少，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电解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丢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１）脱水程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患病后累积的体液丢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２）脱水性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现存体液渗透压的改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724280" y="1752480"/>
            <a:ext cx="4267440" cy="4419720"/>
          </a:xfrm>
          <a:custGeom>
            <a:avLst/>
            <a:gdLst>
              <a:gd name="textAreaLeft" fmla="*/ 0 w 4267440"/>
              <a:gd name="textAreaRight" fmla="*/ 4267800 w 4267440"/>
              <a:gd name="textAreaTop" fmla="*/ 572760 h 4419720"/>
              <a:gd name="textAreaBottom" fmla="*/ 384696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d49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46479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轻度脱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失 水 量     占体重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精　　神     稍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皮肤弹性     尚可  稍干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前囟眼窝     稍有凹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眼　　泪     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口腔粘膜     略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周围循环     正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尿　　量     稍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二、水、电解质和酸碱平衡紊乱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48360" y="765000"/>
            <a:ext cx="35812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脱水程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4114800" cy="31780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539640" y="1052640"/>
            <a:ext cx="187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一）脱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6" dur="1" fill="hold"/>
                                        <p:tgtEl>
                                          <p:spTgt spid="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49780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婴儿胃的位置、容量、贲门、幽门特点——易发生溢奶和呕吐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胃的排空时间与食物种类有关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水—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.5~2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母乳—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~3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牛乳—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3~4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早产儿胃排空慢——易发生胃潴留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4572000" y="1714680"/>
            <a:ext cx="4800600" cy="4267080"/>
          </a:xfrm>
          <a:prstGeom prst="verticalScroll">
            <a:avLst>
              <a:gd name="adj" fmla="val 12500"/>
            </a:avLst>
          </a:prstGeom>
          <a:solidFill>
            <a:srgbClr val="d49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228240" y="2057040"/>
            <a:ext cx="5181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度脱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失 水 量    占体重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5-10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精　　神    萎靡或烦躁不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皮    肤   苍白干燥、弹性较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前囟眼窝    明显凹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眼　　泪    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口腔粘膜    干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周围循环    四肢稍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尿　　量    明显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二、水、电解质和酸碱平衡紊乱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796000" y="620640"/>
            <a:ext cx="358128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脱水程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81360" cy="35100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1013040" y="1125360"/>
            <a:ext cx="1274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脱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2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2133720"/>
            <a:ext cx="3657600" cy="3429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733920" y="16765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重度脱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黑体"/>
                <a:ea typeface="黑体"/>
              </a:rPr>
              <a:t>失 水 量  占体重</a:t>
            </a:r>
            <a:r>
              <a:rPr b="1" lang="zh-CN" sz="2000" spc="-1" strike="noStrike">
                <a:solidFill>
                  <a:srgbClr val="009fff"/>
                </a:solidFill>
                <a:latin typeface="黑体"/>
                <a:ea typeface="黑体"/>
              </a:rPr>
              <a:t>&gt;10</a:t>
            </a:r>
            <a:r>
              <a:rPr b="1" lang="zh-CN" sz="2000" spc="-1" strike="noStrike">
                <a:solidFill>
                  <a:srgbClr val="009fff"/>
                </a:solidFill>
                <a:latin typeface="黑体"/>
                <a:ea typeface="黑体"/>
              </a:rPr>
              <a:t>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黑体"/>
                <a:ea typeface="黑体"/>
              </a:rPr>
              <a:t>精　　神  极度萎靡，表情淡漠，昏睡或昏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黑体"/>
                <a:ea typeface="黑体"/>
              </a:rPr>
              <a:t>皮    肤    发灰、干燥有花纹，弹性极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黑体"/>
                <a:ea typeface="黑体"/>
              </a:rPr>
              <a:t>前囟眼窝    深凹陷，两眼凝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黑体"/>
                <a:ea typeface="黑体"/>
              </a:rPr>
              <a:t>眼　　泪    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黑体"/>
                <a:ea typeface="黑体"/>
              </a:rPr>
              <a:t>口腔粘膜    极干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黑体"/>
                <a:ea typeface="黑体"/>
              </a:rPr>
              <a:t>周围循环    周围循环差，四肢厥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黑体"/>
                <a:ea typeface="黑体"/>
              </a:rPr>
              <a:t>尿　　量    极少或无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二、水、电解质和酸碱平衡紊乱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219640" y="765000"/>
            <a:ext cx="358164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脱水程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3047760" cy="23670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539640" y="1052640"/>
            <a:ext cx="187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一）脱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8" dur="1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074600" y="1197000"/>
            <a:ext cx="68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宋体"/>
                <a:ea typeface="隶书"/>
              </a:rPr>
              <a:t>不同程度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脱水的临床表现及分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324000" y="1844640"/>
          <a:ext cx="8569080" cy="4595760"/>
        </p:xfrm>
        <a:graphic>
          <a:graphicData uri="http://schemas.openxmlformats.org/drawingml/2006/table">
            <a:tbl>
              <a:tblPr/>
              <a:tblGrid>
                <a:gridCol w="2160360"/>
                <a:gridCol w="2286000"/>
                <a:gridCol w="1859040"/>
                <a:gridCol w="2263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轻  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中  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重  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失水百分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3%</a:t>
                      </a: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累积损失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50 ml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50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00 ml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00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20 ml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精神状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稍差、略烦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烦躁或萎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昏睡甚至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皮肤弹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稍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极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口腔黏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稍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眼窝及前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稍凹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明显凹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深凹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眼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尿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稍减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明显减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极少或无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酸中毒及休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不明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明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5" name=""/>
          <p:cNvSpPr/>
          <p:nvPr/>
        </p:nvSpPr>
        <p:spPr>
          <a:xfrm>
            <a:off x="2484360" y="476280"/>
            <a:ext cx="35290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护理评估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40360" y="260280"/>
            <a:ext cx="3581640" cy="1143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脱水程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-152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渗性脱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低渗性脱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渗性脱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二、水、电解质和酸碱平衡紊乱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0880" y="380880"/>
            <a:ext cx="3200400" cy="16002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脱水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5181480" y="3505320"/>
            <a:ext cx="3962520" cy="285732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5181480" y="2209680"/>
            <a:ext cx="3962520" cy="28576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5181480" y="685800"/>
            <a:ext cx="3962520" cy="28576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85800" y="205740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soton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120" y="32767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Hypoton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09120" y="45720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Hyperton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114800" y="1295280"/>
            <a:ext cx="5029200" cy="4873680"/>
            <a:chOff x="4114800" y="1295280"/>
            <a:chExt cx="5029200" cy="4873680"/>
          </a:xfrm>
        </p:grpSpPr>
        <p:pic>
          <p:nvPicPr>
            <p:cNvPr id="647" name="" descr=""/>
            <p:cNvPicPr/>
            <p:nvPr/>
          </p:nvPicPr>
          <p:blipFill>
            <a:blip r:embed="rId5"/>
            <a:stretch/>
          </p:blipFill>
          <p:spPr>
            <a:xfrm>
              <a:off x="4114800" y="1295280"/>
              <a:ext cx="2743200" cy="19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6"/>
            <a:stretch/>
          </p:blipFill>
          <p:spPr>
            <a:xfrm>
              <a:off x="6477120" y="2895480"/>
              <a:ext cx="2666880" cy="19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7"/>
            <a:stretch/>
          </p:blipFill>
          <p:spPr>
            <a:xfrm>
              <a:off x="4191120" y="4190760"/>
              <a:ext cx="2743200" cy="1978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6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9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4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9" dur="1" fill="hold"/>
                                        <p:tgtEl>
                                          <p:spTgt spid="6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"/>
          <p:cNvGraphicFramePr/>
          <p:nvPr/>
        </p:nvGraphicFramePr>
        <p:xfrm>
          <a:off x="250920" y="1854360"/>
          <a:ext cx="8642160" cy="4670280"/>
        </p:xfrm>
        <a:graphic>
          <a:graphicData uri="http://schemas.openxmlformats.org/drawingml/2006/table">
            <a:tbl>
              <a:tblPr/>
              <a:tblGrid>
                <a:gridCol w="1697040"/>
                <a:gridCol w="2124000"/>
                <a:gridCol w="2549520"/>
                <a:gridCol w="22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等渗性脱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低渗性脱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高渗性脱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水、电解质丢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大致相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电解质丢失为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水丢失为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血钠浓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30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50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＜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30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50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细胞内、外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细胞外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减少为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细胞外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减少明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细胞内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减少明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皮肤弹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稍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极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尚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口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明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不明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极明显，烦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血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很低，易休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正常或稍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精神状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精神萎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嗜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昏迷或惊厥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惊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肌张力增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044800" y="1203480"/>
            <a:ext cx="61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不同性质脱水的临床表现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43280" y="476280"/>
            <a:ext cx="35290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50000">
                <a:srgbClr val="172f75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隶书"/>
                <a:ea typeface="隶书"/>
              </a:rPr>
              <a:t>【护理评估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59640" y="333360"/>
            <a:ext cx="2274840" cy="115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脱水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（二）酸碱平衡紊乱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95480" y="2658600"/>
            <a:ext cx="7294320" cy="21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常人体液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3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］的比例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二、水、电解质和酸碱平衡紊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286000" cy="800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0" y="4452840"/>
            <a:ext cx="9144000" cy="2397600"/>
          </a:xfrm>
          <a:prstGeom prst="rect">
            <a:avLst/>
          </a:prstGeom>
          <a:solidFill>
            <a:srgbClr val="99ccf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血气分析正常指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　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pH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　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HCO</a:t>
            </a:r>
            <a:r>
              <a:rPr b="1" lang="zh-CN" sz="2800" spc="-1" strike="noStrike" baseline="-25000">
                <a:solidFill>
                  <a:srgbClr val="009688"/>
                </a:solidFill>
                <a:latin typeface="Times New Roman"/>
              </a:rPr>
              <a:t>3</a:t>
            </a:r>
            <a:r>
              <a:rPr b="1" lang="zh-CN" sz="2800" spc="-1" strike="noStrike" baseline="30000">
                <a:solidFill>
                  <a:srgbClr val="009688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　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PaCO</a:t>
            </a:r>
            <a:r>
              <a:rPr b="1" lang="zh-CN" sz="2800" spc="-1" strike="noStrike" baseline="-25000">
                <a:solidFill>
                  <a:srgbClr val="009688"/>
                </a:solidFill>
                <a:latin typeface="Times New Roman"/>
              </a:rPr>
              <a:t>2  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BE       CO2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7.35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7.45   22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27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　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45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　   </a:t>
            </a:r>
            <a:r>
              <a:rPr b="1" lang="zh-CN" sz="2800" spc="-1" strike="noStrike">
                <a:solidFill>
                  <a:srgbClr val="009688"/>
                </a:solidFill>
                <a:latin typeface="宋体"/>
              </a:rPr>
              <a:t>±3    18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9688"/>
                </a:solidFill>
                <a:latin typeface="宋体"/>
              </a:rPr>
              <a:t>mmol/L   mmHg            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1371600"/>
            <a:ext cx="5486400" cy="5486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6132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32203"/>
                </a:solidFill>
                <a:latin typeface="Arial"/>
                <a:ea typeface="华文新魏"/>
              </a:rPr>
              <a:t>代谢性酸中毒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病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27432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58720" indent="-3740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正常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AG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型代谢性酸中毒（失碱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37404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碱性物质丢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3740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物质摄入过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3740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输入过多不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3740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］的含钠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3740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高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AG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型代谢性酸中毒（获得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3740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酸过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37404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酸障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37404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摄入酸过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6128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0880" y="1828800"/>
            <a:ext cx="5105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G=Na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mmol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334120" y="1447920"/>
            <a:ext cx="3809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分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轻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］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mmol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］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3mmol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］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9mmol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34120" y="4575240"/>
            <a:ext cx="35812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血气分析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pH 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：正常或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HCO</a:t>
            </a:r>
            <a:r>
              <a:rPr b="1" lang="zh-CN" sz="2400" spc="-1" strike="noStrike" baseline="-25000">
                <a:solidFill>
                  <a:srgbClr val="009fff"/>
                </a:solidFill>
                <a:latin typeface="宋体"/>
              </a:rPr>
              <a:t>3</a:t>
            </a:r>
            <a:r>
              <a:rPr b="1" lang="zh-CN" sz="2400" spc="-1" strike="noStrike" baseline="30000">
                <a:solidFill>
                  <a:srgbClr val="009f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：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PaCO</a:t>
            </a:r>
            <a:r>
              <a:rPr b="1" lang="zh-CN" sz="2400" spc="-1" strike="noStrike" baseline="-25000">
                <a:solidFill>
                  <a:srgbClr val="009fff"/>
                </a:solidFill>
                <a:latin typeface="宋体"/>
              </a:rPr>
              <a:t>2 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：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-25000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BE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：   升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CO2CP  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二、水、电解质和酸碱平衡紊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692360" y="692280"/>
            <a:ext cx="61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32203"/>
                </a:solidFill>
                <a:latin typeface="隶书"/>
                <a:ea typeface="隶书"/>
              </a:rPr>
              <a:t>不同程度代谢性酸中毒的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539640" y="1628640"/>
          <a:ext cx="8064720" cy="4141440"/>
        </p:xfrm>
        <a:graphic>
          <a:graphicData uri="http://schemas.openxmlformats.org/drawingml/2006/table">
            <a:tbl>
              <a:tblPr/>
              <a:tblGrid>
                <a:gridCol w="1627200"/>
                <a:gridCol w="1552680"/>
                <a:gridCol w="2071800"/>
                <a:gridCol w="281304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轻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中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重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CO</a:t>
                      </a:r>
                      <a:r>
                        <a:rPr b="0" lang="en-US" sz="2400" spc="-1" strike="noStrike" baseline="-30000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C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8</a:t>
                      </a: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13</a:t>
                      </a: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＜</a:t>
                      </a: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精神状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正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精神萎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烦躁不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昏睡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呼吸改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呼吸稍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呼吸深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呼吸深快、节律不整、有烂苹果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黑体"/>
                          <a:ea typeface="黑体"/>
                        </a:rPr>
                        <a:t>口唇颜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正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樱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66"/>
                          </a:solidFill>
                          <a:latin typeface="隶书"/>
                          <a:ea typeface="隶书"/>
                        </a:rPr>
                        <a:t>发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228600" y="4876920"/>
            <a:ext cx="1976400" cy="19810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547640" y="54936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32203"/>
                </a:solidFill>
                <a:latin typeface="Arial"/>
                <a:ea typeface="华文新魏"/>
              </a:rPr>
              <a:t>代谢性酸中毒的治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826560" y="155700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治疗原发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补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补充碱性液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aHC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（三）低钾血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763280" y="2852640"/>
            <a:ext cx="5024520" cy="35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61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932203"/>
                </a:solidFill>
                <a:latin typeface="Times New Roman"/>
                <a:ea typeface="楷体_GB2312"/>
              </a:rPr>
              <a:t>病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15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钾入量不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15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经消化道失钾过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15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经肾排钾过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15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细胞内外分布异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692360" y="206064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清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.5mmol/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二、水、电解质和酸碱平衡紊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5320" y="54864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四）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婴儿肠道较长，吸收面积较大，粘膜血管丰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有利于营养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道感染时，易引起全身中毒症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肠系膜活动性大，易发生肠套叠或扭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肠：较长，粘膜及粘膜下层固定差，肌层发育不良——易脱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278136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95640" y="404280"/>
            <a:ext cx="4681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32203"/>
                </a:solidFill>
                <a:latin typeface="Arial"/>
                <a:ea typeface="华文新魏"/>
              </a:rPr>
              <a:t>低钾血症临床表现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66920" y="2238480"/>
            <a:ext cx="3068640" cy="168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99"/>
                </a:solidFill>
                <a:latin typeface="Times New Roman"/>
                <a:ea typeface="黑体"/>
              </a:rPr>
              <a:t>神经肌肉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黑体"/>
              </a:rPr>
              <a:t>心血管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肾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19720" y="1371600"/>
            <a:ext cx="4038480" cy="24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009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心率加快，心肌收缩无力、第一心音低钝、血压降低、心脏扩大、心律失常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009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心电图显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ST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段降低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波压低、平坦、双相、倒置，出现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91120" y="4572000"/>
            <a:ext cx="46479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尿、夜尿、口渴、多饮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267080" y="990360"/>
            <a:ext cx="4191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cc"/>
                </a:solidFill>
                <a:latin typeface="Times New Roman"/>
                <a:ea typeface="黑体"/>
              </a:rPr>
              <a:t>兴奋性降低，骨骼肌无力，腱反射迟钝或消失，严重时肌肉弛缓性瘫痪，呼吸肌麻痹；腹胀、肠鸣音减弱，肠麻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00"/>
                </a:solidFill>
                <a:latin typeface="Arial"/>
                <a:ea typeface="华文新魏"/>
              </a:rPr>
              <a:t>低钾血症的治疗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84000" y="155736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9080" indent="-289080">
              <a:lnSpc>
                <a:spcPct val="1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治疗原发病，尽早恢复正常饮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口服者尽量口服补充钾，如氯化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.3g/kg.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次口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口服或病情严重者则静脉补充钾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氯化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ml/kg.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浓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.2%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.3%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忌静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见尿补钾，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内解过小便即可补钾，总量滴入时间不应小于８小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（四）低钙、低镁血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低钙血症或低镁血症表现为手足抽搐、惊厥，若经静脉缓慢推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酸钙后症状仍不见好转时，应考虑低镁血症，应深部肌内注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2666880" cy="403848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99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非电解质溶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常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％或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％葡萄糖溶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f9100"/>
                </a:solidFill>
                <a:latin typeface="宋体"/>
              </a:rPr>
              <a:t>前者为等渗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f9100"/>
                </a:solidFill>
                <a:latin typeface="宋体"/>
              </a:rPr>
              <a:t>后者为高渗液，但可看作是无张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971800" y="1371600"/>
            <a:ext cx="3276720" cy="4038480"/>
          </a:xfrm>
          <a:prstGeom prst="rect">
            <a:avLst/>
          </a:prstGeom>
          <a:solidFill>
            <a:srgbClr val="99ff99"/>
          </a:solidFill>
          <a:ln w="12600">
            <a:solidFill>
              <a:srgbClr val="ff0000"/>
            </a:solidFill>
            <a:miter/>
          </a:ln>
        </p:spPr>
        <p:txBody>
          <a:bodyPr lIns="90360" rIns="90360" tIns="44280" bIns="44280"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电解质溶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生理盐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0.9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％氯化钠溶液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等张液，含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Na</a:t>
            </a:r>
            <a:r>
              <a:rPr b="1" lang="zh-CN" sz="2400" spc="-1" strike="noStrike" baseline="30000">
                <a:solidFill>
                  <a:srgbClr val="660066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Cl</a:t>
            </a:r>
            <a:r>
              <a:rPr b="1" lang="zh-CN" sz="2400" spc="-1" strike="noStrike" baseline="30000">
                <a:solidFill>
                  <a:srgbClr val="660066"/>
                </a:solidFill>
                <a:latin typeface="宋体"/>
              </a:rPr>
              <a:t>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30000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各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154mmol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／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L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％氯化钠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高浓度电解质溶液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％氯化钠溶液用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纠正低钠血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324480" y="1371600"/>
            <a:ext cx="2667240" cy="4038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碱性溶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％碳酸氢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9688"/>
                </a:solidFill>
                <a:latin typeface="宋体"/>
              </a:rPr>
              <a:t>高张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宋体"/>
              </a:rPr>
              <a:t>等张液浓度</a:t>
            </a:r>
            <a:r>
              <a:rPr b="1" lang="zh-CN" sz="2400" spc="-1" strike="noStrike">
                <a:solidFill>
                  <a:srgbClr val="009688"/>
                </a:solidFill>
                <a:latin typeface="宋体"/>
              </a:rPr>
              <a:t>1.4</a:t>
            </a:r>
            <a:r>
              <a:rPr b="1" lang="zh-CN" sz="2400" spc="-1" strike="noStrike">
                <a:solidFill>
                  <a:srgbClr val="009688"/>
                </a:solidFill>
                <a:latin typeface="宋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11.2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％乳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9688"/>
                </a:solidFill>
                <a:latin typeface="宋体"/>
              </a:rPr>
              <a:t>高张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宋体"/>
              </a:rPr>
              <a:t>等张液浓度</a:t>
            </a:r>
            <a:r>
              <a:rPr b="1" lang="zh-CN" sz="2400" spc="-1" strike="noStrike">
                <a:solidFill>
                  <a:srgbClr val="009688"/>
                </a:solidFill>
                <a:latin typeface="宋体"/>
              </a:rPr>
              <a:t>1.87</a:t>
            </a:r>
            <a:r>
              <a:rPr b="1" lang="zh-CN" sz="2400" spc="-1" strike="noStrike">
                <a:solidFill>
                  <a:srgbClr val="009688"/>
                </a:solidFill>
                <a:latin typeface="宋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55627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66ff33"/>
                </a:solidFill>
                <a:latin typeface="宋体"/>
              </a:rPr>
              <a:t>％氯化钾          混合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76360" y="0"/>
            <a:ext cx="5472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三、液体疗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40200" y="765000"/>
            <a:ext cx="1274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一）常用溶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050920" y="54936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用混合液的组成和配制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16765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溶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名　称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钠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:4: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: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: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: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124080" y="12952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易配制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~10%GS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0%NaC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5%NaHC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1.2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酸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124080" y="2438280"/>
            <a:ext cx="601992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配制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4:1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液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500ml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GS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×500ml=400ml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0.9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％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NaCl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×500ml=100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配制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3:2:1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液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500ml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GS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0.9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NaCl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6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1.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%NaHCO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752480" y="1295280"/>
            <a:ext cx="266724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溶液内容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份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糖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盐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1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2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3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4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2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3:4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3:2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6:2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</a:rPr>
              <a:t>9:2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84560" y="207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48120" y="2603520"/>
            <a:ext cx="6095880" cy="46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4:1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液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500ml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NaCl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0.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3:2:1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液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500ml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％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NaCl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2/6×500×0.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　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=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%NaHCO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/6×500×1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　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=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％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GS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500-15-24=46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三、液体疗法常用溶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常用混合液的组成和配制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1676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溶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名　称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钠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:4: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: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: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:2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752480" y="914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溶液内容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份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易配制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糖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盐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碱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~10%GS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0%NaC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5%NaHC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828800" y="17524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0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1.2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酸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0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３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0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４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0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0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47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３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４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0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3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8.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３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0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2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６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0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0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1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９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0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1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4495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液体张力体张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" y="6172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液体张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盐份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碱份数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571680" indent="-571680">
              <a:lnSpc>
                <a:spcPct val="100000"/>
              </a:lnSpc>
              <a:buClr>
                <a:srgbClr val="00ff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宋体"/>
              </a:rPr>
              <a:t>口服补液盐（</a:t>
            </a:r>
            <a:r>
              <a:rPr b="1" lang="zh-CN" sz="4400" spc="-1" strike="noStrike">
                <a:solidFill>
                  <a:srgbClr val="00ff00"/>
                </a:solidFill>
                <a:latin typeface="宋体"/>
              </a:rPr>
              <a:t>ORS</a:t>
            </a:r>
            <a:r>
              <a:rPr b="1" lang="zh-CN" sz="4400" spc="-1" strike="noStrike">
                <a:solidFill>
                  <a:srgbClr val="00ff00"/>
                </a:solidFill>
                <a:latin typeface="宋体"/>
              </a:rPr>
              <a:t>）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化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5g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枸橼酸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9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化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5g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水葡萄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   加温开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含钠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6019920" y="4114800"/>
          <a:ext cx="3124080" cy="19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4114800"/>
                    <a:ext cx="312408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228600" y="3446640"/>
            <a:ext cx="6248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9688"/>
                </a:solidFill>
                <a:latin typeface="Times New Roman"/>
              </a:rPr>
              <a:t>特点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基于小肠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葡萄糖偶转运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6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9688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葡萄糖为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2%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，水钠充分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6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溶液渗透压接近血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6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含电解质纠正钠钾氯损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6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碳酸氢钠可纠正酸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68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能迅速恢复肠道正常渗透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和正常吸收分泌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口服补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于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度脱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l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重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×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静脉输液补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适用于中度以上脱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286000" cy="187164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6553080" y="4952880"/>
            <a:ext cx="1905120" cy="155916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210040" cy="18097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（二）液体疗法 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Fluid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首先要明确脱水的程度、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然后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三步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累积损失量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后水和电解质总的损失量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继续损失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开始补液后继续丢失的体液量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生理需要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热量、液量和电解质三方面需要量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三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补充累积损失量时）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定量   定性   定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然后考虑酸碱平衡、钾、钙、热量等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制定出治疗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二）液体疗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987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688"/>
                </a:solidFill>
                <a:latin typeface="Times New Roman"/>
              </a:rPr>
              <a:t>静脉输液补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688"/>
                </a:solidFill>
                <a:latin typeface="Arial"/>
                <a:ea typeface="黑体"/>
              </a:rPr>
              <a:t>补充累计损失量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Times New Roman"/>
              </a:rPr>
              <a:t>定量（输液量）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性（输液种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定时（输液速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523880"/>
            <a:ext cx="502920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根据脱水程度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轻度脱水  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50ml/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中度脱水  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50-100ml/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重度脱水  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100-120ml/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学龄前期、学龄期酌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059360" y="2362320"/>
            <a:ext cx="5084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脱水性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张含钠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/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张含钠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/3-1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张含钠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若判断困难，先按等渗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92560" y="3733920"/>
            <a:ext cx="495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根据脱水程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原则上先快后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重度脱水快速输入等张含钠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高渗脱水输注速度应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总量应在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8-12</a:t>
            </a:r>
            <a:r>
              <a:rPr b="1" lang="zh-CN" sz="2800" spc="-1" strike="noStrike">
                <a:solidFill>
                  <a:srgbClr val="00ff00"/>
                </a:solidFill>
                <a:latin typeface="黑体"/>
                <a:ea typeface="黑体"/>
              </a:rPr>
              <a:t>小时输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191120" y="2895480"/>
            <a:ext cx="49528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黑体"/>
              </a:rPr>
              <a:t>见尿补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黑体"/>
              </a:rPr>
              <a:t>严重酸中毒需补碱性溶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四、液体疗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8278920" cy="43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五）肝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较大：正常婴幼儿可在右肋缘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触及，柔软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后不能触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儿肝血管丰富，肝细胞和肝小叶发育不完善，解毒功能差——传染病、中毒、心功能衰竭时易发生肝充血肿大和变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儿期胆汁分泌较少——影响脂肪的消化、吸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688"/>
                </a:solidFill>
                <a:latin typeface="Arial"/>
                <a:ea typeface="黑体"/>
              </a:rPr>
              <a:t>补充继续损失量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0280" y="2357280"/>
            <a:ext cx="3886200" cy="21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每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-40ml/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/3-1/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含钠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均匀输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用口服补液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24200" y="11192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Times New Roman"/>
                <a:ea typeface="黑体"/>
              </a:rPr>
              <a:t>补充生理需要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83160" y="1981080"/>
            <a:ext cx="293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葡萄糖供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70-90ml/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尽量口服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1/4-1/5</a:t>
            </a:r>
            <a:r>
              <a:rPr b="0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张含钠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四、液体疗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4086360"/>
            <a:ext cx="556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注意事项：先浓后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1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先快后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1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见尿补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1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随时调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380880" y="4648320"/>
            <a:ext cx="2095560" cy="2209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一天液体疗法的定量、定性、定时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93726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zh-CN" sz="2800" spc="-1" strike="noStrike" u="sng">
                <a:solidFill>
                  <a:srgbClr val="009688"/>
                </a:solidFill>
                <a:uFillTx/>
                <a:latin typeface="Times New Roman"/>
                <a:hlinkClick r:id="rId2" action="ppaction://hlinksldjump"/>
              </a:rPr>
              <a:t>累积损失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 u="sng">
                <a:solidFill>
                  <a:srgbClr val="009688"/>
                </a:solidFill>
                <a:uFillTx/>
                <a:latin typeface="Times New Roman"/>
                <a:hlinkClick r:id="rId3" action="ppaction://hlinksldjump"/>
              </a:rPr>
              <a:t>继续损失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  生理需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脱水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液体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体成分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液体量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液体成分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体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体成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程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ml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(ml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(ml/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0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脱水性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定，等渗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2-2/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 </a:t>
            </a:r>
            <a:r>
              <a:rPr b="1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10-40  1/2-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0-10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渗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/3-          </a:t>
            </a:r>
            <a:r>
              <a:rPr b="1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含钠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-80  1/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张，高渗                           钠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3-1/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00-120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钠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完成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8-10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小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14-16</a:t>
            </a:r>
            <a:r>
              <a:rPr b="1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时间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8-10ml/kg.h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l/kg.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rId4" action="ppaction://hlinksldjump"/>
          </p:cNvPr>
          <p:cNvSpPr/>
          <p:nvPr/>
        </p:nvSpPr>
        <p:spPr>
          <a:xfrm>
            <a:off x="8153280" y="6400800"/>
            <a:ext cx="990720" cy="30492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f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腹泻病伴中度等渗性脱水，低钾血症，代谢性酸中毒（中度）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09120" y="51051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需补累计损失量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j 3:2:1 sol  750ml   ivgtt st   (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750×15/(8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0×60)=18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3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(8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0)×10×15/60=2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二）液体疗法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举例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838080" y="2362320"/>
            <a:ext cx="7086600" cy="2946600"/>
            <a:chOff x="838080" y="2362320"/>
            <a:chExt cx="7086600" cy="2946600"/>
          </a:xfrm>
        </p:grpSpPr>
        <p:grpSp>
          <p:nvGrpSpPr>
            <p:cNvPr id="752" name=""/>
            <p:cNvGrpSpPr/>
            <p:nvPr/>
          </p:nvGrpSpPr>
          <p:grpSpPr>
            <a:xfrm>
              <a:off x="838080" y="2362320"/>
              <a:ext cx="7086600" cy="2743200"/>
              <a:chOff x="838080" y="2362320"/>
              <a:chExt cx="7086600" cy="2743200"/>
            </a:xfrm>
          </p:grpSpPr>
          <p:sp>
            <p:nvSpPr>
              <p:cNvPr id="753" name=""/>
              <p:cNvSpPr/>
              <p:nvPr/>
            </p:nvSpPr>
            <p:spPr>
              <a:xfrm>
                <a:off x="838080" y="2362320"/>
                <a:ext cx="7086600" cy="274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38080" y="3505320"/>
                <a:ext cx="708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929160" y="2362320"/>
              <a:ext cx="6846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　    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2" action="ppaction://hlinksldjump"/>
                </a:rPr>
                <a:t>累积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3" action="ppaction://hlinksldjump"/>
                </a:rPr>
                <a:t>损失量</a:t>
              </a: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            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4" action="ppaction://hlinksldjump"/>
                </a:rPr>
                <a:t>继续损失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      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5" action="ppaction://hlinksldjump"/>
                </a:rPr>
                <a:t>生理需要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</a:rPr>
                <a:t>脱水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</a:rPr>
                <a:t>液体量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液体成分 </a:t>
              </a:r>
              <a:r>
                <a:rPr b="1" lang="zh-CN" sz="2000" spc="-1" strike="noStrike">
                  <a:solidFill>
                    <a:srgbClr val="00ff00"/>
                  </a:solidFill>
                  <a:latin typeface="Times New Roman"/>
                </a:rPr>
                <a:t>液体量 液体成分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液体量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液体成分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</a:rPr>
                <a:t>程度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</a:rPr>
                <a:t>(ml/kg)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zh-CN" sz="2000" spc="-1" strike="noStrike">
                  <a:solidFill>
                    <a:srgbClr val="00ff00"/>
                  </a:solidFill>
                  <a:latin typeface="Times New Roman"/>
                </a:rPr>
                <a:t>(ml/kg)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           (ml/k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中度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50-100 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等渗补   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10-40  1/2-1/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60-80  1/5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/2- 2/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        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含钠液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钠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完成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8-10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小时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14-16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小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时间</a:t>
              </a:r>
              <a:r>
                <a:rPr b="1" lang="zh-CN" sz="18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8-10ml/kg.h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（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ml/kg.h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" descr=""/>
          <p:cNvPicPr/>
          <p:nvPr/>
        </p:nvPicPr>
        <p:blipFill>
          <a:blip r:embed="rId6"/>
          <a:stretch/>
        </p:blipFill>
        <p:spPr>
          <a:xfrm>
            <a:off x="0" y="838080"/>
            <a:ext cx="1447920" cy="1316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1" fill="hold"/>
                                        <p:tgtEl>
                                          <p:spTgt spid="7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533160" y="52578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需补继续损失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j 6:2:1 sol  250ml  ivgtt 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838080" y="2362320"/>
            <a:ext cx="7086600" cy="2946600"/>
            <a:chOff x="838080" y="2362320"/>
            <a:chExt cx="7086600" cy="2946600"/>
          </a:xfrm>
        </p:grpSpPr>
        <p:grpSp>
          <p:nvGrpSpPr>
            <p:cNvPr id="759" name=""/>
            <p:cNvGrpSpPr/>
            <p:nvPr/>
          </p:nvGrpSpPr>
          <p:grpSpPr>
            <a:xfrm>
              <a:off x="838080" y="2362320"/>
              <a:ext cx="7086600" cy="2743200"/>
              <a:chOff x="838080" y="2362320"/>
              <a:chExt cx="7086600" cy="2743200"/>
            </a:xfrm>
          </p:grpSpPr>
          <p:sp>
            <p:nvSpPr>
              <p:cNvPr id="760" name=""/>
              <p:cNvSpPr/>
              <p:nvPr/>
            </p:nvSpPr>
            <p:spPr>
              <a:xfrm>
                <a:off x="838080" y="2362320"/>
                <a:ext cx="7086600" cy="274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38080" y="3505320"/>
                <a:ext cx="708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929160" y="2362320"/>
              <a:ext cx="6846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　    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2" action="ppaction://hlinksldjump"/>
                </a:rPr>
                <a:t>累积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3" action="ppaction://hlinksldjump"/>
                </a:rPr>
                <a:t>损失量</a:t>
              </a: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            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4" action="ppaction://hlinksldjump"/>
                </a:rPr>
                <a:t>继续损失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      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5" action="ppaction://hlinksldjump"/>
                </a:rPr>
                <a:t>生理需要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</a:rPr>
                <a:t>脱水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</a:rPr>
                <a:t>液体量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液体成分 </a:t>
              </a:r>
              <a:r>
                <a:rPr b="1" lang="zh-CN" sz="2000" spc="-1" strike="noStrike">
                  <a:solidFill>
                    <a:srgbClr val="00ff00"/>
                  </a:solidFill>
                  <a:latin typeface="Times New Roman"/>
                </a:rPr>
                <a:t>液体量 液体成分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液体量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液体成分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</a:rPr>
                <a:t>程度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</a:rPr>
                <a:t>(ml/kg)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zh-CN" sz="2000" spc="-1" strike="noStrike">
                  <a:solidFill>
                    <a:srgbClr val="00ff00"/>
                  </a:solidFill>
                  <a:latin typeface="Times New Roman"/>
                </a:rPr>
                <a:t>(ml/kg)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           (ml/k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中度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50-100 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等渗补   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10-40  1/2-1/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60-80  1/5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/2- 2/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        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含钠液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钠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完成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8-10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小时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14-16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小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时间</a:t>
              </a:r>
              <a:r>
                <a:rPr b="1" lang="zh-CN" sz="18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8-10ml/kg.h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（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ml/kg.h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152352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腹泻病伴中度等渗性脱水，低钾血症，代谢性酸中毒（中度）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6"/>
          <a:stretch/>
        </p:blipFill>
        <p:spPr>
          <a:xfrm>
            <a:off x="0" y="838080"/>
            <a:ext cx="1447920" cy="131616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二）液体疗法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举例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09120" y="51051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需补生理需要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j 4:1 sol  750ml   ivgtt st   (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000×15/(1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6×60)=15.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838080" y="2362320"/>
            <a:ext cx="7086600" cy="2946600"/>
            <a:chOff x="838080" y="2362320"/>
            <a:chExt cx="7086600" cy="2946600"/>
          </a:xfrm>
        </p:grpSpPr>
        <p:grpSp>
          <p:nvGrpSpPr>
            <p:cNvPr id="768" name=""/>
            <p:cNvGrpSpPr/>
            <p:nvPr/>
          </p:nvGrpSpPr>
          <p:grpSpPr>
            <a:xfrm>
              <a:off x="838080" y="2362320"/>
              <a:ext cx="7086600" cy="2743200"/>
              <a:chOff x="838080" y="2362320"/>
              <a:chExt cx="7086600" cy="2743200"/>
            </a:xfrm>
          </p:grpSpPr>
          <p:sp>
            <p:nvSpPr>
              <p:cNvPr id="769" name=""/>
              <p:cNvSpPr/>
              <p:nvPr/>
            </p:nvSpPr>
            <p:spPr>
              <a:xfrm>
                <a:off x="838080" y="2362320"/>
                <a:ext cx="7086600" cy="274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8080" y="3505320"/>
                <a:ext cx="708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929160" y="2362320"/>
              <a:ext cx="6846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　    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2" action="ppaction://hlinksldjump"/>
                </a:rPr>
                <a:t>累积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3" action="ppaction://hlinksldjump"/>
                </a:rPr>
                <a:t>损失量</a:t>
              </a: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            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4" action="ppaction://hlinksldjump"/>
                </a:rPr>
                <a:t>继续损失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      </a:t>
              </a:r>
              <a:r>
                <a:rPr b="0" lang="zh-CN" sz="2000" spc="-1" strike="noStrike" u="sng">
                  <a:solidFill>
                    <a:srgbClr val="009688"/>
                  </a:solidFill>
                  <a:uFillTx/>
                  <a:latin typeface="Times New Roman"/>
                  <a:ea typeface="黑体"/>
                  <a:hlinkClick r:id="rId5" action="ppaction://hlinksldjump"/>
                </a:rPr>
                <a:t>生理需要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</a:rPr>
                <a:t>脱水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</a:rPr>
                <a:t>液体量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液体成分 </a:t>
              </a:r>
              <a:r>
                <a:rPr b="1" lang="zh-CN" sz="2000" spc="-1" strike="noStrike">
                  <a:solidFill>
                    <a:srgbClr val="00ff00"/>
                  </a:solidFill>
                  <a:latin typeface="Times New Roman"/>
                </a:rPr>
                <a:t>液体量 液体成分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液体量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液体成分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</a:rPr>
                <a:t>程度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ff00"/>
                  </a:solidFill>
                  <a:latin typeface="Times New Roman"/>
                </a:rPr>
                <a:t>(ml/kg)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zh-CN" sz="2000" spc="-1" strike="noStrike">
                  <a:solidFill>
                    <a:srgbClr val="00ff00"/>
                  </a:solidFill>
                  <a:latin typeface="Times New Roman"/>
                </a:rPr>
                <a:t>(ml/kg)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           (ml/k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fff"/>
                  </a:solidFill>
                  <a:latin typeface="楷体_GB2312"/>
                  <a:ea typeface="楷体_GB2312"/>
                </a:rPr>
                <a:t>中度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50-100 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等渗补   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10-40  1/2-1/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60-80  1/5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/2- 2/3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        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含钠液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钠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完成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8-10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小时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14-16</a:t>
              </a:r>
              <a:r>
                <a:rPr b="1" lang="zh-CN" sz="1800" spc="-1" strike="noStrike">
                  <a:solidFill>
                    <a:srgbClr val="00ff00"/>
                  </a:solidFill>
                  <a:latin typeface="楷体_GB2312"/>
                  <a:ea typeface="楷体_GB2312"/>
                </a:rPr>
                <a:t>小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时间</a:t>
              </a:r>
              <a:r>
                <a:rPr b="1" lang="zh-CN" sz="18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8-10ml/kg.h</a:t>
              </a:r>
              <a:r>
                <a:rPr b="1" lang="zh-CN" sz="1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（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ml/kg.h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PlaceHolder 2"/>
          <p:cNvSpPr>
            <a:spLocks noGrp="1"/>
          </p:cNvSpPr>
          <p:nvPr>
            <p:ph type="title"/>
          </p:nvPr>
        </p:nvSpPr>
        <p:spPr>
          <a:xfrm>
            <a:off x="152352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腹泻病伴中度等渗性脱水，低钾血症，代谢性酸中毒（中度）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6"/>
          <a:stretch/>
        </p:blipFill>
        <p:spPr>
          <a:xfrm>
            <a:off x="0" y="838080"/>
            <a:ext cx="1447920" cy="13161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二）液体疗法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举例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1" dur="1" fill="hold"/>
                                        <p:tgtEl>
                                          <p:spTgt spid="7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Inj 3:2:1 sol  750ml    ivgtt st  (20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滴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750×15/(8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～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10×60)=18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～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23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　 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(8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～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10)×10×15/60=20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～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80520" y="41144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j 6:2:1 sol  250ml    ivgtt st  (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56840" y="4952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j 4:1 sol  750ml   ivgtt st  (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000×15/(1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6×60)=15.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23880" y="9907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ff33"/>
                </a:solidFill>
                <a:latin typeface="Times New Roman"/>
              </a:rPr>
              <a:t>腹泻病伴中度等渗性脱水，低钾血症，代谢性酸中毒（中度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1447920" cy="131616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二）液体疗法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举例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7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619760" cy="2210040"/>
          </a:xfrm>
          <a:prstGeom prst="rect">
            <a:avLst/>
          </a:prstGeom>
          <a:noFill/>
          <a:ln w="38160">
            <a:solidFill>
              <a:srgbClr val="009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重度脱水患儿有周围循环衰竭，应于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/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１小时内静脉输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: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等张含钠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0ml/kg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总量不超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00ml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3801960"/>
            <a:ext cx="7696080" cy="1587600"/>
          </a:xfrm>
          <a:prstGeom prst="rect">
            <a:avLst/>
          </a:prstGeom>
          <a:noFill/>
          <a:ln w="38160">
            <a:solidFill>
              <a:srgbClr val="009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以上为婴幼儿的补液量，随着年龄增长，累积损失量相对减少，学龄前期酌减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1/4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，学龄期酌减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1/3</a:t>
            </a:r>
            <a:r>
              <a:rPr b="1" i="1" lang="zh-CN" sz="3600" spc="-1" strike="noStrike">
                <a:solidFill>
                  <a:srgbClr val="ffff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二）液体疗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457200" y="182880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Arial"/>
              </a:rPr>
              <a:t>如有进食，生理需要量补充要扣除进食所含的水量，不需补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</a:rPr>
              <a:t>60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</a:rPr>
              <a:t>～</a:t>
            </a:r>
            <a:r>
              <a:rPr b="1" i="1" lang="zh-CN" sz="3600" spc="-1" strike="noStrike">
                <a:solidFill>
                  <a:srgbClr val="ffff00"/>
                </a:solidFill>
                <a:latin typeface="Arial"/>
              </a:rPr>
              <a:t>80ml/kg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58320" y="2538000"/>
            <a:ext cx="6953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第一天补液总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轻度脱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20ml/k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度脱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50ml/k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重度脱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80ml/k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33520" y="5029200"/>
            <a:ext cx="8076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生理需要量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总量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累积损失量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继续损失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　　　　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=(120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500ml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-750ml-250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　　　　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=20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00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（二）液体疗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ef9100"/>
                </a:solidFill>
                <a:latin typeface="Arial"/>
                <a:ea typeface="华文新魏"/>
              </a:rPr>
              <a:t>（三）补液护理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5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一步：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黑体"/>
                <a:hlinkClick r:id="rId2" action="ppaction://hlinksldjump"/>
              </a:rPr>
              <a:t>评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内容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5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步：补液准备及解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5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步：补液的速度和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5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病情观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  <a:ea typeface="黑体"/>
              </a:rPr>
              <a:t>评估贯穿于补液全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ef9100"/>
                </a:solidFill>
                <a:latin typeface="Arial"/>
                <a:ea typeface="华文新魏"/>
              </a:rPr>
              <a:t>（三）补液护理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根据评估结果补液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  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i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口服补液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于轻、中度脱水及无呕吐或呕吐不剧烈且能口服的患儿，鼓励患儿少量多次口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补液盐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  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i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静脉补液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建立静脉通路，保证液体按计划输入，特别是重度脱水者，必须尽快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）补充血容量；②按照先盐后糖、先浓后谈、先快后慢、见尿补钾原则（补钾浓度应小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％，每日补钾总量静脉点滴时间不应短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，严禁直接静脉推注）；③每小时巡回记录输液量，必须根据病情调整输液速度，了解补液后第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排尿时间，以估计疗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0" y="6172200"/>
            <a:ext cx="1066680" cy="533520"/>
          </a:xfrm>
          <a:prstGeom prst="wedgeRoundRectCallout">
            <a:avLst>
              <a:gd name="adj1" fmla="val 50444"/>
              <a:gd name="adj2" fmla="val -101189"/>
              <a:gd name="adj3" fmla="val 16667"/>
            </a:avLst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688"/>
                </a:solidFill>
                <a:uFillTx/>
                <a:latin typeface="Arial"/>
                <a:ea typeface="华文新魏"/>
                <a:hlinkClick r:id="rId2" action="ppaction://hlinksldjump"/>
              </a:rPr>
              <a:t>速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85800" y="1219320"/>
            <a:ext cx="8458200" cy="9684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100000">
                <a:srgbClr val="6149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3:10:22Z</dcterms:modified>
  <cp:revision>347</cp:revision>
  <dc:subject/>
  <dc:title>Lorem Ipsum</dc:title>
</cp:coreProperties>
</file>