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6.jpeg" ContentType="image/jpeg"/>
  <Override PartName="/ppt/media/image15.wmf" ContentType="image/x-wmf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7.jpeg" ContentType="image/jpeg"/>
  <Override PartName="/ppt/media/image5.wmf" ContentType="image/x-wmf"/>
  <Override PartName="/ppt/media/image6.jpeg" ContentType="image/jpeg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BD8B-14DF-491F-BE4C-1088DD0C4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3C66-1FE5-4F8A-834F-51190488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6A1A-81F9-4176-B204-A5E5859B5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9ACC-C022-47AA-9518-1AC36E4D9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82D6-4DFF-4F8C-8ECC-00FB5C80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C0A9-400D-4212-ACDB-7816F6B8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AA5E-B099-42C4-9395-8BB4A028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7E9B-F554-419F-822A-E92B6C41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3B16-9CEA-4896-9890-9D014522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9C8A-991D-48A0-AE86-2EF8745D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4459-AD31-4601-8E0F-6562FE7C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68C9-5617-49F8-8972-33D7A2A8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C9A3-F7B4-4230-9EC5-0C2AD7BF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693C-0159-450E-91FC-238C9951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EDB8-54D2-4EAA-BE6B-793330E3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FEE9-D6C9-4CD6-9730-E01F93433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F160-BB63-431F-A8BD-040F81E01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B1B08-CFDE-4E0F-968F-852E25A17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42A17-78E6-4DB8-998A-AA47EA93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59FDE-3D1D-43FD-8388-1E66CC17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661B7-48C2-41EA-909D-085640CB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E6E67-F37A-48C5-8B11-F31F7243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776B-B836-423A-83DC-641007FC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967D1-B2C7-4CD5-9F06-0FE078B6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0B1C8-A0EA-4CDE-A1DA-04F50AB9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4AF05-49A5-4349-AB31-4D900720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68A2A-88CB-4C20-8348-95051711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EA0AA-B961-4FF4-AC2E-64DC0F85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304FE-5573-4C37-809A-08132E727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B4913-51AA-427A-AA33-182DE356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B245D-C152-4143-807A-02C829778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119DE-5551-44BB-BA92-B05A1858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61818-625B-4311-AEC0-46DC8F74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3A25-1637-4F48-9DA5-25B00E68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5FA30-86D5-4C90-804D-71A13512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4EA94-4D61-4F16-BE67-B7C9F052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1BA20-34EA-44B2-A9A0-069F9250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6700D-7211-4399-BA06-BFBA81D2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05049-2EE1-4AC1-9103-DECE2DDF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4B69A-FEA9-43EF-A5DE-FE237046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B43F0-84F5-4D43-A533-653342DB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42FCF-1EC2-4B33-8B45-ABBBD9D41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A224F-7873-4650-B4D9-57104B525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363C-E715-4EF1-B3A3-ED5FB322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34A1-BA38-4AAD-BEE3-448A972C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272A-65D4-4F9A-BACC-FD9899B2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9831-3D2A-4C52-9D44-2369F47F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56F5-D1A9-47D8-99EF-D7797AB1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E22A-AAC2-433A-97A3-32401047D938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D5A9-6462-452B-8B05-08B5EA6BA668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948360" y="5083200"/>
            <a:ext cx="2195640" cy="1774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60640" cy="2340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14AC-2C81-478A-A0E8-548208BAB9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9666-34D6-4549-A41F-F8E910B28A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ttp://www.sompo-japan.co.jp/travel/images/trav03.gif&amp;imgrefurl=http://www.sompo-japan.co.jp/travel/trav005.html&amp;h=171&amp;w=200&amp;sz=6&amp;tbnid=o5zIk1UZvlIJ:&amp;tbnh=84&amp;tbnw=99&amp;hl=zh-CN&amp;start=44&amp;prev=/images%3Fq%3D%25E7%2596%25BE%25E7%2597%2585%26start%3D40%26svnum%3D10%26hl%3Dzh-CN%26lr%3D%26newwindow%3D1%26sa%3DN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131720550&amp;tn=baiduimagedetail&amp;word=&#28508;&#27700;&amp;in=31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bigchina.net/ebcps/2/md/1376492.html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oufa.cn/special/14/2/2515035887.htm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who.int/en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病理生理学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61720" y="414936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唐朝枢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2380680" y="2708280"/>
            <a:ext cx="43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athophysiolog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10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亚健康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sub-health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184464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身心处于健康与疾病之间的健康低质量状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411280" y="2781360"/>
          <a:ext cx="4033800" cy="333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2781360"/>
                    <a:ext cx="403380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疾病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disease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的概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072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机体在一定病因作用下，自稳调节紊乱导致的异常生命活动过程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症状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(symptom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指疾病所引起的患者主观感觉的异常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(sign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通过各种检查方法在患病机体发现的客观存在的异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病理过程（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pathological process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0" lang="zh-CN" sz="3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多种疾病中出现的共同的成套的功能、代谢和结构变化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41280" y="515880"/>
            <a:ext cx="71136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疾病与病理过程的区别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4920" y="2226960"/>
            <a:ext cx="8280360" cy="34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个疾病可包含几个病理过程，故病理过程是疾病的组成成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个病理过程可以由不同原因引起，而疾病由特定原因引起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6560" y="990720"/>
            <a:ext cx="7921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三节 病因学概论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病因学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etiology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27082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疾病发生的原因和条件及其作用规律的科学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72360" y="4375080"/>
            <a:ext cx="19526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11280" y="4437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健康机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64000" y="443700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24360" y="4437000"/>
            <a:ext cx="21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患病机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37880" y="321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利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520" y="5661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利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203640" y="4508640"/>
            <a:ext cx="2442960" cy="457200"/>
          </a:xfrm>
          <a:custGeom>
            <a:avLst/>
            <a:gdLst>
              <a:gd name="textAreaLeft" fmla="*/ 0 w 2442960"/>
              <a:gd name="textAreaRight" fmla="*/ 2443320 w 244296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501336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95640" y="3860640"/>
            <a:ext cx="14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67280" y="5229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27640" y="5516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386064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34200" y="3213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诱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2960" y="920880"/>
            <a:ext cx="78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病因学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Etiolog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43840" y="1989000"/>
            <a:ext cx="35460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疾病发生的原因和条件及其作用规律的科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疾病发生的原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病因 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disease cause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，是指引起某一疾病必不可少的、决定疾病特异性的致病因素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640" y="1537920"/>
            <a:ext cx="4292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物理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暴力、极端的温度、极端的大气压、噪声、电流、紫外线、电离辐射等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2492280"/>
            <a:ext cx="338472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640" y="1537920"/>
            <a:ext cx="4292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化学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强酸、强碱、毒物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651640" y="1844640"/>
            <a:ext cx="273204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第一章   绪  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25520" y="2637000"/>
            <a:ext cx="668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introduction to pathophysiolog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161720" y="414936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唐朝枢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91592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性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病原微生物和寄生虫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特点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一定的入侵门户和定位；病原体和机体相互作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5364000" y="1989000"/>
            <a:ext cx="28069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Verdana"/>
              </a:rPr>
              <a:t>鸡瘟病毒对人无致病作用？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050920" y="1996920"/>
            <a:ext cx="410544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11000" y="1537920"/>
            <a:ext cx="7173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营养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机体必需物质的缺乏或过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6000" y="4098960"/>
            <a:ext cx="265752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6640" y="2133360"/>
            <a:ext cx="4510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神、心理和社会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古罗马医生盖仑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Gale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在其著作中就叙述了关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精神卫生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问题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076720" y="2637000"/>
            <a:ext cx="3743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66280" y="189828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遗传性因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因突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染色体畸变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2565360"/>
            <a:ext cx="37512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66280" y="1898280"/>
            <a:ext cx="8109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先天性因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损害正常胎儿发育的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7077240" y="3645000"/>
            <a:ext cx="132696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3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．免疫性因素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超敏反应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hypersensitivity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自身免疫性病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autoimmune disease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免疫缺陷病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immunodeficiency disease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疾病发生的条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条件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(condition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是指在疾病的病因作用于机体的前提下，能够促进或阻碍疾病发生发展的各种因素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1960200" y="4384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00360" y="3860640"/>
            <a:ext cx="576360" cy="1584360"/>
          </a:xfrm>
          <a:custGeom>
            <a:avLst/>
            <a:gdLst>
              <a:gd name="textAreaLeft" fmla="*/ 368280 w 576360"/>
              <a:gd name="textAreaRight" fmla="*/ 576720 w 5763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34200" y="3586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内在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86400" y="5103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在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条件对疾病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抑制疾病发生发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促进疾病发生发展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826920" y="3500280"/>
            <a:ext cx="720108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够加强某一疾病原因的作用，从而促进疾病发生的因素，称之为诱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precipitating factor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四节 发病学概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755640" y="3736800"/>
            <a:ext cx="741672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病学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athogenesi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是研究疾病发生、发展及转归的普遍规律和机制的科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4360" y="1484280"/>
            <a:ext cx="820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节　病理生理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内容及其学科性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989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一、疾病发生、发展的一般规律及机制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一）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疾病发生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机体的屏障防御作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外部屏障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内部屏障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白细胞、组织细胞、淋巴结、肝、肺、肾、脾、血脑屏障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(blood-brain barrier)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和胎盘屏障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(placenta barrier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一）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疾病发生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致病因素的蔓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组织性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神经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体液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时自稳调节的紊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自我调节机制破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过程中的因果转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原始病因使机体某一部分发生损害后，这种损害又可以作为发病学原因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pathogenetic cause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而引起另一些变化，后者又可作为新的发病学原因而引起新的变化。如此，原因和结果交替不已，使疾病过程不断发展。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200400" y="60948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爆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57600" y="114300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95480" y="1523880"/>
            <a:ext cx="23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织受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33920" y="205740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rId1"/>
          </p:cNvPr>
          <p:cNvSpPr/>
          <p:nvPr/>
        </p:nvSpPr>
        <p:spPr>
          <a:xfrm>
            <a:off x="3200400" y="2514600"/>
            <a:ext cx="122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出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3048120"/>
            <a:ext cx="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57400" y="3505320"/>
            <a:ext cx="38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循环血量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57600" y="411480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16360" y="464832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血压下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518148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666880" y="5791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回心血量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58320" y="685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95680" y="1676520"/>
            <a:ext cx="17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1       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243828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2  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3429000"/>
            <a:ext cx="18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3      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62720" y="401760"/>
            <a:ext cx="253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原始病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initial caus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1447920"/>
            <a:ext cx="685800" cy="4495680"/>
          </a:xfrm>
          <a:custGeom>
            <a:avLst/>
            <a:gdLst>
              <a:gd name="textAreaLeft" fmla="*/ 0 w 685800"/>
              <a:gd name="textAreaRight" fmla="*/ 247680 w 68580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23623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主导环节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leading link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72720" y="2666880"/>
            <a:ext cx="273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发病学原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pathogenetic cause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过程中的因果转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因果转化的发展方向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恶性循环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vicious cyc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良性循环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benign cyc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957240" indent="-490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时的损伤和抗损伤反应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572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lnSpc>
                <a:spcPct val="7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损伤和抗损伤反应间并无严格界限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5724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矛盾的两个方面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0">
              <a:lnSpc>
                <a:spcPct val="3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动态变化过程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0">
              <a:lnSpc>
                <a:spcPct val="4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代偿（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compensation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和适应反应（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adaptive response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是机体抗损伤反应的重要方面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821520" y="620640"/>
            <a:ext cx="7383960" cy="6082560"/>
            <a:chOff x="821520" y="620640"/>
            <a:chExt cx="7383960" cy="6082560"/>
          </a:xfrm>
        </p:grpSpPr>
        <p:sp>
          <p:nvSpPr>
            <p:cNvPr id="294" name=""/>
            <p:cNvSpPr/>
            <p:nvPr/>
          </p:nvSpPr>
          <p:spPr>
            <a:xfrm rot="6074400">
              <a:off x="7179840" y="3586320"/>
              <a:ext cx="1000080" cy="872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808000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821520" y="620640"/>
              <a:ext cx="7102080" cy="6082560"/>
              <a:chOff x="821520" y="620640"/>
              <a:chExt cx="7102080" cy="6082560"/>
            </a:xfrm>
          </p:grpSpPr>
          <p:sp>
            <p:nvSpPr>
              <p:cNvPr id="296" name=""/>
              <p:cNvSpPr/>
              <p:nvPr/>
            </p:nvSpPr>
            <p:spPr>
              <a:xfrm>
                <a:off x="7437960" y="383688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异物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" name=""/>
              <p:cNvGrpSpPr/>
              <p:nvPr/>
            </p:nvGrpSpPr>
            <p:grpSpPr>
              <a:xfrm>
                <a:off x="821520" y="620640"/>
                <a:ext cx="6822720" cy="6082560"/>
                <a:chOff x="821520" y="620640"/>
                <a:chExt cx="6822720" cy="608256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1778760" y="1246320"/>
                  <a:ext cx="5474520" cy="46479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cc66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924360" y="620640"/>
                  <a:ext cx="1264320" cy="5907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rot="2336400">
                  <a:off x="6224760" y="1333440"/>
                  <a:ext cx="132732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rot="13183200">
                  <a:off x="2196720" y="5554440"/>
                  <a:ext cx="1485720" cy="7617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14810400">
                  <a:off x="977040" y="4107600"/>
                  <a:ext cx="997200" cy="9669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rot="8521200">
                  <a:off x="5728680" y="5389200"/>
                  <a:ext cx="126108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rot="19479000">
                  <a:off x="1929240" y="1147680"/>
                  <a:ext cx="103140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16834800">
                  <a:off x="888840" y="2464560"/>
                  <a:ext cx="990720" cy="960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859200" y="1627200"/>
                  <a:ext cx="1400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单核吞噬细胞系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847120" y="2541600"/>
                  <a:ext cx="942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物理性屏障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016320" y="3909960"/>
                  <a:ext cx="790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应激状态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350600" y="5129280"/>
                  <a:ext cx="790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免疫反应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835720" y="459900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炎症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280600" y="360828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凝血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248560" y="2465280"/>
                  <a:ext cx="1095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化学解毒作用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342680" y="69696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射线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616800" y="14749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微生物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060600" y="55897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应激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570400" y="58183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热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141560" y="437040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畸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983160" y="277020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癌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201040" y="132228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创伤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2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21120" y="2625840"/>
                  <a:ext cx="1269360" cy="1973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三）疾病发生的基本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神经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体液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细胞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分子机制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研究对象及任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640" y="3357720"/>
            <a:ext cx="25560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疾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（患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病机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328464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61240" y="3068640"/>
            <a:ext cx="23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病人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atie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07040" y="4149720"/>
            <a:ext cx="369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疾病模型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nimal mode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407664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机能代谢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198900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研究对象为疾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55960" y="5373720"/>
            <a:ext cx="42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任务为揭示机制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mechanis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755640" y="6922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二、疾病转归的一般规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8360" y="3429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疾病的转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16360" y="247032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59280" y="4437000"/>
            <a:ext cx="163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死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59280" y="1916280"/>
            <a:ext cx="314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完全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88000" y="2924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完全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27280" y="285264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84720" y="2276640"/>
            <a:ext cx="299880" cy="1066680"/>
          </a:xfrm>
          <a:custGeom>
            <a:avLst/>
            <a:gdLst>
              <a:gd name="textAreaLeft" fmla="*/ 191520 w 299880"/>
              <a:gd name="textAreaRight" fmla="*/ 300240 w 2998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一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恢复健康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4000" y="2349000"/>
            <a:ext cx="80010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康复 （痊愈 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不完全康复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755640" y="836640"/>
            <a:ext cx="568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二）死亡（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五节   死 亡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死亡的概念和原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是指机体作为一个整体的功能的永久停止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"/>
          <p:cNvSpPr/>
          <p:nvPr/>
        </p:nvSpPr>
        <p:spPr>
          <a:xfrm>
            <a:off x="900000" y="400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死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19280" y="3500280"/>
            <a:ext cx="358920" cy="1295640"/>
          </a:xfrm>
          <a:custGeom>
            <a:avLst/>
            <a:gdLst>
              <a:gd name="textAreaLeft" fmla="*/ 229320 w 358920"/>
              <a:gd name="textAreaRight" fmla="*/ 359280 w 35892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200" y="328464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生理性死亡（老死亡，衰老死亡）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79640" y="4724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病理性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死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4365720"/>
            <a:ext cx="360360" cy="122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08360" y="4221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意外所引起急性死亡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08360" y="4797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重要器官不可恢复性损伤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708360" y="5373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慢性消耗性疾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传统的死亡概念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濒死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临床死亡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生物学死亡期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脑死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8001000" cy="30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脑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brain 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是指包括脑干在内的全脑功能丧失的不可逆转的状态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多数学者以脑干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brain stem 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确定为脑死亡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死亡的判断标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5040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持续深昏迷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呼吸停止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无自主运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脑干反射消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大脑电沉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(electrocerebral silence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其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5219640" y="2781360"/>
            <a:ext cx="39243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及时判断脑死亡的意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66280" y="196992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准确地判断脑死亡利于判断复苏的预后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死体材料的利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确定终止复苏抢救的界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病理生理学的教学内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18208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疾病概论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Introduction to disease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病理过程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pathological process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系统器官病理生理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systemic pathophysiology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          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病理生理学的学科性质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2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综合性学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桥梁学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实践性较强的学科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239840" y="343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病理生理学的研究方法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动物实验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animal experiment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生物学实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分子生物学实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临床研究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clinical observation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不损害病人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二节 健康和疾病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健康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health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的概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2421000"/>
            <a:ext cx="867564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健康不仅没有疾病和病痛，而且在躯体上、心理上和社会上处于完好状态。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身心健康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WHO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5373720"/>
            <a:ext cx="40118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7T15:08:06Z</dcterms:created>
  <dc:creator>aa</dc:creator>
  <dc:description/>
  <dc:language>en-US</dc:language>
  <cp:lastModifiedBy>hzg</cp:lastModifiedBy>
  <dcterms:modified xsi:type="dcterms:W3CDTF">2014-04-22T02:29:22Z</dcterms:modified>
  <cp:revision>210</cp:revision>
  <dc:subject/>
  <dc:title>病理生理学                  (pathophysiology) </dc:title>
</cp:coreProperties>
</file>