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3539-D62A-4000-92FD-8411098AE1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6046-224E-4352-AF8C-5EBABB37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75F9E-813E-4C95-8B2A-06F91AD5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5219-E65C-4CE9-9371-1762E0C632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559D-3733-4A38-A45D-C906A0CA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5269-3124-4075-ABC1-322A2813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6A5F-A062-4CE9-BEB6-DC5C1993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C3FF-82DC-4D7F-A6F8-E184D8C7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04F8-0C63-49BD-ABD7-711CF33E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49BF-B940-4F4E-98DE-51AA56E3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90F1-39AD-4DDF-9119-EADBBBF6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F1BA-32E3-425A-B439-F56105B0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394E-4623-4125-ABCA-DB641AE319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51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排便及排尿活动的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观察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丘桂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四、排便异常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正常的排便形态改变，排便次数减少，排出过于干硬的粪便，使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便秘患者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定时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提供隐秘的环境和充裕的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采取适宜的排便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环状按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合理安排膳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制订适合个体需要的运动计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口服缓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遵医嘱给予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粪便持久滞留堆积在直肠内，坚硬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早期口服缓泻剂或简易通便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油类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人工取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建立并维持排便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三）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排便稀薄或不成形，排便次数增多，可伴有肠痉挛或恶心、呕吐、里急后重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不当或泻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紧张、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分泌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卧床休息、注意腹部保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证水、电解质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肛周皮肤清洁干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观察、记录排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止泻药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四）排便失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肛门括约肌不受意识的控制而不自主地排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原因：神经肌肉系统的病变或损伤、胃肠道疾患、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失禁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保持空气清新、衣被清洁干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加强肛周皮肤护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协助患者重建排便控制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心理支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将一定量的溶液通过肛管，由肛门经直肠灌入结肠，帮助患者排便、排气或灌入药物，以协助诊断和进行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留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保留灌肠：大量不保留灌肠、小量不保留灌肠、清洁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解除便秘、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手术、检查或分娩的患者进行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除肠道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降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便秘、肠胀气、高热、胃肠道手术、分娩前准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液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目的、配合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：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示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以大量不保留灌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制灌肠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大"/>
          <p:cNvPicPr/>
          <p:nvPr/>
        </p:nvPicPr>
        <p:blipFill>
          <a:blip r:embed="rId1"/>
          <a:stretch/>
        </p:blipFill>
        <p:spPr>
          <a:xfrm>
            <a:off x="5219640" y="2205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学习目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影响正常排便及排尿活动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促进正常排尿功能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便秘、腹泻、粪便嵌塞、肠胀气法、真性尿失禁、假性尿失禁、充溢性尿失禁、导尿法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孕妇、急腹症、消化道出血患者不宜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降温灌肠时，可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8~32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等渗盐水，灌后等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排便，便后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量体温记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特殊患者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伤寒者：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液面距肛门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cm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暑者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 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冰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肝性脑病者：禁用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4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随时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软化粪便，促进排便、排气，减轻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或盆腔手术后肠胀气的患者、危重患者、老年体弱、小儿、孕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护士、患者、环境准备同大量不保留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40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5076720" y="3040200"/>
            <a:ext cx="374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灌肠时压力不宜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过多气体进入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小量不保留灌肠"/>
          <p:cNvPicPr/>
          <p:nvPr/>
        </p:nvPicPr>
        <p:blipFill>
          <a:blip r:embed="rId1"/>
          <a:srcRect l="0" t="0" r="0" b="7599"/>
          <a:stretch/>
        </p:blipFill>
        <p:spPr>
          <a:xfrm>
            <a:off x="1187280" y="2997360"/>
            <a:ext cx="5761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镇静、催眠、消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失眠、躁动及肠道感染的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、环境准备：同大量不保留灌肠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水合氯醛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：同小量不保留灌肠，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肛管型号在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号以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前嘱患者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管稍细、插入要深、液体量不宜过多、压力不宜太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肛门、直肠、结肠等手术后的患者或排便失禁者不宜做此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清洁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直肠、结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摄片和手术前的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次、反复、直至排出的液无粪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口服高渗溶液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硫酸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甘露醇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六）简易通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解除便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老人、体弱、久病卧床便秘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开塞露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甘油栓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肠胀气患者的观察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肠胀气患者的护理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去除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协助活动或更换体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热敷、按摩、药物、肛管排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排除肠积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胀气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准备：同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按正确规程实施各种灌肠法和导尿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为患者实施排便和排尿的护理过程中，应理解并尊重患者，会运用恰当的沟通技巧，并在操作过程中始终表现出对患者的关爱，按规程实施，保证患者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不应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216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二节  排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李某：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乳腺切除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未排尿，患者情绪紧张，烦躁不安，诉下腹胀痛难忍，有尿意，无法排尿。体检见耻骨联合上膨隆，可触及一囊性包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发生了什么情况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泌尿系统的解剖及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泌尿系统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脏：产生尿液、清除机体代谢产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尿管：把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膀胱：贮存尿液、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道：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排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响正常排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液体与食物的摄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生理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疾病本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气候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三、排尿的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尿频率：成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夜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~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：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0~2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少尿，无尿、多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尿液性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肉眼血尿、血红蛋白尿、胆红素尿、乳糜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透明度：澄清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无明显氨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p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5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比重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015~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促进正常排尿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入液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运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正常的排尿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供适宜的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有利的排尿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暗示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排尿异常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尿液大量存留在膀胱内而无法自主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机械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动力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液体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潴留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提供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采用适当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暗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热敷、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述处理无效者给予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（二）尿失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的分类及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真性尿失禁：又称完全性尿失禁，指膀胱内稍有一些尿液便会不自主流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一节  排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刘某，男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来持续腹部不适，每天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粪便中伴有黏液，收入胃肠外科，经粪便潜血试验，肠镜检确诊为肠癌，拟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如何分析并评估患者的排便活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外部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必要时遵医嘱给予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病及引起尿失禁的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拓展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341360"/>
          <a:ext cx="8929800" cy="4876920"/>
        </p:xfrm>
        <a:graphic>
          <a:graphicData uri="http://schemas.openxmlformats.org/drawingml/2006/table">
            <a:tbl>
              <a:tblPr/>
              <a:tblGrid>
                <a:gridCol w="522360"/>
                <a:gridCol w="3641760"/>
                <a:gridCol w="47656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目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措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失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心理压力减轻，有早日恢复正常排尿活动有信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皮肤保持完整，无泌尿道感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尿失禁的原因和排尿功能训练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学会正确进行膀胱功能训练和盆底肌肉锻炼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皮肤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设法接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留置导尿管引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室内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观察排尿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多饮水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训练膀胱功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进行盆底肌锻炼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3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潴留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情绪稳定，配合治疗和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膀胱内无尿潴留，保持正常的排尿形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发生尿潴留的原因和预防措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提供隐蔽的排尿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调整体位和姿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热敷、按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必要时根据医嘱肌肉注射卡巴胆碱或针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经上述处理无效时，可采用无菌导尿术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指导养成定时排尿的习惯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教育患者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对某些患者实现有计划地训练床上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在严格无菌操作下，将导尿管经尿道插入膀胱以引流尿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一次性导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输入化疗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尿标本，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潴留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标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膀胱肿瘤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：私密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、配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84720" cy="361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67000" y="1936800"/>
            <a:ext cx="437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短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富于扩张性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道外口位于阴蒂下方，呈矢状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08528"/>
          <p:cNvPicPr/>
          <p:nvPr/>
        </p:nvPicPr>
        <p:blipFill>
          <a:blip r:embed="rId1"/>
          <a:stretch/>
        </p:blipFill>
        <p:spPr>
          <a:xfrm>
            <a:off x="0" y="836640"/>
            <a:ext cx="4356000" cy="487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08529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3998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3772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物品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54372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前消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2833560" cy="39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324828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84328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967680" y="567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口位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67280" y="547848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插入导尿管（用手或血管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男性尿道长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~20c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两个弯曲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耻骨前弯和耻骨下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三个狭窄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尿道内口、膜部和尿道外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168720" cy="303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264360" y="3213000"/>
            <a:ext cx="287964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男患者导尿时消毒与插入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39680" y="5661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改为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0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查对、无菌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护患者隐私、保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选择合适的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误插入阴道，应更换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次放尿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原因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大肠的解剖与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肠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盲肠：有回盲瓣，防止大肠内容物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肠：升、横、降、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肠：两个弯曲：骶曲与会阴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肛管：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~4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肛门内、外括约肌包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留置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持续地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昏迷、瘫痪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泌尿系手术后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盆腔手术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抢救、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失禁者，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的准备同一次性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5" name="Picture 4" descr="12761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38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161593731"/>
          <p:cNvPicPr/>
          <p:nvPr/>
        </p:nvPicPr>
        <p:blipFill>
          <a:blip r:embed="rId2"/>
          <a:stretch/>
        </p:blipFill>
        <p:spPr>
          <a:xfrm>
            <a:off x="5435640" y="2852640"/>
            <a:ext cx="3030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Picture 4" descr="护理6"/>
          <p:cNvPicPr/>
          <p:nvPr/>
        </p:nvPicPr>
        <p:blipFill>
          <a:blip r:embed="rId1"/>
          <a:srcRect l="0" t="0" r="0" b="26502"/>
          <a:stretch/>
        </p:blipFill>
        <p:spPr>
          <a:xfrm>
            <a:off x="468360" y="2421000"/>
            <a:ext cx="33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护理7"/>
          <p:cNvPicPr/>
          <p:nvPr/>
        </p:nvPicPr>
        <p:blipFill>
          <a:blip r:embed="rId2"/>
          <a:srcRect l="0" t="0" r="0" b="8841"/>
          <a:stretch/>
        </p:blipFill>
        <p:spPr>
          <a:xfrm>
            <a:off x="5219640" y="2492280"/>
            <a:ext cx="3600360" cy="311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829160" y="5819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带气囊导尿管留置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23560" y="5511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集尿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损伤尿道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集尿袋应低于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导尿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预防泌尿系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尿液性质，听患者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膀胱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七、膀胱冲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洁膀胱、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向膀胱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留置导尿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炎症、膀胱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无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冲洗速度不宜过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小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是人体排泄废物的主要途径之一。粪便的次数、量、性状、颜色、气味以及所含的混合物，直接反映消化系统的功能状况。 通过本节学习，应学会用护理程序的方法对排便活动进行评估，正确观察粪便，以鉴别其状况正常与否，掌握各种灌肠方法和肛管排气方法，以满足患者排泄的基本生理需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泌尿系统由肾、输尿管、膀胱及尿道组成，通过尿液的生成和排泄，将人体代谢的终产物如尿素、肌酐、尿酸等含氮物质及过剩盐类、有毒物质、药物排出体外。同时调节水、电解质及酸碱平衡，从而维持人体内环境的相对稳定。当泌尿系统功能发生障碍或有病变时，可引起排尿活动异常和（或）尿液的异常。尿液的次数、量、颜色、透明度、气味，可直接反映泌尿系统的功能状况。通过本节学习，应学会用护理程序的方法对排尿活动进行评估，正确观察尿液，以鉴别其性状正常与否，排尿活动能否正常进行，分析影响排尿活动的因素，并针对性地拟定护理计划，给予患者排尿的指导和帮助，以满足其排尿的基本生理需要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郑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69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急性心肌梗死，经抢救病情稳定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周后，患者平时喜食荤菜，常有便秘，护士为其讲解预防便秘的常识，患者复述内容何项需给予纠正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日定时排便一次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适当翻身或下床活动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多食蔬菜、水果和粗粮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摄取适量油脂食物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晚睡前用开塞露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陈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5 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出差当晚腹泻多次，粪便呈果酱样，入院检查初诊为阿米巴痢疾，医嘱用灭滴灵灌肠治疗。护理措施正确的是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前臀部抬高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0cm                       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液面与肛门距离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0~60cm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时患者取右侧卧位       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药液量应少于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后保留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护理尿失禁患者，下列措施哪项不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留置导尿        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膀胱潮式引流     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加强皮肤护理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注意锻炼膀胱的自动反射性排尿功能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减少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为留置导尿患者进行膀胱反射功能锻炼的护理时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温水冲洗外阴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日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每周更换导尿管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间断夹闭引流管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定时给患者翻身     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鼓励患者多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袋状往返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节或多袋推进运动：进食后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集团蠕动：多见于早餐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可训练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排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正常排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龄：婴幼儿、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与饮水：水分、纤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活动：长期卧床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疾病本身：肠道、神经系统方面的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止痛药、缓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：禁食、伤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心理因素：紧张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社会文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环境：私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排便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便的频率与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人每日排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平均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0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婴幼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分：食物残渣、细菌、肠道分泌物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形状和软硬度：柔软成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黄褐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30:10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