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054EC-AA8E-4D26-992F-03DF0037D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C3ACD-1DE6-493F-8CB7-111489336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4F47E-1ED7-4A87-B21F-57C050F85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ADD65-910B-48B9-8B98-5F7924646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6D1CD-9D5F-456D-BCDF-518E494F8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BE184-EF78-4E03-B294-6895E295A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797B2-560F-4B7C-9547-75B189896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9525F-BE8E-480E-9D0C-0F1F9B2B9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BA465-8E93-43FB-A5C4-CCC336141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DEAFD-BA6F-4F92-81BF-F3F1FF8EF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E8D32-A71D-4D97-B685-90F565782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62001-C512-41AF-B108-B4434B864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2D4E6-E886-414A-AEE7-2F741BB6D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B724D-8E81-437C-AAEC-7135D7B9F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5E280-798C-4B3B-8AB8-C2001D4B9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B91F3-8200-409F-9A7A-D0190497C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4297C-B868-42C6-8948-0286A2E03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01B39-4FB0-4968-BD80-01B868A49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564C8-DCC6-4008-9300-93B7AEDBC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502AE-9EDD-408D-BC87-87D61968C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43940-54CC-4A02-B479-F32D7F2E3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E0FA7-A14F-4518-9746-82F574760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11E1A-2E59-4CE3-A929-B767BAF67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36EA9-27DA-47CD-B6DC-1C9AE8998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9EEC-1023-4093-838C-7BB89872EF46}" type="datetime3">
              <a:rPr b="0" lang="en-US" sz="1400" spc="-1" strike="noStrike">
                <a:solidFill>
                  <a:srgbClr val="000000"/>
                </a:solidFill>
                <a:latin typeface="Arial"/>
              </a:rPr>
              <a:t>July 30,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8FB9-EB08-498E-ABA6-E0D3B14DA9F7}"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D36D-D285-49D7-9008-935F6C99AB22}" type="datetime3">
              <a:rPr b="0" lang="en-US" sz="1400" spc="-1" strike="noStrike">
                <a:solidFill>
                  <a:srgbClr val="ffffff"/>
                </a:solidFill>
                <a:latin typeface="Arial"/>
              </a:rPr>
              <a:t>July 30,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1839-5095-445F-A7A1-2095354CCC90}"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A379-E7D3-4535-BC57-33AD15B8D58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A629-8EAF-4E7C-91E1-CB433E53AC1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AB73-E109-40C1-A3A5-BA920E8F4A2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7D9F-F31A-43BF-A6F6-5EA860696C2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E934-E64C-455D-916B-AA729114007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EB21-B589-48CF-85D5-9C004353C57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4AF0-C912-472E-8D21-4F902F6AA0B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389E-D32B-4914-BAFA-D30137AA72F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3D4E-3E11-490F-AB84-438699FFEEF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671C-07A8-40D8-AEFD-76D98FD29AD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0EFA-820E-4522-B6CB-D182B163C83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8D2C-7B2B-4D35-9FF9-B53FEEE9AC4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3DB9-92D6-410B-8AC9-CF3D4D98961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AEC4-2185-469C-9E65-EADA5591D4F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72C1-ACE3-4AA2-B8D2-F3E161569C0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9DD2-E5FF-407B-B27B-C91D9038C20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85BF-B433-4483-BA3D-A4BC9954864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1FE7-3BDB-4B3F-A4C7-730CBB4DA8A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E0C6-CA95-4AED-AB91-E2317077BB81}"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74CC-55CE-470B-BD20-CF27096E211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7F89-6AEA-4420-A4BE-0F126322ED0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0D01-51FF-485A-91E1-B4BB3FF6F29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DDFB-21E8-4419-B107-B0E34F95B05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684B-4DFB-4703-A7BC-FB426C3FC30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22C6-DAC3-40D8-B06A-44049F378A3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6F70-2FAE-4BC3-A2DB-B5DEF53C715F}"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5217-E2D7-434D-85E5-063D6BD9CCA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6AC7-C6B3-4753-813B-A303F9BEA45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D361-6D35-4FD3-898A-BB0F64041FD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4F57-AC71-4BDE-A025-95910B1F80A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E538-904C-405A-B955-6916CE0AFDD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94B5-48D3-4B2B-96EF-DF49F0AD854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97E8-B0A2-407B-B7BE-9CADA63E22E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EBF4-4119-4C5A-B525-B5F82AF9423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7F1D-E9E3-4665-9396-22EEB5E366A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2D1A-8BFA-4316-8A96-1BF6321663A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5D01-9510-4223-B742-5989CB79CA8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0033-095A-465C-872B-EB0BA4499ED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5FD5-CB23-4A6E-A274-E0D175C4F63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E148-B335-4FBA-B85B-876A1D540593}"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B337-448A-41E8-8297-6F8043352C1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5C32-56AE-4B31-8D59-BB1800C5E8E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