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FEE60-E7E1-42F8-872E-6A6B86EC5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EF6BF-6F67-414B-8503-E10852CB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3B983-20A2-45A8-B23E-FB815636E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DD2A9-F069-4A06-A63F-DB7382AA9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502F9-C1EB-40E5-ADD1-E3708788B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B0182-A842-46FF-9F89-3AE6D659A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57DFD-5344-4A27-9DFE-FD19D23BB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0C47D-D6D9-4AD5-892A-E65AE453B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BC03E-B811-4C75-8F5D-CC86932F5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9DCDF-A28A-4DB3-9DA2-C8FA445B3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4A0DD-EF4F-4F98-AB21-5ED04BD21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A5825-13B5-44B9-907A-22D3F2436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83368-4E60-43DA-97E4-9DEB432C2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DE1F7-561D-4CA9-A3EA-06FAC526E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925A3-1541-46AB-B0E8-F6BCDE8FF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734C2-85CB-4611-9F80-8A3B878B9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B91EB-2B73-46B4-BA06-24B02E629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D25A5-9C88-4194-955D-5B059BB79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8567-7F39-4AB2-96E2-FA7BA5F8C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16DC-129F-4505-8AFD-22236719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063A-BC85-408A-88FA-2026AC4F2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EB4C-739C-4200-B00C-946255E5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C06D0-D13A-45B7-A209-70257702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33EF-03BE-42A3-B7E4-0493E46F3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6043-EB07-4284-B967-47B7D478E6EA}"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2625-C470-4D08-BBAD-4AF45F3719F4}"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1090-4875-458E-9666-3B0F13137AC7}" type="datetime3">
              <a:rPr b="0" lang="en-US" sz="1400" spc="-1" strike="noStrike">
                <a:solidFill>
                  <a:srgbClr val="ffffff"/>
                </a:solidFill>
                <a:latin typeface="Arial"/>
              </a:rPr>
              <a:t>July 31,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296B-5583-4045-A7F8-70EE11C9C7F5}"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E93A-D9C7-4F3B-9C6D-4312BC95794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5977-60ED-4781-B9D8-143F34BAD45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E8BF-9334-4DD1-8A5C-CB1875D81D4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AA31-77EA-4280-89C8-CA0D628DCD7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DDF3-A618-4E1C-A65E-AD09A5C0017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E38E-BD9A-4F92-91B5-1E51EA8541A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A69E-C07C-4E7C-A7EA-08B860217D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A35A-2636-4578-8A8B-77967DD4970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7EEF-A06D-4474-99F9-A2D23E3ACB9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5D3E-AE40-415F-B820-E1FF9EDA2BA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9B09-84C0-443F-A236-D4B242DAD3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1167-06AE-4569-993B-ED25B9A9E50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D93A-4370-440B-83B1-96A12AF4F50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C64B-1465-4919-BE55-724B029E40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FF6A-121B-471A-AFB9-65960A8AA92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C260-FB0E-4F96-8794-502ADD9729B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52D0-AA31-43D0-B6C5-82234695756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8BAE-AEDA-47D1-BE28-7B7074FF2BB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75B0-05DB-4C9D-AC2F-E1B46D62523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8798-2288-46AC-AAC7-9E996CB4B7D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E5AF-D923-4514-8C5F-E3E4B139392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D489-483B-4D97-8B7B-CCFD34323CB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EEE1-08DC-4FB4-BD06-4CBEE1815DA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A435-92AF-4EBD-95BE-5C14B959094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A875-F28D-4103-A60D-63D3177B414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92C6-1540-4888-9026-9D1D7809BE89}"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3B0E-9E45-4709-A3EB-6C4AAE7CFFF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14F4-6AE9-4168-84DA-2BCCF1E77B8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52A4-2623-43E6-BB9D-4B0927F43A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6C53-BEF4-4785-8C78-0637E488294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A16E-E55D-404E-9730-35F46AD0880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8A6A-7FC1-4AFD-9538-D4FCADD4E9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3F92-C897-4DEA-8276-F919C00DEEC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F5E3-7B99-45A2-B82A-09032AB4E7F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F4F6-E693-4B86-871C-E94125960A9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12D7-EDC4-4C1B-8E60-CA007BDD7AB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783F-697A-4457-935F-666053B537A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E317-2C90-4F6A-997F-A15C5E3C782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3A94-FD6D-413B-9781-AEE74F0B41C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BDD5-2232-4E31-AF87-EFAD76851A80}"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877C-392C-4A24-83D9-507C554FA87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01B9-1CAD-4E31-9BAE-D64B6227485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