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C971C-F780-46A1-B82B-C032F6C4E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9D490-1E80-436E-A4E5-60FB07B3C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BEAFB-4AC6-4AA8-B884-5C2D9F440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2AC6B-DFE7-4A9B-8064-2B1370C7A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1BB64-0DA9-4B18-9ED4-10D262349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90EF8-3380-4F6D-BF21-299EDA170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CD42C-4FBE-43CF-A5AF-A4F4E211D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781AE-F325-43D7-B8AF-43EF63F11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71F03-FDF1-40EE-B738-77AABF378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F1569-AE01-473B-8075-41DBF9804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48CA9-2E14-4392-B4D5-EA159859A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0602E-CF15-446A-AF65-D408C2546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5A3BE-D91C-43A8-AC4E-28D38A69C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38AB-C1AE-4246-A424-880CD963E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601A4-96CB-46F3-BDBE-A10ACAA37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90B0C-32A0-4DE0-83E5-8CE7C4D3E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C0811-3EAA-4DF8-BB98-37515AC80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89F2E-28D5-4D80-9FF3-CFD8382CB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CB95-AE49-4B15-A1C1-AFC25961E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03941-7B6E-4BA3-B825-1E2CD582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7AC73-6C0B-434C-8AC1-ACDFA1A5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B390-3E4A-4F07-8F6C-6B9A9F95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B679-28C9-4FF3-86AC-47A00A671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D6C9-8EB5-465F-AF13-EA7A7C632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DB7D-AE94-4756-8B29-7CBF1BD88473}"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9F62-9A8F-4073-9D96-DD35FF31BCF5}"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B250-25D2-4E11-8A46-11A5A9B488F5}" type="datetime3">
              <a:rPr b="0" lang="en-US" sz="1400" spc="-1" strike="noStrike">
                <a:solidFill>
                  <a:srgbClr val="ffffff"/>
                </a:solidFill>
                <a:latin typeface="Arial"/>
              </a:rPr>
              <a:t>July 31,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D667-CA0B-4411-8230-51F50F5761B2}"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DCEB-F0FB-4D6A-97E8-EFC8ADBE1B5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63C6-005D-4722-8D61-2D03D2CC99F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2DC2-A762-4477-822C-A17E45AE6C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B9B5-A549-43EA-A399-BA2F4A1629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39E3-429A-4A31-BC82-DB55B40A53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C2E7-3830-4077-A725-96EB4D69812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EAA8-988A-41EA-963B-48E2C2D2078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DF67-F57C-4809-86AB-0CFF26133C6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1C21-12B1-41B3-A2E4-6255E82B72C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6437-AC99-4E3E-94AF-D52BFA0684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6C0A-3540-4F32-8A5A-7369E4A5FA7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8C64-01A8-486F-8F74-938475208BB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95FD-DF27-48D6-9A26-3E0F1CC3C2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4DEF-07EC-4640-8D42-A5A9A059DF6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D56A-27CA-4FD8-A6B6-4438D16713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BE32-D0AF-487D-AAC5-FFF7328AEC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5DCC-D309-4704-91DA-7F4CF218BB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4D63-28F5-486E-ADE0-D27AB9D999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9929-A0AF-47DE-8D45-E3EA297E9B31}"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9395-18C6-445B-8E68-0D0DEC9272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4DDC-E2BC-4982-9788-B7FCD4D2248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91D5-821E-4847-8334-5B3C893E76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A2CB-7E85-436C-B798-D85963AB4F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D5A9-A654-408F-9EFE-DCC85CD331B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E7CB-F059-4B12-BED9-9ABB5B67A0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04CD-F1C7-4B7E-9976-E33F4DC3D365}"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AFB4-C2AD-4E98-8950-A88F9A3CA46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418B-166E-433C-8E66-23DA0C60E43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3E65-238D-4A3B-9D57-2F3B26D904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7DED-5402-4ED9-B7E9-79750BA3045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0605-D728-429F-BBFB-21363B6C56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6EA5-6152-4D31-B1F7-2591104CCD7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1375-1D9C-4B18-8430-E72C70C7AF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FE98-C5B9-48F8-8858-E96963203E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97C3-EF62-44F6-BF9E-566A877E6A9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E7CD-1CEF-4617-BA09-CA6DDB6070C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87E4-F4B7-4CF6-9EA0-8491C1E26A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0289-010D-4B7C-9EC4-AE196206F2A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094A-172A-43BD-A402-3F35D24EE0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9355-23DB-49C0-A300-FE5E19A095CD}"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418F-4F52-49A1-96E5-97AAC8880A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C555-A87A-4CA6-9679-4FF319B6B41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