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4D16-76C9-45E7-BF9E-72288FAA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D152-F724-42C1-9C8D-0F5D7198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4076-A6CE-453A-A7E9-6169D7E7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80C1-F608-4557-A261-D50B933F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DBF-B463-4083-B88A-350916F9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B611-6F14-489B-A5A0-D17D745F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BB8A-C18D-4723-BD83-F9C101DD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A443-3288-4125-AC13-C83AE196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C6C3-57B0-4C36-815E-D472713B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FA8A-C932-41AC-A06A-12954D4B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4BE6-9E11-420D-9AF4-7776414D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879A-673D-4F45-BDB7-32630C5E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D8D8-8D05-4F29-8B5C-A51653AC7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八章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细胞增殖调控分子</a:t>
            </a:r>
            <a:br>
              <a:rPr sz="48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egulators of Cellular Proliferatio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二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肿瘤抑制基因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umor suppressor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989000"/>
            <a:ext cx="770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肿瘤抑制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tumor suppressor gen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160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抑制细胞过度生长、增殖从而遏制肿瘤形成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404640"/>
            <a:ext cx="6337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肿瘤抑制基因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728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杂交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429000" y="3429000"/>
            <a:ext cx="1752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328760" y="1833480"/>
            <a:ext cx="6077520" cy="1106280"/>
            <a:chOff x="1328760" y="1833480"/>
            <a:chExt cx="6077520" cy="1106280"/>
          </a:xfrm>
        </p:grpSpPr>
        <p:sp>
          <p:nvSpPr>
            <p:cNvPr id="63" name="Text Box 5"/>
            <p:cNvSpPr/>
            <p:nvPr/>
          </p:nvSpPr>
          <p:spPr>
            <a:xfrm>
              <a:off x="1328760" y="188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328760" y="2419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995560" y="22903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995560" y="2595240"/>
              <a:ext cx="312480" cy="15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2995560" y="25189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08040" y="2518920"/>
              <a:ext cx="140580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5518800" y="2266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438360" y="183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1192320" y="3333600"/>
            <a:ext cx="6180480" cy="1054080"/>
            <a:chOff x="1192320" y="3333600"/>
            <a:chExt cx="6180480" cy="1054080"/>
          </a:xfrm>
        </p:grpSpPr>
        <p:sp>
          <p:nvSpPr>
            <p:cNvPr id="72" name="Text Box 14"/>
            <p:cNvSpPr/>
            <p:nvPr/>
          </p:nvSpPr>
          <p:spPr>
            <a:xfrm>
              <a:off x="1192320" y="333360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1192320" y="386712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3464280" y="33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98880" y="3510000"/>
              <a:ext cx="31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3019680" y="366228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3019680" y="389052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3335760" y="3890880"/>
              <a:ext cx="14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5485320" y="36385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1328400" y="4653000"/>
            <a:ext cx="5362200" cy="725400"/>
            <a:chOff x="1328400" y="4653000"/>
            <a:chExt cx="5362200" cy="725400"/>
          </a:xfrm>
        </p:grpSpPr>
        <p:sp>
          <p:nvSpPr>
            <p:cNvPr id="81" name="Text Box 23"/>
            <p:cNvSpPr/>
            <p:nvPr/>
          </p:nvSpPr>
          <p:spPr>
            <a:xfrm>
              <a:off x="1328400" y="4857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3231360" y="4653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失去某些基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5656320" y="4857840"/>
              <a:ext cx="1034280" cy="520560"/>
            </a:xfrm>
            <a:prstGeom prst="rect">
              <a:avLst/>
            </a:prstGeom>
            <a:noFill/>
            <a:ln w="93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e377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6"/>
            <p:cNvSpPr/>
            <p:nvPr/>
          </p:nvSpPr>
          <p:spPr>
            <a:xfrm>
              <a:off x="2883960" y="5186160"/>
              <a:ext cx="23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"/>
          <p:cNvPicPr/>
          <p:nvPr/>
        </p:nvPicPr>
        <p:blipFill>
          <a:blip r:embed="rId1"/>
          <a:stretch/>
        </p:blipFill>
        <p:spPr>
          <a:xfrm>
            <a:off x="468360" y="1700280"/>
            <a:ext cx="795636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042920" y="404640"/>
            <a:ext cx="5545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常见的肿瘤抑制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11280" y="836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视网膜母细胞瘤基因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图18-1"/>
          <p:cNvPicPr/>
          <p:nvPr/>
        </p:nvPicPr>
        <p:blipFill>
          <a:blip r:embed="rId1"/>
          <a:stretch/>
        </p:blipFill>
        <p:spPr>
          <a:xfrm>
            <a:off x="1116000" y="1844640"/>
            <a:ext cx="65786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5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蛋白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图18-2"/>
          <p:cNvPicPr/>
          <p:nvPr/>
        </p:nvPicPr>
        <p:blipFill>
          <a:blip r:embed="rId1"/>
          <a:srcRect l="15981" t="8741" r="0" b="0"/>
          <a:stretch/>
        </p:blipFill>
        <p:spPr>
          <a:xfrm>
            <a:off x="1116000" y="981000"/>
            <a:ext cx="640224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肿瘤抑制基因具有多种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1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染色体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2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控细胞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细胞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三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生长因子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owth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700280"/>
            <a:ext cx="7488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生长因子</a:t>
            </a: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(growth factor)</a:t>
            </a:r>
            <a:r>
              <a:rPr b="1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质膜上特异的受体，将信息传递至细胞内部，调节细胞生长与增殖的多肽类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404640"/>
            <a:ext cx="25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4880" y="59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58920" y="1052640"/>
            <a:ext cx="590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作用模式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内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end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旁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para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自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aut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1280" y="191592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一  节  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癌   基   因</a:t>
            </a: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ncoge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rcRect l="31991" t="0" r="0" b="0"/>
          <a:stretch/>
        </p:blipFill>
        <p:spPr>
          <a:xfrm>
            <a:off x="2843280" y="1557360"/>
            <a:ext cx="6048360" cy="40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8"/>
          <p:cNvPicPr/>
          <p:nvPr/>
        </p:nvPicPr>
        <p:blipFill>
          <a:blip r:embed="rId2"/>
          <a:srcRect l="0" t="0" r="71272" b="0"/>
          <a:stretch/>
        </p:blipFill>
        <p:spPr>
          <a:xfrm>
            <a:off x="287280" y="1557360"/>
            <a:ext cx="25560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492360" y="2565360"/>
            <a:ext cx="26593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产生相应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3716280"/>
            <a:ext cx="2179800" cy="8254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胞内相关蛋白质被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19880" y="1484280"/>
            <a:ext cx="12780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膜受体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68360" y="2565360"/>
            <a:ext cx="23274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酪氨酸激酶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94800" y="4005360"/>
            <a:ext cx="13572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蛋白激酶活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9640" y="5373720"/>
            <a:ext cx="275436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7640" y="5373720"/>
            <a:ext cx="1515960" cy="45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楷体"/>
              </a:rPr>
              <a:t>基因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05440" y="1484280"/>
            <a:ext cx="146088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104e0"/>
                </a:solidFill>
                <a:latin typeface="Times New Roman"/>
                <a:ea typeface="华文楷体"/>
              </a:rPr>
              <a:t>胞内受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1332000" y="1989000"/>
            <a:ext cx="38088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1989000"/>
            <a:ext cx="13716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332000" y="3121200"/>
            <a:ext cx="0" cy="6094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332000" y="4653000"/>
            <a:ext cx="0" cy="601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59280" y="3213000"/>
            <a:ext cx="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2843280" y="4221000"/>
            <a:ext cx="91440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429000" y="5638680"/>
            <a:ext cx="762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88000" y="256536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生长因子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–</a:t>
            </a:r>
            <a:r>
              <a:rPr b="1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受体复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67640" y="198900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7667640" y="4869000"/>
            <a:ext cx="0" cy="7617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6156360" y="5587560"/>
            <a:ext cx="1495440" cy="190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03280" y="404640"/>
            <a:ext cx="6121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生长因子作用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588000" y="414972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活化相关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7667640" y="350028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979640" y="6453360"/>
            <a:ext cx="2448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图18-3"/>
          <p:cNvPicPr/>
          <p:nvPr/>
        </p:nvPicPr>
        <p:blipFill>
          <a:blip r:embed="rId1"/>
          <a:stretch/>
        </p:blipFill>
        <p:spPr>
          <a:xfrm>
            <a:off x="539640" y="399960"/>
            <a:ext cx="7707600" cy="578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6"/>
          <p:cNvPicPr/>
          <p:nvPr/>
        </p:nvPicPr>
        <p:blipFill>
          <a:blip r:embed="rId1"/>
          <a:stretch/>
        </p:blipFill>
        <p:spPr>
          <a:xfrm>
            <a:off x="1619280" y="692280"/>
            <a:ext cx="5832360" cy="581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四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周期相关蛋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细胞周期蛋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yclin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周期蛋白是一类伴随细胞周期的不同阶段表达、累积和降解的蛋白质因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图18-4"/>
          <p:cNvPicPr/>
          <p:nvPr/>
        </p:nvPicPr>
        <p:blipFill>
          <a:blip r:embed="rId1"/>
          <a:srcRect l="0" t="0" r="11526" b="21512"/>
          <a:stretch/>
        </p:blipFill>
        <p:spPr>
          <a:xfrm>
            <a:off x="2700360" y="2852640"/>
            <a:ext cx="3301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周期蛋白依赖性蛋白激酶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yclin-dependent protein kina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周期蛋白依赖性蛋白激酶是一类丝氨酸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/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苏氨酸蛋白激酶，在细胞周期的调节中起关键作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58920" y="1125360"/>
          <a:ext cx="6626160" cy="4757760"/>
        </p:xfrm>
        <a:graphic>
          <a:graphicData uri="http://schemas.openxmlformats.org/drawingml/2006/table">
            <a:tbl>
              <a:tblPr/>
              <a:tblGrid>
                <a:gridCol w="901800"/>
                <a:gridCol w="907920"/>
                <a:gridCol w="2708280"/>
                <a:gridCol w="210816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之结合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用的细胞周期或功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裂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哺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1, 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5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ronal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-activating 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抑制蛋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otor of 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抑制蛋白是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负调节因子，与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竞争性结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拮抗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作用，阻止细胞经过“检测点”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heckpoint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，调节细胞周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776320" y="1135440"/>
            <a:ext cx="31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Cyclin-CDK-CKI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相互作用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060640"/>
          <a:ext cx="6985080" cy="2952720"/>
        </p:xfrm>
        <a:graphic>
          <a:graphicData uri="http://schemas.openxmlformats.org/drawingml/2006/table">
            <a:tbl>
              <a:tblPr/>
              <a:tblGrid>
                <a:gridCol w="1111320"/>
                <a:gridCol w="1746360"/>
                <a:gridCol w="1406520"/>
                <a:gridCol w="27208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yl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细胞周期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B(B1,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(D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C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S,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15, p16, p21, p27, p18, p19, 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1844640"/>
            <a:ext cx="749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onco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华文楷体"/>
                <a:ea typeface="华文楷体"/>
              </a:rPr>
              <a:t>细胞内控制细胞生长和分化的基因，它的结构异常或表达异常，可以引起细胞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五 节</a:t>
            </a:r>
            <a:br>
              <a:rPr sz="4400"/>
            </a:b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增殖异常与疾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增殖异常是肿瘤发生的重要细胞学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监控机制受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1/S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2/M 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驱动机制失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异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增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I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表达不足和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某些心血管疾病也存在细胞增殖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发性高血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动脉粥样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心肌肥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916280"/>
            <a:ext cx="741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4b22"/>
                </a:solidFill>
                <a:latin typeface="Times New Roman"/>
                <a:ea typeface="华文楷体"/>
              </a:rPr>
              <a:t>病毒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(virus oncogene,v-o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病毒基因组中的癌基因，它不编码病毒的结构成分，对病毒复制也没有作用，但可以使细胞持续增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116000" y="40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病毒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0180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癌基因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ellular-oncogene, c-on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生物正常细胞基因组中的癌基因，或称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原癌基因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proto-oncogenes , pro-onc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88080" y="1550880"/>
            <a:ext cx="318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泛存在于生物界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因序列高度保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通过其产物蛋白质来体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被激活后，形成癌性的细胞转化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16000" y="333360"/>
            <a:ext cx="59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分类及其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773360"/>
            <a:ext cx="763272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根据原癌基因的表达产物在细胞中的定位和功能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en-US" sz="2800" spc="-1" strike="noStrike">
                <a:solidFill>
                  <a:srgbClr val="9f29ab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酪氨酸蛋白激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C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8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类人血小板源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08000" y="1052640"/>
            <a:ext cx="66963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启动子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点突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转座子跳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四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染色体易位与重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基因扩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8000" y="4724280"/>
            <a:ext cx="597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新的表达产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过量的正常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异常、截短的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71640" y="404640"/>
            <a:ext cx="5472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癌基因活化的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40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癌基因被激活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413000"/>
            <a:ext cx="756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细胞外生长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--P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跨膜的生长因子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三）细胞内信号传导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K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c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四）核内转录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42920" y="404640"/>
            <a:ext cx="6553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原癌基因的产物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4:13:42Z</dcterms:created>
  <dc:creator>thtfpc user</dc:creator>
  <dc:description/>
  <dc:language>en-US</dc:language>
  <cp:lastModifiedBy>ZhangLL</cp:lastModifiedBy>
  <dcterms:modified xsi:type="dcterms:W3CDTF">2014-12-04T03:24:07Z</dcterms:modified>
  <cp:revision>18</cp:revision>
  <dc:subject/>
  <dc:title>第十八章  细胞增殖调控分子 </dc:title>
</cp:coreProperties>
</file>