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7A60-439F-4381-BE2A-FAC37822BC5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D22C-3D04-4D2A-822E-38774854643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01A0-1C08-41B7-B720-D350626817A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985E-7A7C-4CDC-A156-841688DB772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160E-0A5F-466D-9E91-BFDB15391EB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E652-D949-4B4A-864B-20C5BB30731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47D6-A244-40AA-8B45-490F25BC852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6550-B4C2-4E82-BD43-77F054007ED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ED52A-DB38-4545-83DA-1E9384241C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1FF1B-9C6F-4BD5-99F9-FB0DED53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D14A7-2335-4BBF-820D-0FDAE011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F6398-97D8-4C49-B035-A710731FB3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53961-84EA-466E-8864-EB60DA41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2EF67-3995-417E-B8D3-758BF213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24559-E33B-4422-8F3C-0A40B091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C2457-110E-4E42-ADA3-0A07CCDD6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42B73-5955-4E0A-A5A0-41A8D4BD7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8FE1F-EF49-49C6-8359-E36605AD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F876C-2011-4FFA-9CD1-4E2B8438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C0CE8-D37E-4A6D-BF70-34520C31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5442-3A65-4586-BC5F-E2FEC13F903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20500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固定胸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肺部并发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多根单处肋骨骨折合并骨折端错位，入院后，完善术前准备，在全麻下行肋骨骨折切开复位内固定术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术后如何对患者进行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肋骨骨折导致的疼痛、胸廓运动受限、反常呼吸运动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气体交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监测体温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深呼吸、咳嗽、咳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更换创面敷料，保持敷料清洁、干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行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，了解骨折愈合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积气称为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胸膜腔的压力情况，气胸可分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多并发于刀刃锐器或弹片火器等导致的胸部穿透伤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胸膜腔与外界相通，空气可随呼吸自由进出胸膜腔，胸膜腔内压几乎等于大气压，患侧肺将完全萎陷致呼吸功能障碍。患侧胸膜腔内压高于健侧，纵隔向健侧移位，使健侧肺扩张受限，表现为吸气时纵隔向健侧移位，呼气时又移回患侧，导致其随呼吸而左右摆动，称为纵隔扑动（</a:t>
            </a:r>
            <a:r>
              <a:rPr b="0" lang="en-US" sz="2000" spc="-1" strike="noStrike">
                <a:solidFill>
                  <a:srgbClr val="046ca6"/>
                </a:solidFill>
                <a:latin typeface="华文新魏"/>
              </a:rPr>
              <a:t>mediastinal flutter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2700360" y="4060800"/>
            <a:ext cx="2333520" cy="1857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651640" y="4059360"/>
            <a:ext cx="2108160" cy="1858680"/>
          </a:xfrm>
          <a:prstGeom prst="rect">
            <a:avLst/>
          </a:prstGeom>
          <a:ln w="0">
            <a:noFill/>
          </a:ln>
        </p:spPr>
      </p:pic>
      <p:sp>
        <p:nvSpPr>
          <p:cNvPr id="166" name="矩形 4"/>
          <p:cNvSpPr/>
          <p:nvPr/>
        </p:nvSpPr>
        <p:spPr>
          <a:xfrm>
            <a:off x="4539960" y="6262560"/>
            <a:ext cx="15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3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纵隔扑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5"/>
          <p:cNvSpPr/>
          <p:nvPr/>
        </p:nvSpPr>
        <p:spPr>
          <a:xfrm>
            <a:off x="3311280" y="59659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A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气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矩形 6"/>
          <p:cNvSpPr/>
          <p:nvPr/>
        </p:nvSpPr>
        <p:spPr>
          <a:xfrm>
            <a:off x="6180120" y="59072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气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肋骨骨折的发生因素、辅助检查、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反常呼吸运动、纵隔扑动、闭合性气胸、开放性气胸、张力性气胸、心脏压塞等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血胸的临床表现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胸膜腔闭式引流的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前左上胸部被汽车撞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呼吸急促，口唇青紫，颈静脉怒张不明显。气管移向右侧。左胸廓饱满，呼吸运动较右胸弱。左胸壁有骨擦音，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处压痛明显。颈部、胸部可触及皮下气肿。左胸叩诊鼓音，听诊呼吸音消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，左侧胸膜腔严重积气，肺完全萎陷，气管移向右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肺萎陷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小量气胸，对呼吸循环影响小，患者可无明显症状；肺萎陷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~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量气胸，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大量气胸，中大量气胸可出现胸闷、胸痛、气促、呼吸困难或发绀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明显呼吸困难、鼻翼扇动、口唇发绀，严重者有休克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呼吸时可闻及空气进出胸膜腔的吸吮样音；颈胸部皮下可触及捻发音；患侧胸廓饱满，心脏、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严重或极度呼吸困难、发绀、烦躁、意识障碍、大汗淋漓，甚至昏迷、休克，也可出现窒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叩诊呈鼓音，听诊呼吸音消失；气管、心脏明显移向健侧，颈静脉怒张，面、颈、胸部广泛捻发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量气胸者积气可自行吸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封闭伤口，使之变为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入院后给予清创、缝合伤口，行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行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漏气而肺复张困难时应立即剖胸探查并修补裂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张力性气胸、休克、多根肋骨骨折，入院后给予胸膜腔穿刺、补充血容量、胸膜腔闭式引流、镇痛、固定胸廓、防治感染等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损伤、疼痛、胸廓活动受限或肺萎陷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闭合性气胸、开放性气胸、张力性气胸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钝性心脏损伤与穿透性心脏损伤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794200" y="2205000"/>
            <a:ext cx="3114720" cy="2736720"/>
          </a:xfrm>
          <a:prstGeom prst="rect">
            <a:avLst/>
          </a:prstGeom>
          <a:ln w="0">
            <a:noFill/>
          </a:ln>
        </p:spPr>
      </p:pic>
      <p:sp>
        <p:nvSpPr>
          <p:cNvPr id="206" name="矩形 4"/>
          <p:cNvSpPr/>
          <p:nvPr/>
        </p:nvSpPr>
        <p:spPr>
          <a:xfrm>
            <a:off x="6078960" y="5516640"/>
            <a:ext cx="197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6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胸膜腔闭式引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引流装置：目前临床多使用一次性胸膜腔引流装置。水封瓶的橡胶塞上有两个孔，分别插入长、短玻璃管，瓶中盛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无菌生理盐水，短玻璃管下口远离液面，长玻璃管下口插入液面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使用时，长玻璃管上的橡皮管与胸膜腔引流管相连接，接通后长管内水柱升高至液面以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~1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并随患者呼吸上下波动。若无波动，提示引流管不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管道密闭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执行无菌技术，防止逆行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一般置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~7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引流瓶中无气体溢出，引流液颜色变淡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引流量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脓液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患者无呼吸困难或气促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显示肺复张良好，即可考虑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胸膜腔内积血，可与气胸同时存在，称为血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量血胸（成人≤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无明显症状；中量血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~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和大量血胸（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出现低血容量性休克的表现和呼吸困难、气促等胸膜腔积液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胸廓饱满，气管向健侧移位，叩诊呈浊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46ca6"/>
                </a:solidFill>
                <a:latin typeface="华文新魏"/>
              </a:rPr>
              <a:t>心理社会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多能自行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、大量血胸应行胸膜腔穿刺抽出积血或行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应在抗休克治疗的同时，紧急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应待病情稳定后尽早手术清除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应及时行胸膜腔闭式引流，必要时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血容量不足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肺组织受压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、休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的循环血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1600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与有效咳嗽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轻者无明显症状，重者可出现胸闷、胸痛、心悸、气促、呼吸困难，甚至心绞痛等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偶可闻及心包摩擦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心脏破裂、心包裂口持续开放且流出通畅时，可见胸壁伤口不断涌出鲜血，患者出现面色苍白、皮肤湿冷、呼吸浅快、脉搏细速、血压下降等低血容量休克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心包无裂口或裂口较小、流出不通畅时，可导致心脏压塞，表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eck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：静脉压增高，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颈静脉怒张；心音遥远，脉搏微弱；脉压小，动脉压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损伤轻者可给予补充血容量、吸氧、镇痛等治疗，非手术治疗期间需严密观察病情变化。损伤重者可在体外循环下实施房、室间隔缺损修补术、瓣膜置换术、腱索或乳头肌修复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生心脏压塞或低血容量性休克者，立即行开胸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破裂和心脏及胸膜腔内出血、心律失常和心力衰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和肺部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指暴力直接或间接作用于肋骨，使肋骨的完整性和连续性中断，是最常见的胸部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常因外来暴力所致，部分肋骨骨折见于恶性肿瘤发生肋骨转移的患者或严重骨质疏松者。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最易发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疼痛、压痛，严重者有呼吸困难、发绀或休克等。多根多处肋骨骨折患者可出现反常呼吸运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、镇痛、防治肺部并发症，对多根多处肋骨骨折患者应给予紧急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注意改善呼吸功能，避免呼吸道并发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分为闭合性、开放性和张力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种。开放性气胸患者因胸膜腔与外界相同可出现纵隔扑动，张力性气胸患者胸腔内压力进行性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为肺受压表现，开放性气胸和张力性气胸为临床重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开放性气胸应给予封闭伤口，张力性气胸应紧急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作好胸腔闭式引流的护理以及预防呼吸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常与肋骨骨折或气胸同时存在，胸膜腔内积血可压迫肺组织，同时出血量大时可出现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及时补充血容量，改善呼吸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好胸腔闭式引流的护理，同时注意观察进行性出血征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为钝性心脏损伤和穿透性心脏损伤。前者多由胸部撞击、减速、挤压、冲击等暴力所致；后者多由锐器、火器等穿透胸壁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钝性心脏损伤轻者无明显症状，重者可出现胸闷、胸痛、心悸、气促、呼吸困难，甚至心绞痛等表现；穿透性心脏损伤可出现出血性休克，也导致心脏压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给予补充血容量、吸氧、镇痛等治疗；重者需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配合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和同学打架时不慎被水果刀刺伤左前胸部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由同学送至医院急诊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面色苍白，左胸壁伤口不断有鲜血涌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诊在全麻下行开胸探查术。术中诊断为穿透性心脏损伤，缝合伤口，清除积血，置入胸腔引流管行胸膜腔闭式引流。术后送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C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该患者术后的护理要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前伤口不断流血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存在“外周组织灌注无效：与心脏破裂出血有关”；水果刀刺伤左前胸部，存在“急性疼痛：与组织损伤有关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护理要点包括：①严密观察患者的体温、脉搏、呼吸、血压、神志及尿量变化，并做好记录，如有异常，及时通知医生并协助处理。②保持输液管路通畅，遵医嘱积极补充血容量。③鼓励患者深呼吸、咳嗽以促进肺扩张，维持有效气体交换。④缓解疼痛，咳嗽时协助患者按压胸部伤口，以减轻疼痛，必要时遵医嘱给予镇痛药物。⑤做好胸膜腔闭式引流的护理，保持管道的密闭性，定时更换引流装置，严格无菌技术操作，保持引流通畅，观察引流液的量、色、质。⑥保持切口敷料清洁、干燥并及时更换，遵医嘱合理使用抗生素，以防治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肋骨骨折的好发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反常呼吸运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创伤性窒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骨折断端是否与外界相通，可以分为开放性肋骨骨折和闭合性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损伤程度，可以分为单根单处肋骨骨折、单根多处肋骨骨折、多根单处肋骨骨折和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纵隔扑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放性气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张力性气胸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爆震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张力性气胸的紧急处理措施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管插管辅助呼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抗休克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迅速排气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胸探查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心脏损伤时最容易受损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包内大血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胸膜腔闭式引流患者拔管指征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瓶中无气体溢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液颜色变浅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无呼吸困难或气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显示肺复张良好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引流液体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0ml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B    2. D    3. B    4. C    5. A    6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枷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根多处肋骨骨折可使局部胸壁失去完整肋骨支撑而软化，出现反常呼吸运动，即吸气时软化区胸壁内陷，呼气时外突，又称连枷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500720" y="2133720"/>
            <a:ext cx="4643280" cy="2735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5833080" y="5157720"/>
            <a:ext cx="19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1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常呼吸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及右胸部致胸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清合作，表情痛苦，胸廓无畸形，右胸壁有骨擦音，右胸腋后线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处压痛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：右胸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端错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液气胸影像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疼痛、咯血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部位可有压痛、骨擦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根多处肋骨骨折者可出现反常呼吸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2T13:15:29Z</dcterms:modified>
  <cp:revision>91</cp:revision>
  <dc:subject/>
  <dc:title>内科护理学</dc:title>
</cp:coreProperties>
</file>