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23462-0832-4A21-9B5F-49BAFF513F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21BDD-7281-4BE9-8021-FC6AEFFA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9FDE5-5AE8-4E38-9450-23D25719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C842D-0B1E-4D31-AD96-4E95697A9E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DDCCD-A735-41B5-BDF7-81ED9045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60A0D-D7BF-4D2C-A6CB-E1021B5B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0EE15-F179-4E75-8E80-78093EF3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5799D-1A87-47B1-B068-CDBD46C1F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84AE9-5D68-45B4-B52F-E03443BE4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6AB00-A7F3-45EB-B915-135FEE48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588AF-744D-45F0-9AD3-433FFA12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486BD-459A-4E46-B64A-2A331725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80A5-D1F9-4274-9F2B-D607008BB74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34936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脑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需特殊治疗，主要观察有无脑损伤及处理脑脊液漏、脑神经损伤等合并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患者诊断为“左额骨、颅骨前中窝粉碎性骨折、左额颞叶脑挫裂伤”，给予清创、止血、脱水等对症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针对该患者的脑脊液外漏应采取哪些护理措施？②住院期间应重点监护哪些方面的病情变化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导致脑脊液外漏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出血、颅内压增高、颅内低压综合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外漏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促进颅内外漏通道尽早闭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损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rain injury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由于暴力作用致脑膜、脑组织、脑血管以及脑神经的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短暂的意识障碍，一般不超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醒后大多不能回忆受伤当时乃至伤前一段时间的情况，临床称为逆行性遗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trograde amn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震荡通常无需特殊治疗。一般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，可完全恢复。适当给予镇痛、镇静等对症处理，禁用吗啡及哌替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预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震荡后遗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疏导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创造舒适、安静环境，消除陌生环境带来的不安。讲解疾病相关知识、治疗与预后，正确认识疾病，减轻患者焦虑与恐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相应的对症药物，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生命体征、意识状态、瞳孔及神经系统病征的观察，及时发现合并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颅底骨折和脑损伤的临床表现及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归纳不同类型颅脑损伤患者意识障碍的发生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颅骨骨折和脑损伤的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脑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挫裂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erebral contusion and lacera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暴力作用于头部，造成脑组织的器质性损伤，包括脑挫伤和脑裂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灶症状和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、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与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膜刺激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是首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3311640" cy="37576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5651640" y="5589720"/>
            <a:ext cx="3024000" cy="52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-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脑挫裂伤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扫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治脑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促进脑功能恢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  与脑损伤后高代谢、呕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损伤后意识障碍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调节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干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瞳孔变化观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经系统症状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抬高床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补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躁动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化道出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患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颅内血肿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intracranial hematom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颅脑外伤导致颅内出血、血凝块在颅腔内积聚并达到一定的体积，形成局限性的占位病变，引起相应的症状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。因不慎从高处坠落头部外伤，伤后呼之不应，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后清醒，诉头痛，并呕吐数次，伴肢体抽搐，送入医院急诊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查体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6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查体合作，双侧瞳孔等大等圆，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对光反射灵敏，双眼眶青紫肿胀明显，口鼻、左外耳道出血，头面部、眼睑可见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显示左额骨、颅骨前中窝粉碎性骨折、颅内积气、左额颞叶脑挫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既往无高血压、冠心病、糖尿病等病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应着重从哪几个方面进行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外血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及脑疝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内血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协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368360" y="3294000"/>
            <a:ext cx="2665440" cy="2913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5292720" y="3289320"/>
            <a:ext cx="2664000" cy="29178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7"/>
          <p:cNvSpPr/>
          <p:nvPr/>
        </p:nvSpPr>
        <p:spPr>
          <a:xfrm>
            <a:off x="1627200" y="6275520"/>
            <a:ext cx="214632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外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5433840" y="6229440"/>
            <a:ext cx="238140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4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下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意识障碍  与颅内血肿、颅内压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伤口及引流管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敷料清洁、干燥，严格无菌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血肿腔引流患者，可给予头低脚高位，以便充分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脑室外引流的患者，引流管装置应高出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距侧脑室前角水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引流管通畅，防扭曲、受压；及时观察并记录引流液的色、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二便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门诊随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3652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骨骨折：暴力致颅骨结构改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损伤：暴力致脑膜、脑组织、脑血管以及脑神经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骨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线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压痛、肿胀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凹陷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可扪及下陷区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前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鼻出血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球结膜下瘀血斑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中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外漏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后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枕下部肿胀及皮下瘀血斑、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Ⅻ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损伤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震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逆行性遗忘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挫裂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、局灶症状和体征、头痛、恶心、呕吐、脑膜刺激征等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外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及中间清醒期、颅内压增高症状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昏迷，中间清醒期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以防治脑水肿、营养脑细胞等非手术治疗为主，一旦确诊有颅内血肿则立即手术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生命体征、意识状态、瞳孔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分、神经系统病征及肢体运动改变；加强脑脊液外漏的护理；及时发现颅内高压及脑疝迹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骑摩托车摔倒致头部外伤，当场昏迷，被发现后急送当地医院救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昏迷，右侧瞳孔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射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左侧瞳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应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分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0/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鼻腔及耳道有淡红色液体流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提示“前额部硬脑膜下血肿、颅中窝粉碎性骨折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的主要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头部受伤，昏迷不醒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  与颅内血肿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双侧瞳孔不等大、生命体征不平衡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鼻腔及耳到有淡血性液体流出，存在“有感染的危险  与脑脊液外漏有关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护理措施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状态、瞳孔变化、神经系统局灶性症状、有无呕吐、烦躁不安等，警惕脑疝发生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昏迷护理，如保持正确体位、保持呼吸道通畅、营养与补液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脑脊液外漏的护理，预防颅内感染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做好术前准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损伤患者出现中间清醒期提示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内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汽车撞伤头部发生颅前窝骨折，其护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床头抬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°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生理盐水冲洗鼻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忌堵塞鼻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止腰椎穿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枕部垫无菌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容易引起颅内感染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帽状腱膜下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脑震荡的处理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休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对症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吗啡镇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观察生命体征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做好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前窝骨折典型的临床特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熊猫眼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逆行性遗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剧烈呕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昏迷后有中间清醒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2. B   3. D   4. C   5.A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盖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vaul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底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bas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形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凹陷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性骨折：发生率最高，局部有压痛、肿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凹陷性骨折：局部可扪及局限性下陷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前窝骨折：骨折累及眶顶和筛骨，可有鼻出血、眶周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及球结膜下瘀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中窝骨折：骨折累及蝶骨，也可有鼻出血或合并脑脊液鼻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后窝骨折：骨折累及颞骨岩部后外侧时，一般在伤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出现乳突部皮下瘀斑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糖试纸测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线性骨折：无需特殊处理，仅需卧床休息，对症治疗，如止痛、镇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凹陷性骨折：若凹陷性骨折位于脑重要功能区表面，有脑受压症状或大面积骨折片下陷，直径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深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应手术整复或摘除碎骨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9:38Z</dcterms:modified>
  <cp:revision>87</cp:revision>
  <dc:subject/>
  <dc:title>内科护理学</dc:title>
</cp:coreProperties>
</file>