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19.xml" ContentType="application/vnd.openxmlformats-officedocument.presentationml.comments+xml"/>
  <Override PartName="/ppt/comments/comment23.xml" ContentType="application/vnd.openxmlformats-officedocument.presentationml.comments+xml"/>
  <Override PartName="/ppt/comments/comment37.xml" ContentType="application/vnd.openxmlformats-officedocument.presentationml.comments+xml"/>
  <Override PartName="/ppt/comments/comment35.xml" ContentType="application/vnd.openxmlformats-officedocument.presentationml.comments+xml"/>
  <Override PartName="/ppt/comments/comment3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ang Dong" initials="PD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5-04-24T09:22:52.912000000" idx="1">
    <p:pos x="5649" y="2223"/>
    <p:text>适当把文本框加宽，让一句话尽量在一行内出现</p:text>
  </p:cm>
</p:cmLst>
</file>

<file path=ppt/comments/comment23.xml><?xml version="1.0" encoding="utf-8"?>
<p:cmLst xmlns:p="http://schemas.openxmlformats.org/presentationml/2006/main">
  <p:cm authorId="0" dt="2015-04-24T09:23:39.286000000" idx="2">
    <p:pos x="5346" y="2681"/>
    <p:text>这种情况下，尽量把术后护理另起一页</p:text>
  </p:cm>
</p:cmLst>
</file>

<file path=ppt/comments/comment35.xml><?xml version="1.0" encoding="utf-8"?>
<p:cmLst xmlns:p="http://schemas.openxmlformats.org/presentationml/2006/main">
  <p:cm authorId="0" dt="2015-04-24T09:25:10.281000000" idx="3">
    <p:pos x="1241" y="886"/>
    <p:text>删除编号</p:text>
  </p:cm>
</p:cmLst>
</file>

<file path=ppt/comments/comment36.xml><?xml version="1.0" encoding="utf-8"?>
<p:cmLst xmlns:p="http://schemas.openxmlformats.org/presentationml/2006/main">
  <p:cm authorId="0" dt="2015-04-24T09:25:45.776000000" idx="4">
    <p:pos x="1137" y="886"/>
    <p:text>删除编号</p:text>
  </p:cm>
</p:cmLst>
</file>

<file path=ppt/comments/comment37.xml><?xml version="1.0" encoding="utf-8"?>
<p:cmLst xmlns:p="http://schemas.openxmlformats.org/presentationml/2006/main">
  <p:cm authorId="0" dt="2015-04-24T09:25:29.547000000" idx="5">
    <p:pos x="1241" y="886"/>
    <p:text>删除编号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2ECB-B554-4D1B-A57B-745B573011F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D8B3-D126-4927-B37D-E14BC8811EF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B511-A9E7-43E9-B746-98F3DA70D92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1959-552C-4091-9E4E-600C739C440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EEA7-5941-405C-82AE-00F91CB9D73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D316-E8BD-41C4-8377-8C2402B0D1A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D0FC-1180-4FD2-98F1-F1C18CB12BA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BFFF-5F64-4B73-AF41-D86B117C81A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91DE-4758-4D8E-A4AA-3153D38D171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6B8D-4A76-4C2F-9330-B7025B6AAAC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7F0D-DBFA-4761-B503-B73B7C2B974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804D-211E-4046-B480-3CC3628D69D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F17C-C36F-44E9-B1DC-8A11C41DA40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78F1-7554-4D62-A5E5-985D0605076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5676-7B23-453D-AD2C-9932C1F364F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33BF-57CD-4C4C-AAE7-3158C20F188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844B-1332-40B2-8679-514F361C975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5FCC8-27D9-4019-9F32-DBAC0B2B6E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282F6-D14C-49EE-9542-39A7F4E5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78DBC-1629-49FE-816E-F4588A37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30B99-F9AC-4652-BAF0-7B6853ABFB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C64E3-F62A-4DD3-ACE1-1AC16584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76DBF-FEC2-4438-89A7-011203FE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AF10D-2031-49A1-BF79-5795EB06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F0895-2D6A-4DF7-9AEA-C46A0C01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4659F-94F7-463C-8A65-65929CF6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11B2B-A5D4-455B-9765-4CD95F8D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7220B-1D0E-4FDA-921C-FF66129A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98E78-B6DF-48B8-845D-069D2174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3713-4EC9-4A7F-A76C-13FBB90FE4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6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7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房疾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热敷、药物外敷或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温和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抗生素，高热者给予物理或药物降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切开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通畅，注意观察引流液的颜色、性质和量的变化，及时更换浸湿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乳头凹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养成良好哺乳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发现右乳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右乳房外上方可见一个局部皮肤凹陷，右侧乳头略高于左侧乳头。右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部位可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×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不易推动，与乳房皮肤无粘连，无乳头溢液。右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×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，表面光滑，可活动，质地较硬。左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右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×1.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肿块影，边缘有细小毛刺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：浸润性低分化导管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瘦、乏力、贫血、发热等恶病质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早期发现乳腺癌最有效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确定肿块性质最可靠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发病的相关因素、临床表现、治疗原则和预防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乳腺癌发病的相关因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乳腺囊性增生症的病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房疾病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、多疗程、联合化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于保留乳房的乳腺癌手术后患者更是重要的治疗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分泌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乳腺癌，在经历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疗程的术前化疗后，肿块明显缩小，现拟行右乳腺癌改良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术后患侧上肢活动受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加压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引流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脱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1196640"/>
            <a:ext cx="41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范围关节活动包括手臂摇摆运动、爬墙运动、划圈运动、滑轮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92440" cy="4545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265720" y="5886360"/>
            <a:ext cx="2817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上臂全范围关节活动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视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是乳腺实质的良性增生性疾病，多见于中年女性。本病与卵巢功能失调引起的激素分泌紊乱有关，造成乳腺实质增生过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限性乳腺囊性增生症患者，应在月经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内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部病灶有恶性病变可能时，应尽早手术切除肿块并做病理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腺体增生及雌激素水平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用宽松胸罩托起乳房，以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观察病情变化，定期进行乳房自我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主要为乳汁淤积和细菌入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以乳房局部红肿热痛为主。随着炎症发展，疼痛变为搏动性，后期炎症病灶可发展为乳房脓肿。患者可有全身感染中毒表现，常伴有患侧腋窝淋巴结肿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控制感染，排空乳汁，脓肿形成后应切开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减轻疼痛，降温和控制感染。做好脓肿切开引流护理。预防的关键是纠正乳头凹陷，养成良好哺乳习惯，并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 病因不明，相关因素有内分泌、饮食、遗传、环境和生活方式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 早期表现为单发乳房肿块，无痛、质硬、活动度差、边界不清。可有乳房外形改变。淋巴转移常导致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术前应关注患者的心理反应。术后注意观察伤口及引流情况，及时发现出血、患侧上肢水肿、皮瓣下积液、皮瓣坏死等并发症，加强患侧上肢功能锻炼，恢复患者的自理能力。另外，应指导健康女性以及患者进行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内分泌失调引起乳腺实质过度增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乳房周期性胀痛和乳房肿块为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解释说明，消除患者心理顾虑。减轻乳房胀痛。遵医嘱服用药物。定期检查和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  ：乳房胀痛，有压痛性肿块，常伴有患侧腋窝淋巴结肿大和触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：寒战、高热、脉搏加快、食欲下降等全身感染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哺乳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过小或凹陷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汁过多或婴儿吸乳过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烦躁、焦虑，并有挫败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空乳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脓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房炎症、肿胀、脓肿切开引流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或细菌毒素进入血液循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围产期乳房保健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52:08Z</dcterms:modified>
  <cp:revision>97</cp:revision>
  <dc:subject/>
  <dc:title>内科护理学</dc:title>
</cp:coreProperties>
</file>