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60C67-2C7E-4991-ADC9-12C14ADEDA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085F2-4E8D-4114-ADE3-6A10B2B56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A0BD8-0728-4EEB-9308-7D232A37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BBE2C-165C-439A-B0E9-A03EC23501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7B2C9-B5E2-47A6-B3CE-4063DC0D3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CF43A-7E47-44E0-8D11-CCE09F294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739EE-BBF4-4F13-A31E-445E7210F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3B051-53B8-4496-84E0-0465AA8C0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1C4FD-C71F-40C6-B499-B389CC003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15248-A173-46F4-9023-1D4B29E95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5F7A8-B71B-457F-BB87-CB98A6F04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048B2-4E48-45D6-A75C-B0A143300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B76A2-1F8E-4C63-9594-2FFE26D1C40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6920" y="2276640"/>
            <a:ext cx="7417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十五章 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腰椎间盘突出症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绝对卧硬板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盆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推拿、按摩和理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膜外注射皮质激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皮髓核切吸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979640" y="1828800"/>
            <a:ext cx="5662440" cy="3255840"/>
          </a:xfrm>
          <a:prstGeom prst="rect">
            <a:avLst/>
          </a:prstGeom>
          <a:ln w="0">
            <a:noFill/>
          </a:ln>
        </p:spPr>
      </p:pic>
      <p:sp>
        <p:nvSpPr>
          <p:cNvPr id="141" name="矩形 6"/>
          <p:cNvSpPr/>
          <p:nvPr/>
        </p:nvSpPr>
        <p:spPr>
          <a:xfrm>
            <a:off x="3912120" y="5219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盆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5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腰椎间盘突出症，拟进行非手术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非手术治疗期间主要的护理措施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椎间盘压迫和刺激神经根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卫生、如厕）自理缺陷 与腰背部疼痛、医嘱卧床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肌肉萎缩、神经根粘连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7892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卧硬板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和理疗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7892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与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侧身起床和卧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和翻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部保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脊髓受压者应戴围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，直至神经压迫症状解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常生活中的正确姿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良好姿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常变换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腰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增强腰背肌力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1187280" y="1557360"/>
            <a:ext cx="6892920" cy="3816360"/>
          </a:xfrm>
          <a:prstGeom prst="rect">
            <a:avLst/>
          </a:prstGeom>
          <a:ln w="0">
            <a:noFill/>
          </a:ln>
        </p:spPr>
      </p:pic>
      <p:sp>
        <p:nvSpPr>
          <p:cNvPr id="163" name="矩形 4"/>
          <p:cNvSpPr/>
          <p:nvPr/>
        </p:nvSpPr>
        <p:spPr>
          <a:xfrm>
            <a:off x="3590280" y="514836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腰背肌锻炼方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腰椎间盘突出症的病因和主要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腰椎间盘突出症患者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腰椎间盘突出症患者出现腰腿痛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腰椎间盘突出症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椎间盘突出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椎间盘退行性变是最基本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最常见为腰痛，可有神经源性间歇性跛行，大多数患者有坐骨神经痛，部分患者有马尾综合征。体检可有直腿抬高试验和加强试验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绝大部分患者经非手术治疗都可治愈，严重者可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做好卧床、牵引患者护理。术后重点观察预防伤口血肿和神经根粘连等并发症，恢复期注意保护腰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椎间盘突出症是指由于椎间盘变性、纤维环破裂和髓核突出，刺激或压迫神经根或马尾神经所引起的一种综合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腿痛最常见的原因之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5-1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建筑工人，既往体健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前弯腰搬重物时突然出现腰背部疼痛，平卧休息后好转，弯腰时加重。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腰部疼痛加剧并向左下肢放射。遂来医院就诊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弯腰活动受限，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椎棘突上和棘突间有压痛。直腿抬高试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L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椎体间隙变窄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痛：最常见，且多在发病早期即出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坐骨神经痛：典型表现是疼痛从下腰部向臀部、大腿后方和小腿外侧放射，直至足背或足外侧，并可伴麻木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马尾神经受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椎侧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部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痛及骶棘肌痉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腿抬高试验及加强试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系统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404640" y="1916280"/>
            <a:ext cx="4096080" cy="2952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4572000" y="1811160"/>
            <a:ext cx="4168800" cy="3057840"/>
          </a:xfrm>
          <a:prstGeom prst="rect">
            <a:avLst/>
          </a:prstGeom>
          <a:ln w="0">
            <a:noFill/>
          </a:ln>
        </p:spPr>
      </p:pic>
      <p:sp>
        <p:nvSpPr>
          <p:cNvPr id="124" name="矩形 4"/>
          <p:cNvSpPr/>
          <p:nvPr/>
        </p:nvSpPr>
        <p:spPr>
          <a:xfrm>
            <a:off x="3074400" y="500364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脊柱侧凸与缓解神经根受压的关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2124000" y="1628640"/>
            <a:ext cx="5108760" cy="3745080"/>
          </a:xfrm>
          <a:prstGeom prst="rect">
            <a:avLst/>
          </a:prstGeom>
          <a:ln w="0">
            <a:noFill/>
          </a:ln>
        </p:spPr>
      </p:pic>
      <p:sp>
        <p:nvSpPr>
          <p:cNvPr id="128" name="矩形 4"/>
          <p:cNvSpPr/>
          <p:nvPr/>
        </p:nvSpPr>
        <p:spPr>
          <a:xfrm>
            <a:off x="3349440" y="543564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直腿抬高试验与加强试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16:47Z</dcterms:modified>
  <cp:revision>110</cp:revision>
  <dc:subject/>
  <dc:title>内科护理学</dc:title>
</cp:coreProperties>
</file>