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EEACE8-6C11-4773-9216-D1A67F6725A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6FA8B6-BBA2-491A-AFB5-EC70572D5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DEC292-AEC9-4820-935E-E2F8E6D6A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5E5072-0B0D-4C55-8A1E-6F23AD5F3AA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DEA137-9F08-4B4F-B4D4-079ED86E3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DA16E-7A6D-4064-A7CE-53887B04C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14125E-CC79-4087-BF49-64CDA2431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7CA45D-B3E1-4FDD-BCC1-419611EAE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4E4780-D734-4F8A-AF36-69CB6A048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9EBAF5-0E55-4CC2-A03B-164E32666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3DE0E4-F3B5-45CC-8673-512002836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7121BC-0611-4ACA-904F-96F777CCF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C4DAF-3C8B-4329-B363-DFF31DFD7EEB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4000" y="2276640"/>
            <a:ext cx="5184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二十二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细菌与病毒感染的实验室检查与防治原则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TextBox 2"/>
          <p:cNvSpPr/>
          <p:nvPr/>
        </p:nvSpPr>
        <p:spPr>
          <a:xfrm>
            <a:off x="2653200" y="492912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首都医科大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  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朱俊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病毒感染的药物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755280" y="1773000"/>
            <a:ext cx="828036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病毒化学药物作用机制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阻断病毒包膜与细胞膜融合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T20-HI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阻断病毒脱壳（金刚烷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甲型流感病毒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阻断病毒核酸合成（阿昔洛韦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疱疹病毒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阻断病毒前体蛋白裂解（英地那韦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HI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阻断病毒释放（达菲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流感病毒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病毒感染的药物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763640" y="1844280"/>
            <a:ext cx="633744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干扰素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interferon,IFN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广谱抗病毒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病毒基因制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天然药物（中草药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思考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1331640" y="2708280"/>
            <a:ext cx="713412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细菌与病毒感染的实验室检查原则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菌药物的临床应用原则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Verdana"/>
                <a:ea typeface="黑体"/>
              </a:rPr>
              <a:t>第一节 细菌与病毒感染的实验室检查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41160" y="1864800"/>
            <a:ext cx="8034120" cy="365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标本采集：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无菌操作，避免污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适宜的采集时间和采集部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疾病早期和使用抗生素之前采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注意事项：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冷藏速送（奈瑟菌除外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及时检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详细登记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病原菌及其结构成分检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641160" y="1864800"/>
            <a:ext cx="8034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病原菌检测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直接涂片镜检（形态、染色有特征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分离培养（选择、鉴别培养基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生化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血清学实验（诊断血清查未知抗原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药敏试验（指导临床用药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动物实验（细菌毒力和致病性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毒力检测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ID5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LD5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809640" y="2092320"/>
            <a:ext cx="7794720" cy="248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病原菌结构成分检测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检测抗原（玻片凝集、协同凝集、酶免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技术和荧光免疫技术等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检测核酸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PCR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等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病原菌及其结构成分检测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病毒体及其结构成分检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880920" y="1865160"/>
            <a:ext cx="7723440" cy="422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病毒体检测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镜检（光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CPE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；电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病毒颗粒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分离培养与鉴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细胞培养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PFU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TCID5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鸡胚培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动物接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病毒体及其结构成分检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880920" y="1865160"/>
            <a:ext cx="7723440" cy="422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细胞培养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原代细胞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疫苗制备、病毒分离、科学研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二倍体细胞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疫苗制备、科学研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传代细胞系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科学研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鸡胚培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疫苗制备（流感病毒）、病毒分离、科学研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病毒体及其结构成分检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92200" y="2092320"/>
            <a:ext cx="8083440" cy="270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病毒体结构成分检测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检测抗原（特异性抗体查抗原；酶免疫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和荧光免疫技术等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检测核酸（核酸分子杂交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PCR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等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二节 细菌与病毒感染的防治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539280" y="2492280"/>
            <a:ext cx="860436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抗菌药物作用机制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抑制细胞壁合成（青霉素类、头孢类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损伤细胞膜（多黏菌素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抑制蛋白质合成（氯霉素、链霉素等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抑制核酸合成（磺胺类、吡哌酸等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矩形 5"/>
          <p:cNvSpPr/>
          <p:nvPr/>
        </p:nvSpPr>
        <p:spPr>
          <a:xfrm>
            <a:off x="3385800" y="17733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细菌感染的药物治疗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细菌感染的药物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矩形 4"/>
          <p:cNvSpPr/>
          <p:nvPr/>
        </p:nvSpPr>
        <p:spPr>
          <a:xfrm>
            <a:off x="2050920" y="1989000"/>
            <a:ext cx="4681800" cy="29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临床应用抗菌药物原则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合理选择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剂量适当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交替用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联合用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mingzhe</cp:lastModifiedBy>
  <dcterms:modified xsi:type="dcterms:W3CDTF">2015-08-26T05:47:05Z</dcterms:modified>
  <cp:revision>103</cp:revision>
  <dc:subject/>
  <dc:title>内科护理学</dc:title>
</cp:coreProperties>
</file>