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8C19-1A22-4F30-8504-6E6B9B96DA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A0E6-A94F-47CC-8DDB-027C03BA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A067-4C91-44E4-8275-2042AA61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F3A6A-2FE5-449B-8873-D11D9FBCAE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5638-E0DB-473E-A30B-3C4E44D1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06CD7-D286-4562-913A-C3A2E639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7D18E-EA0C-46CC-BD95-C3EEC5FE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D2E43-3BEF-4F3B-ACB2-1772DACC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DE820-EC3C-4B5F-8BEA-5A38D3D1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11F68-01EA-4502-AFB5-77C6E158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3270-1C81-49D7-9AC0-EA16D3F9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148A1-1AB1-491A-9A87-2C31A7D9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8CD6B-DFB2-4835-AFE8-BA70B5DF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4598F-27D9-4CA6-84E8-93138E5B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D3533-3D4F-48BA-814D-F6A2BEA3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6CA1B-0EC2-4E0B-A324-284DEB20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A7430-897F-4598-B977-6829C8E9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A05A1-F726-48C0-A5D5-27603B9F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9F83-71E9-4E8A-BE31-EB3DB3A1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6CB49-30C2-4F33-B8D9-D3AB9A40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C3380-732F-441A-AD28-79CDCEAD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1543-400C-4914-AA68-AEDAD10E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3673-EB3E-491B-9DE5-2892D1F8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84B1-2BC2-4AE1-94C0-C2C7E838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61EF-3542-4F54-AA2F-341DF5B8D9C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9BF9-EFE3-4BDE-8CFE-E2CB79175F23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 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潍坊医学院护理学院     战同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611280" y="105264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指从头顶到足底的全身长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反映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骨骼发育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的重要指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2852640"/>
          <a:ext cx="5513400" cy="3057480"/>
        </p:xfrm>
        <a:graphic>
          <a:graphicData uri="http://schemas.openxmlformats.org/drawingml/2006/table">
            <a:tbl>
              <a:tblPr/>
              <a:tblGrid>
                <a:gridCol w="1838520"/>
                <a:gridCol w="1836720"/>
                <a:gridCol w="1838160"/>
              </a:tblGrid>
              <a:tr h="459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身高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增长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（岁）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7﹢7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30"/>
          <p:cNvSpPr/>
          <p:nvPr/>
        </p:nvSpPr>
        <p:spPr>
          <a:xfrm>
            <a:off x="3049920" y="223416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身高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7666560" y="40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身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26920" y="1773360"/>
            <a:ext cx="68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由头顶至坐骨结节的长度称坐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坐高代表头颅与脊柱的发育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997360"/>
            <a:ext cx="324000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隶书"/>
              </a:rPr>
              <a:t>婴幼儿仰卧位测量顶臀长即为坐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427640" y="3068640"/>
            <a:ext cx="367344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岁以上的小儿坐在坐高计凳上</a:t>
            </a: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骶部紧靠量板，挺身坐直测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7496280" y="404640"/>
            <a:ext cx="12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坐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9640" y="1700280"/>
            <a:ext cx="1656000" cy="1368360"/>
          </a:xfrm>
          <a:prstGeom prst="rect">
            <a:avLst/>
          </a:prstGeom>
          <a:gradFill rotWithShape="0">
            <a:gsLst>
              <a:gs pos="0">
                <a:srgbClr val="8ac8de">
                  <a:alpha val="1019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71640" y="1125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头围指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自眉弓上缘经枕后结节绕头一周的长度为头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971640" y="2349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胸围是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沿乳头下缘水平绕胸一周的长度，反映胸廓、肺的生长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4005360"/>
          <a:ext cx="7201080" cy="1981080"/>
        </p:xfrm>
        <a:graphic>
          <a:graphicData uri="http://schemas.openxmlformats.org/drawingml/2006/table">
            <a:tbl>
              <a:tblPr/>
              <a:tblGrid>
                <a:gridCol w="1774800"/>
                <a:gridCol w="1708200"/>
                <a:gridCol w="1701720"/>
                <a:gridCol w="20163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头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与头围比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3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4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小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等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9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4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38"/>
          <p:cNvSpPr/>
          <p:nvPr/>
        </p:nvSpPr>
        <p:spPr>
          <a:xfrm>
            <a:off x="3921840" y="3427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头围、胸围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6300720" y="40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头围、胸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头颅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囟：最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~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脊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 flipH="1" flipV="1" rot="10800000">
            <a:off x="5292720" y="41284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前囟的测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4859280" y="1052640"/>
            <a:ext cx="2776680" cy="3168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468360" y="4941720"/>
            <a:ext cx="6551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能抬头时出现颈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会坐时出现胸椎后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能行走时出现腰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4000" y="1599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骨龄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即骨发育的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婴儿早期可摄膝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年长儿摄左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了解其腕骨、掌骨、指骨的发育。腕部骨化中心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全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腕部骨化中心的数目为岁数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牙齿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55640" y="2276640"/>
          <a:ext cx="8077320" cy="3400200"/>
        </p:xfrm>
        <a:graphic>
          <a:graphicData uri="http://schemas.openxmlformats.org/drawingml/2006/table">
            <a:tbl>
              <a:tblPr/>
              <a:tblGrid>
                <a:gridCol w="2676600"/>
                <a:gridCol w="2577960"/>
                <a:gridCol w="2822760"/>
              </a:tblGrid>
              <a:tr h="13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乳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恒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萌出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数目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8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齐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5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26"/>
          <p:cNvSpPr/>
          <p:nvPr/>
        </p:nvSpPr>
        <p:spPr>
          <a:xfrm>
            <a:off x="3468960" y="1586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牙齿的发育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殖系统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前期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开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明显加速，第二性征出现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中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速度达高峰，第二性征全部出现，性器官发育成熟，女孩首次出现月经、男孩出现遗精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后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历经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殖系统完全发育成熟，生长发育停止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体格发育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评价的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的数据要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纵向观察并横向作比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参照人群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生长发育的规律和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的评价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神经心理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展相关理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35280" y="2205000"/>
            <a:ext cx="688320" cy="593640"/>
            <a:chOff x="1835280" y="22050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40680" y="22150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35280" y="22050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75240" y="22399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1835280" y="53006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分布状况。以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SD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和非正态分布状况。以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百分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中位数，其余百分位数为离散距，常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两项指标间相互关系作比较，如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kg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／身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其含义为单位面积的体重值，主要反映体格发育水平及营养状况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2160" y="1125360"/>
            <a:ext cx="873612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偏离该年龄组标准差的程度来反映生长情况。其中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测得值，为平均值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标准差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分可为正值，也可为负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不同时间或系统的测量值画成曲线，形成儿童生长曲线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格生长受遗传、疾病、饮食等因素的影响，有些儿童的生长曲线在平均值以下不一定异常，只要生长曲线与参考曲线趋势一致、匀速增长即为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发育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某一年龄时点所获得的某一项体格生长测量值（横断面调查）与参考人群值比较，得到该儿童在同质人群中（同年龄、同性别）所处的位置，即为此儿童该项体格生长指标在此年龄的发育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速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某一项体格生长指标定期连续测量（纵向观察）所获得的该项指标在某一年龄阶段的增长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匀称程度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儿童体格发育各项指标间关系的评价，包括体型匀称和身材匀称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神经心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系统的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91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层下中枢兴奋性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肌张力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脑功能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达成人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纤维髓鞘化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视觉发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关键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视觉不敏锐，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内视觉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有头眼协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头眼协调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认母亲，见到奶瓶表示喜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深度视觉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时深度视觉充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听感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听觉已相当良好，能寻找声源，辨音量、音调音色、语音和非语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头可转向声源，听悦耳声微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确定声源，对语气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：能清楚分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嗅觉和味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新生儿的味觉和嗅觉已经发育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强烈气味有不愉快表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区别好闻和难闻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食物味道的微小改变很敏感。故应适时添加各类辅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皮肤感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痛觉较迟钝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逐渐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温度觉已比较灵敏，尤其对冷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觉是引起小儿某些反射的基础，新生儿的触觉高度敏感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小儿能通过皮肤觉与手眼协调一致的活动来区分物体的大小、软硬和冷热等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能分辨体积相同重量不同的物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平衡与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，七滚八爬周岁走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跑双足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独足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小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抬头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翻身、独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走，可能大运动发育迟缓，应急早诊断、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小儿生长发育的规律和影响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体格生长常用指标及其正常值和计算公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骨骼（前后囟门）正常值、异常值及其临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描述牙齿的发育、脊柱发育、运动发育及语言的发育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解释生长和发育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知道小儿生长发育的相关理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评价不同年龄阶段的小儿个体的生长发展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发现生长发育中的特殊问题并进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EB9E-D5FC-4639-A670-AC1303B2F4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精细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握三抓六会敲，九用两指周会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搭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伸手抓物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物体换手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拇示指钳取物体，可能精细运动发育迟缓，应急早诊断、治疗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91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经历发音、理解和表达三个阶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语言发育过程可总结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哭，二笑，三咿呀，四个月笑哈哈，五月单音发，七八月叫爸妈，九月再见十二把物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句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唱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心理发育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筛查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丹佛发育筛查法、绘人实验、图片词汇测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esel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发育量表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ayle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发育量表适应性行为测试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独立生活能力、运动能力、作业、交往、参加集体活动、自我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擦腿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情感交叉腿综合征，是儿童通过擦腿引起兴奋的一种行为障碍，半岁左右的婴儿即可出现，但多见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，尤以婴幼儿多见，女孩发病多于男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力缺陷多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儿童多动综合征，简称多动症，是一种常见的儿童发展性行为障碍。病因尚不明确，可能与遗传、生活环境、发育延迟、中枢神经递质缺陷等有关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屏气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呼吸暂停症，是婴幼儿时期常见的的一种异常性格行为问题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发作次数逐渐减少。屏气发作的原因多与患儿情绪因素有关，部分患儿伴有缺铁性贫血，常在小儿发怒、剧哭、恐惧时诱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吮拇指癖、咬指甲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的婴儿在饥饿时和睡前常自吮手指，满足正常生理需求，随年龄增大这种需求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尿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后仍发生不随意排尿。遗尿症包括原发性遗尿和继发性遗尿。继发性遗尿大多继发于膀胱炎、糖尿病、尿崩症等疾病，治愈原发病后遗尿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习障碍属特殊发育障碍，是指在获得和运用听、说、读、写、计算、推理等特殊技能上有明显困难，并表现出相应的多种障碍综合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儿童生长发展相关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82440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爱瑞克森的《心理社会发展理论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7489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902</a:t>
            </a:r>
            <a:r>
              <a:rPr b="1" lang="en-US" sz="2800" spc="-1" strike="noStrike">
                <a:solidFill>
                  <a:srgbClr val="8ac8de"/>
                </a:solidFill>
                <a:latin typeface="GulimChe"/>
                <a:ea typeface="GulimChe"/>
              </a:rPr>
              <a:t>—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1994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在德国法兰克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丹麦血统的美国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Freud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女儿的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57160" y="1714680"/>
            <a:ext cx="8058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信任对不信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信任感来自照顾者连续的关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幼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主对羞怯或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探索外部世界，喜欢说“不”，任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鼓励并给予一定的自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前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主动对内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常活跃，自己制定规则，改变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接纳孩子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勤奋对自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键阶段，需要真正的成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评价孩子努力的过程，而非结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我认同对角色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自我，探究自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别人对自己的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　生长发育的规律和影响因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认知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iaget Jea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896-198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于瑞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物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心理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理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396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童的智力发展是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儿与经常变化着的、要求其不断做出新反应的外部环境相互作用的结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779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过程四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6765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运动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与周围事物的感觉运动性接触认识世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维，不可逆，自我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体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方面考虑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形式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抽象假设，推测判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5796000" y="333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长发育规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684360" y="1700280"/>
            <a:ext cx="66052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连续性和阶段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器官发育的不平衡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上到下、由近到远 、由粗到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低级到高级、由简单到复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396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孕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282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体格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71640" y="2708280"/>
          <a:ext cx="7421400" cy="3705120"/>
        </p:xfrm>
        <a:graphic>
          <a:graphicData uri="http://schemas.openxmlformats.org/drawingml/2006/table">
            <a:tbl>
              <a:tblPr/>
              <a:tblGrid>
                <a:gridCol w="2473200"/>
                <a:gridCol w="2567160"/>
                <a:gridCol w="2381040"/>
              </a:tblGrid>
              <a:tr h="9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重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kg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与出生时比较（倍数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体重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～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或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25"/>
          <p:cNvSpPr/>
          <p:nvPr/>
        </p:nvSpPr>
        <p:spPr>
          <a:xfrm>
            <a:off x="1042920" y="1620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1403280" y="1881720"/>
            <a:ext cx="55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体重估计公式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7496280" y="40464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042920" y="1989000"/>
            <a:ext cx="7345440" cy="205380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生理性体重下降：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~9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。若体重下降超过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或致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日体重未恢复到出生水平，则为病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496280" y="40464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7:00:00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