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49C0-F7D1-4541-ABDD-625AF4BB42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62419-1DA4-4251-859A-604B17EB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C0E0A-9821-4A2B-89BE-A0859D45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0BF94-C82E-4449-AE18-B110CDB0FE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C48B2-AB72-4CE9-B01E-8C5214FE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197C-EB09-4132-80E4-8B10751D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FD6C7-EB3E-463A-A8F3-E191B051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107D2-CD67-483E-BAD1-E351549A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61455-945B-4B83-B6F0-D72A94F1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2D30C-53A2-46EB-AF1E-3078FBF4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BCAB4-8022-4594-B12E-D5433DC7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E472D-558A-46ED-90FB-C8A9DF03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10F4-E6FA-4E59-BC92-336034308C9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133360"/>
            <a:ext cx="58323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心理因素相关生理障碍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44748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贪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是以反复出现的强烈的进食欲望和难以控制的、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冲动性的暴食和伴有惧怕发胖的观念为主要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的一种进食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不可控制的暴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清除行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435640" y="3357720"/>
            <a:ext cx="2881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DAFD-91B6-4287-B192-3657FF4767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测验与性格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生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4" descr="图片19"/>
          <p:cNvPicPr/>
          <p:nvPr/>
        </p:nvPicPr>
        <p:blipFill>
          <a:blip r:embed="rId1"/>
          <a:stretch/>
        </p:blipFill>
        <p:spPr>
          <a:xfrm>
            <a:off x="5148360" y="24940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营养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饮食习惯和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皮肤、心血管系统、消化系统、第二性征发育情况以及女性患者的月经情况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相关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自身身材和自我概念的认知情况，对发胖的恐惧程度以及所认为的理想体重是多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情绪状况以及有无自杀、自伤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文化程度、学习情况和职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疾病的认识和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与家属及周围人的人际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185D-9D1D-453E-B5F0-83E6AE3D9C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2556000" y="2492280"/>
            <a:ext cx="230040" cy="1936800"/>
          </a:xfrm>
          <a:custGeom>
            <a:avLst/>
            <a:gdLst>
              <a:gd name="textAreaLeft" fmla="*/ 146880 w 230040"/>
              <a:gd name="textAreaRight" fmla="*/ 230400 w 230040"/>
              <a:gd name="textAreaTop" fmla="*/ 64080 h 1936800"/>
              <a:gd name="textAreaBottom" fmla="*/ 1872720 h 193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2"/>
                  <a:pt x="10800" y="2284"/>
                </a:cubicBezTo>
                <a:lnTo>
                  <a:pt x="10800" y="8516"/>
                </a:lnTo>
                <a:cubicBezTo>
                  <a:pt x="10800" y="9658"/>
                  <a:pt x="5400" y="10800"/>
                  <a:pt x="0" y="10800"/>
                </a:cubicBezTo>
                <a:cubicBezTo>
                  <a:pt x="5400" y="10800"/>
                  <a:pt x="10800" y="11942"/>
                  <a:pt x="10800" y="13084"/>
                </a:cubicBezTo>
                <a:lnTo>
                  <a:pt x="10800" y="19316"/>
                </a:lnTo>
                <a:cubicBezTo>
                  <a:pt x="10800" y="20458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867040" y="2416320"/>
            <a:ext cx="19191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认知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886120" y="3314880"/>
            <a:ext cx="19018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行为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900520" y="4280040"/>
            <a:ext cx="18856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明确诊断为神经性厌食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EB88-BDC2-446A-A112-C3B54ED6B4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限制或拒绝进食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高于机体需要量  与暴食行为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或现存的体液不足  与液体摄入不足、自行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　　　　　　　　　　或导泻行为导致消耗过大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与限制或拒绝进食引起的能量不足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的并发症  与长期营养失调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9480-5366-4C7D-AB2B-2D1ACBBE81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像认知歪曲  与社会文化因素、心理因素导致对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自身形象看法改变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焦虑  与对生活缺乏控制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抑郁  与疾病的演变过程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社会支持不足等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  与缺乏疾病相关知识、家庭关系矛盾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AE1C-B371-44A9-B8DC-DBE9CD7B56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956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恢复和维持正常体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纠正体像障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正常进食行为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58C1-04AF-4617-9714-E2B47ED95F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帮助患者扩大社交范围，使其获得更多的社会支持，满足情感需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及其家属维持正常的角色功能，帮助患者分析可能的家庭问题，寻求解决的方法，从而建立和谐的家庭关系，为患者提供有效的社会支持系统，减少其寂寞和孤独感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360" y="2707920"/>
            <a:ext cx="540072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　进食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 睡眠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3008160"/>
            <a:ext cx="688320" cy="593640"/>
            <a:chOff x="1819440" y="300816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30178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30081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30430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31370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86064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3498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44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眠障碍是各种心理社会因素引起的非器质性的睡眠和觉醒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36B2-5439-4621-9E45-6F2B1587D5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睡眠障碍的原因较多且复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躯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食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4DBA-8B4F-47A7-9BBB-E81F0AC8C8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 flipV="1">
            <a:off x="3565440" y="2420640"/>
            <a:ext cx="935280" cy="1150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572000" y="1990800"/>
            <a:ext cx="2664000" cy="574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失眠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4572000" y="4726080"/>
            <a:ext cx="266400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异常睡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3564000" y="4006800"/>
            <a:ext cx="936720" cy="10796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4572000" y="3860640"/>
            <a:ext cx="2664000" cy="578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发作性睡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4572000" y="2925720"/>
            <a:ext cx="266400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嗜睡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3"/>
          <p:cNvSpPr/>
          <p:nvPr/>
        </p:nvSpPr>
        <p:spPr>
          <a:xfrm flipV="1">
            <a:off x="3565440" y="3213000"/>
            <a:ext cx="935280" cy="50328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3565440" y="3862440"/>
            <a:ext cx="935280" cy="35856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病前性格内向，多疑多虑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年前丈夫因车祸去世后患者出现心情烦躁、彻夜不眠等情况而到医院就诊，予以药物治疗后情况好转。半年前退休后晚上便开始难以入睡，即使睡着也容易做梦和惊醒，醒来后不容易再睡，躺到天亮。白天感到头昏脑胀，做事无效率，容易发火。经门诊治疗效果不佳，加量服用先前药物无效，要求住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体检：体格检查及实验室检查各项指标未见明显异常。生命体征：体温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。大小便正常，生活协助料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难以入睡，白天困倦。患者神志清楚，对答切题。有抑郁、焦虑情绪，对疾病忧心忡忡，对治疗没信心。无幻觉妄想等精神病性症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938C-6C1C-484C-A4F4-7635F64E145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失眠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失眠症是最常见的睡眠障碍，指一种对睡眠的质和量持续较长时间的不满意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入睡困难是失眠症患者最常见的主诉，患者还有早醒、维持睡眠困难、易惊醒、多梦、醒后不易再睡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A31C-BFDB-4959-A980-115C3C48FA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嗜睡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嗜睡症是指不存在睡眠不足的情况下出现白天睡眠过多，或由醒来时达到完全觉醒状态的过渡时间延长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表现为白天睡眠时间延长，醒转时想达到完全的觉醒状态非常困难，醒转后常有短暂的意识模糊，呼吸及心率加快，可伴有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AF5A-6659-4B0D-8DE4-70473AB486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作性睡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发作性睡病是一种病因不明的睡眠障碍，长期警醒程度降低和不可抗拒的发作性睡眠是本病的主要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白天不可抗拒的短暂睡眠发作是本病最基本的症状，睡眠发作前常有发作先兆，即不可抗拒的困倦感，但部分患者可无预兆地突然从清醒状态陷入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8EDB-9C9F-45C3-9100-F45AE1964B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梦魇症：是指在睡眠过程中被噩梦惊醒，梦境内容常涉及对生存或安全有威胁的恐怖性事件，如被怪物追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夜惊症：是出现在夜间睡眠过程中的极度恐惧和惊恐发作，常伴有强烈的言语、运动和自主神经系统的高度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行症：即梦游症，指睡眠和觉醒现象同时存在的一种意识模糊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9898-9C02-453D-B7FD-C565F49B97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对睡眠障碍患者的辅助检查手段是多样的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如调查问卷、心理测试、睡眠日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还可对患者进行睡眠多导监护仪监测以及其他睡眠生理功能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4" descr="图片19"/>
          <p:cNvPicPr/>
          <p:nvPr/>
        </p:nvPicPr>
        <p:blipFill>
          <a:blip r:embed="rId1"/>
          <a:stretch/>
        </p:blipFill>
        <p:spPr>
          <a:xfrm>
            <a:off x="6661080" y="3789360"/>
            <a:ext cx="20415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生命体征、营养状况、饮食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既往健康状况、既往疾病治疗及用药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否有家族性遗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背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心理因素相关生理障碍的临床表现、主要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问题和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相关检查方法、治疗方法和生理心理社会评估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护理程序对常见心理因素相关生理障碍患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行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B909-FE86-4F16-A6A0-F11D1509FB6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遭遇重大生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因睡眠或工作环境改变而有不适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待失眠的态度，尤其注意有无恐惧、焦虑等不良心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生活、学习或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与周围人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及家庭对睡眠障碍的应对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该患者明确诊断为失眠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ED65-3FC3-46A5-BA4E-37464D0D49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睡眠形态紊乱　与社会心理因素、睡眠环境改变、药物影响、焦虑等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疲乏　与失眠、异常睡眠引起的不适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　与异常睡眠引起的意识模糊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焦虑　与睡眠形态紊乱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恐惧　与异常睡眠引起的幻觉、梦魇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　与长期处于失眠或异常睡眠状态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　与家庭成员对疾病的认识不足或家庭关系不和谐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8B77-D7D3-4326-AD8F-334F067366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78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对失眠症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诱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睡眠健康教育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规律、有质量的睡眠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对其他睡眠障碍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患者的安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心理恐惧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减少发作次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9178-ACC8-4E4E-B4F7-9F8011F415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因素相关生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一组以心理和社会因素为主要原因，以躯体症状为主要临床表现的疾病。通常只表现为生理功能障碍而没有形态学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章着重介绍进食障碍、睡眠障碍心理因素相关生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进食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进食障碍是指由心理因素导致的以摄食行为异常为主要特征，伴有显著体重改变和生理功能紊乱的一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4C18-4068-44D2-AEF4-1708BDFB2D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5797440" y="3502080"/>
            <a:ext cx="2016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年龄：青少年期和成年早期，尤其是女性群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初发年龄多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神经性贪食症则发病稍晚，多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大部分神经性贪食症由神经性厌食症发展而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病因和发病机制尚未完全阐明，可能与社会文化因素、家庭因素、生物学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7671-E899-4DC6-9C45-EA02551CEE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Line 3"/>
          <p:cNvSpPr/>
          <p:nvPr/>
        </p:nvSpPr>
        <p:spPr>
          <a:xfrm flipV="1">
            <a:off x="3544920" y="279576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4500720" y="2500200"/>
            <a:ext cx="2592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厌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500720" y="4365720"/>
            <a:ext cx="26636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贪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492360" y="4076640"/>
            <a:ext cx="792360" cy="57780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女生，性格内向，自尊心强。初中时体型较胖，常被男同学嘲笑。因此，开始长跑，每日节食，进食后催吐。初中毕业体重降至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0k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70c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。高中后，仍觉自己胖，依旧每日节食和长跑。近来出现体重持续降低、学习吃力、情绪低落等情况，直到在课堂上晕厥，被家属强制送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查体：患者面容消瘦，皮肤弹性差，舟状腹，指甲无光泽。生命体征：体温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5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9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89/5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；实验室检查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WBC3.1×109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.2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30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Hb9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血清总蛋白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1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患者智力正常，意识清晰，情绪低落，语调低，害怕体重增加，未发现幻觉、妄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3CFC-961F-49A6-9978-B0413E31DE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以患者对自身体像的感知有歪曲，因担心发胖而故意节食，以致体重显著下降为主要特征的进食障碍类的精神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体像认知歪曲，病态地恐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胖，关注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减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6300720" y="2709720"/>
            <a:ext cx="26672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8T08:08:18Z</dcterms:modified>
  <cp:revision>7</cp:revision>
  <dc:subject/>
  <dc:title>第十二章  心理因素相关生理障碍患者的护理</dc:title>
</cp:coreProperties>
</file>