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7D94A6-B7A0-4A0C-8B6D-D1B5B0F537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26C2407-5378-41B4-82FC-AB3D6B6305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C7E1B72-9EFE-4728-830C-5F187EA345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B041E80-0E0B-4AAC-B654-F2FBA5EF17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49FEC43-07F6-4147-89A7-FE21D3A115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E40C4C2-6177-44F2-866C-6F73AF0737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FD8365-7632-4E41-831E-F67DFE3D0D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C6A9D24-4B73-49E9-BF94-5B2652A58B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98F3004-6B76-4B5A-AA81-76AC333569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E9ADB1-873A-456A-838C-623D002347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2D0314-FBB1-4723-8ADD-EB93883DAE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EEE2B5-243F-489F-898D-A4634C3CCE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615E0-873F-4705-B381-64B16140A49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56405-EBBE-45FB-A679-069A34F0F3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6" name="PlaceHolder 2"/>
          <p:cNvSpPr>
            <a:spLocks noGrp="1"/>
          </p:cNvSpPr>
          <p:nvPr>
            <p:ph/>
          </p:nvPr>
        </p:nvSpPr>
        <p:spPr>
          <a:xfrm>
            <a:off x="713880" y="980640"/>
            <a:ext cx="8124840" cy="5235480"/>
          </a:xfrm>
          <a:prstGeom prst="rect">
            <a:avLst/>
          </a:prstGeom>
          <a:noFill/>
          <a:ln w="0">
            <a:noFill/>
          </a:ln>
        </p:spPr>
        <p:txBody>
          <a:bodyPr anchor="t">
            <a:normAutofit/>
          </a:bodyPr>
          <a:p>
            <a:pPr marL="53352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据统计，精神障碍占整个疾病负担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以上，其中，中低收入国家为</a:t>
            </a:r>
            <a:r>
              <a:rPr b="1" lang="en-US" sz="2800" spc="-1" strike="noStrike">
                <a:solidFill>
                  <a:srgbClr val="000000"/>
                </a:solidFill>
                <a:latin typeface="宋体"/>
                <a:ea typeface="宋体"/>
              </a:rPr>
              <a:t>10.55%</a:t>
            </a:r>
            <a:r>
              <a:rPr b="1" lang="zh-CN" sz="2800" spc="-1" strike="noStrike">
                <a:solidFill>
                  <a:srgbClr val="000000"/>
                </a:solidFill>
                <a:latin typeface="宋体"/>
                <a:ea typeface="宋体"/>
              </a:rPr>
              <a:t>，高收入国为</a:t>
            </a:r>
            <a:r>
              <a:rPr b="1" lang="en-US" sz="2800" spc="-1" strike="noStrike">
                <a:solidFill>
                  <a:srgbClr val="000000"/>
                </a:solidFill>
                <a:latin typeface="宋体"/>
                <a:ea typeface="宋体"/>
              </a:rPr>
              <a:t>23.5%</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21</a:t>
            </a:r>
            <a:r>
              <a:rPr b="1" lang="zh-CN" sz="2800" spc="-1" strike="noStrike">
                <a:solidFill>
                  <a:srgbClr val="000000"/>
                </a:solidFill>
                <a:latin typeface="宋体"/>
                <a:ea typeface="宋体"/>
              </a:rPr>
              <a:t>世纪竞争的日益激烈和工业化进程的加剧，各种精神疾病和心理卫生问题将会大幅度上升，精神障碍疾病负担将会进一步加重。</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7B663-3DCE-4C8C-A5CD-E2FFFFFE02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9" name="PlaceHolder 2"/>
          <p:cNvSpPr>
            <a:spLocks noGrp="1"/>
          </p:cNvSpPr>
          <p:nvPr>
            <p:ph/>
          </p:nvPr>
        </p:nvSpPr>
        <p:spPr>
          <a:xfrm>
            <a:off x="684360" y="1699920"/>
            <a:ext cx="8154720" cy="4516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精神科护理学</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精神科护理学是护理学科的一个分支，在护理学基础上，是对精神疾病进行防治的一门学科，是精神医学不可缺少的一个重要组成部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07239-3E5A-4F75-A756-6D9F41B6A9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任务</a:t>
            </a:r>
            <a:endParaRPr b="0" lang="en-US" sz="3200" spc="-1" strike="noStrike">
              <a:solidFill>
                <a:srgbClr val="ffffff"/>
              </a:solidFill>
              <a:latin typeface="Verdana"/>
            </a:endParaRPr>
          </a:p>
        </p:txBody>
      </p:sp>
      <p:sp>
        <p:nvSpPr>
          <p:cNvPr id="152" name="PlaceHolder 2"/>
          <p:cNvSpPr>
            <a:spLocks noGrp="1"/>
          </p:cNvSpPr>
          <p:nvPr>
            <p:ph/>
          </p:nvPr>
        </p:nvSpPr>
        <p:spPr>
          <a:xfrm>
            <a:off x="610920" y="1699920"/>
            <a:ext cx="8227800" cy="451620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研究对精神疾病患者科学护理的理论和方法并运用于临床，以及探讨护理人员在预防精神疾病方面的作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研究和实施接触、观察精神疾病患者的有效途径，与患者建立良好的护患关系，保证护理措施的有效实施。</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F9F7E-609F-470C-99CA-68EDD3D6C2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5" name="PlaceHolder 2"/>
          <p:cNvSpPr>
            <a:spLocks noGrp="1"/>
          </p:cNvSpPr>
          <p:nvPr>
            <p:ph/>
          </p:nvPr>
        </p:nvSpPr>
        <p:spPr>
          <a:xfrm>
            <a:off x="684360" y="1793520"/>
            <a:ext cx="8154720" cy="444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研究和实施各类精神疾病患者各种治疗的护理确保医疗任务的顺利实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研究与实施如何维护患者的权利与尊严，使其得到应有的尊重与合适的治疗；培养和训练患者的生活能力、社会交往能力，在疾病好转后能及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47E44-D394-4084-AE9E-B9341A71AF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8" name="PlaceHolder 2"/>
          <p:cNvSpPr>
            <a:spLocks noGrp="1"/>
          </p:cNvSpPr>
          <p:nvPr>
            <p:ph/>
          </p:nvPr>
        </p:nvSpPr>
        <p:spPr>
          <a:xfrm>
            <a:off x="684360" y="1699920"/>
            <a:ext cx="8154720" cy="43210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研究与实施如何密切观察患者有关精神方面的病情变化，并详细记录，协助诊断，防止意外事件的发生；并为医疗、教学、科研、法律和劳动签定等积累重要资料。</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研究与实施在患者与家庭、社区中开展精神卫生宣传教育工作，对精神疾病患者做到防治结合，医院与社区和家庭结合，为患者回归社会作出贡献。</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56C28-6AD5-4D23-8BE7-868D4C2868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1" name="PlaceHolder 2"/>
          <p:cNvSpPr>
            <a:spLocks noGrp="1"/>
          </p:cNvSpPr>
          <p:nvPr>
            <p:ph/>
          </p:nvPr>
        </p:nvSpPr>
        <p:spPr>
          <a:xfrm>
            <a:off x="611280" y="1483920"/>
            <a:ext cx="7921440" cy="473220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伴随人类社会的发展而存在，精神疾病留给人类的大多是痛苦且与社会文明相背离的记忆，精神医学史是人类认识精神疾病，并与精神疾病做斗争的历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15CF3-F337-4168-98D8-B1BCADE7A5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4" name="PlaceHolder 2"/>
          <p:cNvSpPr>
            <a:spLocks noGrp="1"/>
          </p:cNvSpPr>
          <p:nvPr>
            <p:ph/>
          </p:nvPr>
        </p:nvSpPr>
        <p:spPr>
          <a:xfrm>
            <a:off x="264960" y="1071360"/>
            <a:ext cx="8429760" cy="5235480"/>
          </a:xfrm>
          <a:prstGeom prst="rect">
            <a:avLst/>
          </a:prstGeom>
          <a:noFill/>
          <a:ln w="0">
            <a:noFill/>
          </a:ln>
        </p:spPr>
        <p:txBody>
          <a:bodyPr anchor="t">
            <a:normAutofit/>
          </a:bodyPr>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国外精神医学的起源</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精神医学起源于公元前古希腊最伟大的医学家希波克拉底，也被称为医学之父：他认为脑是思维活动的器官，提出了精神疾病的体液病理学说。他认为人体内存在四种基本体液，即血液、黏液、黄胆汁和黑胆汁。因这四种体液在人体内的混和比例不同从而使人具有不同的气质类型，形成了人的不同气质，即性情急躁、动作迅猛的胆汁质，性情活跃、动作灵敏的多血质，性情沉静、动作迟缓的黏液质，性情脆弱、动作迟钝的抑郁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6FCA8-8DC6-4F29-A0E3-D1D29C7A76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7" name="PlaceHolder 2"/>
          <p:cNvSpPr>
            <a:spLocks noGrp="1"/>
          </p:cNvSpPr>
          <p:nvPr>
            <p:ph/>
          </p:nvPr>
        </p:nvSpPr>
        <p:spPr>
          <a:xfrm>
            <a:off x="539280" y="980640"/>
            <a:ext cx="8425080" cy="5235480"/>
          </a:xfrm>
          <a:prstGeom prst="rect">
            <a:avLst/>
          </a:prstGeom>
          <a:noFill/>
          <a:ln w="0">
            <a:noFill/>
          </a:ln>
        </p:spPr>
        <p:txBody>
          <a:bodyPr anchor="t">
            <a:normAutofit/>
          </a:bodyPr>
          <a:p>
            <a:pPr marL="71136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中世纪宗教神学对精神医学发展的影响</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世纪（公元</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世纪到</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欧洲进入宗教与封建统治的时代，精神医学受宗教影响和统治，出现了严重的倒退。认为精神病是“得罪了上帝”、“魔鬼附体”，患者遭受迫害、摧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用祷告、符咒、驱鬼、放血、火烤、水浸、风车转等方法对待精神病患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6A1BB-5822-4983-8386-31713EE696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0"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工业革命对精神医学的影响</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后工业革命的兴起，医学也开始摆脱了中世纪宗教神学的束缚。精神医学出现了重大的转折。</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末，法国大革命后，法国精神医学家比奈尔是第一个被任命为“疯人院”的医生，他去掉了精神障碍患者身上的铁链，提出“要对精神病患者心理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称道德疗法</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张人道地对待患者，这被公认为精神医学的</a:t>
            </a:r>
            <a:r>
              <a:rPr b="1" lang="zh-CN" sz="2800" spc="-1" strike="noStrike">
                <a:solidFill>
                  <a:srgbClr val="fe230c"/>
                </a:solidFill>
                <a:latin typeface="宋体"/>
                <a:ea typeface="宋体"/>
              </a:rPr>
              <a:t>首次革命性运动</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61A76-8BD8-482C-A8F5-507D2DD8A9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3"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神经解剖学、微生物学、生理学和病理学的发展以及临床资料的积累，国外精神医学真正发展是从</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逐渐开始。到了</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后期克雷丕林将内外科疾病的研究方法运用于精神疾病，提出了通过症状来诊断精神疾病、通过预后来观察精神疾病，并提出了精神疾病的诊断和分类系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24000" y="285480"/>
            <a:ext cx="7020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1260360" y="1915920"/>
            <a:ext cx="993600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二节：精神医学与精神科护理学发展简史</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三节：精神科护理工作的内容和要求</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BB55F-0D3F-4F96-8CE5-DEE0E116C6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6"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以来，许多精神医学的专家对精神疾病的病因、发病机制分别从神经解剖学、生理学和心理学等不同角度进行了大量的研究和探讨，以期阐明精神疾病的发生机制，形成了精神医学的各种学派。</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3815D-6116-4044-971A-7DE04A06B3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53</a:t>
            </a:r>
            <a:r>
              <a:rPr b="1" lang="zh-CN" sz="2800" spc="-1" strike="noStrike">
                <a:solidFill>
                  <a:srgbClr val="000000"/>
                </a:solidFill>
                <a:latin typeface="宋体"/>
                <a:ea typeface="宋体"/>
              </a:rPr>
              <a:t>年氯丙嗪抗精神病作用的发现和应用是现代精神医学史上是一个重要的里程碑，是精神医学的</a:t>
            </a:r>
            <a:r>
              <a:rPr b="1" lang="zh-CN" sz="2800" spc="-1" strike="noStrike">
                <a:solidFill>
                  <a:srgbClr val="fe230c"/>
                </a:solidFill>
                <a:latin typeface="宋体"/>
                <a:ea typeface="宋体"/>
              </a:rPr>
              <a:t>第四次革新</a:t>
            </a:r>
            <a:r>
              <a:rPr b="1" lang="zh-CN" sz="2800" spc="-1" strike="noStrike">
                <a:solidFill>
                  <a:srgbClr val="000000"/>
                </a:solidFill>
                <a:latin typeface="宋体"/>
                <a:ea typeface="宋体"/>
              </a:rPr>
              <a:t>。由于在此之前，精神疾病的治疗主要是通过镇静剂使患者安静，而抗精神病药物的发现和应用，不仅促进了临床精神疾病的防治工作，也使人们对精神疾病的生物学机制有了更加深刻的了解。精神医学经过二千多年的发展，现已逐步完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7C904-4FB7-4792-BB51-66723522BA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2"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我国最早的有关精神疾病现象的文字记载见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尚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微子</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我其发出狂”。 表明在公元前</a:t>
            </a: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世纪（商殷）已有“狂”这一病名。在我国最古老的医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内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将人的精神活动归结于“心神”功能，阐述了在剧烈的情志变化下能引起精神异常，如“喜伤心，怒伤肝，思伤脾，忧伤肺，惊伤肾”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B5825-DB91-4DCF-A68C-BFEE804F39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5"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秦汉编撰的古典医学著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素问</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灵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难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伤寒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金匮要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对诸多精症状做了详细的描述，归类为“狂</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躁”、“谵妄”、“癲”、“痫”等，并以其独特的理论与实践对这些精神障碍的病因、发病机制与症状进行论述。</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D6D92-9A6F-40F9-B420-946A63F96A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开始，现代精神医学随着外国传教士的传教活动进入我国，国外一些教会在我国建立了精神病病院或精神医学的教学机构。</a:t>
            </a:r>
            <a:r>
              <a:rPr b="1" lang="en-US" sz="2800" spc="-1" strike="noStrike">
                <a:solidFill>
                  <a:srgbClr val="000000"/>
                </a:solidFill>
                <a:latin typeface="宋体"/>
                <a:ea typeface="宋体"/>
              </a:rPr>
              <a:t>1897</a:t>
            </a:r>
            <a:r>
              <a:rPr b="1" lang="zh-CN" sz="2800" spc="-1" strike="noStrike">
                <a:solidFill>
                  <a:srgbClr val="000000"/>
                </a:solidFill>
                <a:latin typeface="宋体"/>
                <a:ea typeface="宋体"/>
              </a:rPr>
              <a:t>年曾在广州医院工作过的克尔医生建成了一座有</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张床位的精神病院，成为我国第一家精神病院。</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F61E3-6D3F-4D35-87BD-BE0142E701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1"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年代初期，北京和上海相继成立了精神卫生研究所，并被确定为世界卫生组织的科研协作中心；</a:t>
            </a:r>
            <a:r>
              <a:rPr b="1" lang="en-US" sz="2800" spc="-1" strike="noStrike">
                <a:solidFill>
                  <a:srgbClr val="000000"/>
                </a:solidFill>
                <a:latin typeface="宋体"/>
                <a:ea typeface="宋体"/>
              </a:rPr>
              <a:t>1983</a:t>
            </a:r>
            <a:r>
              <a:rPr b="1" lang="zh-CN" sz="2800" spc="-1" strike="noStrike">
                <a:solidFill>
                  <a:srgbClr val="000000"/>
                </a:solidFill>
                <a:latin typeface="宋体"/>
                <a:ea typeface="宋体"/>
              </a:rPr>
              <a:t>年世界精神医学大会</a:t>
            </a:r>
            <a:r>
              <a:rPr b="1" lang="en-US" sz="2800" spc="-1" strike="noStrike">
                <a:solidFill>
                  <a:srgbClr val="000000"/>
                </a:solidFill>
                <a:latin typeface="宋体"/>
                <a:ea typeface="宋体"/>
              </a:rPr>
              <a:t>(WPA)</a:t>
            </a:r>
            <a:r>
              <a:rPr b="1" lang="zh-CN" sz="2800" spc="-1" strike="noStrike">
                <a:solidFill>
                  <a:srgbClr val="000000"/>
                </a:solidFill>
                <a:latin typeface="宋体"/>
                <a:ea typeface="宋体"/>
              </a:rPr>
              <a:t>在南京召开；</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成立了全国精神卫生协调组，由卫生、民政、公安、教育、财政和司法等部门组成，主要任务是规划、组织和指导全国的精神卫生工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1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1B61A-8860-4D07-B6A6-99FE627BFF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4" name="PlaceHolder 2"/>
          <p:cNvSpPr>
            <a:spLocks noGrp="1"/>
          </p:cNvSpPr>
          <p:nvPr>
            <p:ph/>
          </p:nvPr>
        </p:nvSpPr>
        <p:spPr>
          <a:xfrm>
            <a:off x="755640" y="980640"/>
            <a:ext cx="7291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改革开放以来，精神医学取得了长足的进步，国内外交流十分活跃，心理治疗和心理量表在精神科得到了前所未有普及，精神疾病的诊断、分类和治疗也逐步与国际精神医学接轨。国家对精神卫生事业也高度关注，精神卫生既是全球性的重大公共卫生问题，也是较为严重的社会问题。</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34555-5304-40EE-A485-30B0A9EA63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7" name="PlaceHolder 2"/>
          <p:cNvSpPr>
            <a:spLocks noGrp="1"/>
          </p:cNvSpPr>
          <p:nvPr>
            <p:ph/>
          </p:nvPr>
        </p:nvSpPr>
        <p:spPr>
          <a:xfrm>
            <a:off x="323640" y="980640"/>
            <a:ext cx="851508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2002</a:t>
            </a:r>
            <a:r>
              <a:rPr b="1" lang="zh-CN" sz="2800" spc="-1" strike="noStrike">
                <a:solidFill>
                  <a:srgbClr val="000000"/>
                </a:solidFill>
                <a:latin typeface="宋体"/>
                <a:ea typeface="宋体"/>
              </a:rPr>
              <a:t>年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国精神卫生工作规划</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条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在各大城市相继通过并实施。</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颁布标志着我国精神卫生工作进入了新的里程碑。目前我国精神卫生工作者努力的方向，一方面是使精神疾病患者的预后和生活质量大为改观，另一方面是深化对精神疾病的防治。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55AC5-794F-4248-83B1-06AE919D17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从有人类文化历史以来，人类社会就有对失去生活自理能力的患者提供的个人卫生方面的照顾和帮助的功能存在，这是护理原始功能的起始。正式的精神科护理的形成比较晚，国外有关精神科护理的文字记载源于</a:t>
            </a:r>
            <a:r>
              <a:rPr b="1" lang="en-US" sz="2800" spc="-1" strike="noStrike">
                <a:solidFill>
                  <a:srgbClr val="000000"/>
                </a:solidFill>
                <a:latin typeface="宋体"/>
                <a:ea typeface="宋体"/>
              </a:rPr>
              <a:t>1814</a:t>
            </a:r>
            <a:r>
              <a:rPr b="1" lang="zh-CN" sz="2800" spc="-1" strike="noStrike">
                <a:solidFill>
                  <a:srgbClr val="000000"/>
                </a:solidFill>
                <a:latin typeface="宋体"/>
                <a:ea typeface="宋体"/>
              </a:rPr>
              <a:t>年希区在精神病疗养院使用受过专门训练的女护士进行看护工作。</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以前的西方国家，精神疾病患者被收容在门禁森严的机构里被男性护理员看护。</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96B06-D579-42FC-B4E5-899F4FB660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3" name="PlaceHolder 2"/>
          <p:cNvSpPr>
            <a:spLocks noGrp="1"/>
          </p:cNvSpPr>
          <p:nvPr>
            <p:ph/>
          </p:nvPr>
        </p:nvSpPr>
        <p:spPr>
          <a:xfrm>
            <a:off x="250920" y="980640"/>
            <a:ext cx="858816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弗洛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南丁格尔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人口卫生与卫生管理原则</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强调防止精神疾病患者伤人、自伤，从此开始了要求护理人员在临床医学各科工作中不能忽视对精神问题的关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797B-D3BE-4E0E-A7AA-E372FBA99F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精神障碍和精神健康的概念</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比较国内外精神医学发展史</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举例国内外精神疾病患者的法律保护</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列举精神科护理的主要任务</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列举精神疾病相关的伦理与法律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25">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25">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F0B24-73C9-4D94-B440-CC7CEFF37B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6"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73</a:t>
            </a:r>
            <a:r>
              <a:rPr b="1" lang="zh-CN" sz="2800" spc="-1" strike="noStrike">
                <a:solidFill>
                  <a:srgbClr val="000000"/>
                </a:solidFill>
                <a:latin typeface="宋体"/>
                <a:ea typeface="宋体"/>
              </a:rPr>
              <a:t>年琳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理查兹由护理学校毕业后开始从事精神疾病患者护理，在工作中她提出了一项精神科护理计划。她强调要以对内科疾病患者护理同等水平来护理精神疾病患者，要重视患者躯体方面的护理与生活环境的改善。她的贡献及影响，确定了精神科护理的基础模式，因此她被称为美国精神科护理的先驱。</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24CFD-14BC-4D24-A5CE-D805042513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82</a:t>
            </a:r>
            <a:r>
              <a:rPr b="1" lang="zh-CN" sz="2800" spc="-1" strike="noStrike">
                <a:solidFill>
                  <a:srgbClr val="000000"/>
                </a:solidFill>
                <a:latin typeface="宋体"/>
                <a:ea typeface="宋体"/>
              </a:rPr>
              <a:t>年美国在马萨诸塞州的马克林医院开办了专门培训精神科护理人员的护理学校，它包含两年的课程。当时精神科护理人员的主要工作依然是照顾躯体各项功能，因此课程中很少有精神科方面的内容，护理教学的主要内容是保护和管理技巧，心理护理在当时的课程内容中只是提到要有耐心及亲切地照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10911-DB7E-4C53-8EF2-CFAE9274D9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2" name="PlaceHolder 2"/>
          <p:cNvSpPr>
            <a:spLocks noGrp="1"/>
          </p:cNvSpPr>
          <p:nvPr>
            <p:ph/>
          </p:nvPr>
        </p:nvSpPr>
        <p:spPr>
          <a:xfrm>
            <a:off x="971640" y="980640"/>
            <a:ext cx="7867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直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中叶，精神科护理职能拓宽到协助医生观察精神症状、运用基础护理技术协助对精神疾病患者进行治疗等。</a:t>
            </a:r>
            <a:r>
              <a:rPr b="1" lang="en-US" sz="2800" spc="-1" strike="noStrike">
                <a:solidFill>
                  <a:srgbClr val="000000"/>
                </a:solidFill>
                <a:latin typeface="宋体"/>
                <a:ea typeface="宋体"/>
              </a:rPr>
              <a:t>1954</a:t>
            </a:r>
            <a:r>
              <a:rPr b="1" lang="zh-CN" sz="2800" spc="-1" strike="noStrike">
                <a:solidFill>
                  <a:srgbClr val="000000"/>
                </a:solidFill>
                <a:latin typeface="宋体"/>
                <a:ea typeface="宋体"/>
              </a:rPr>
              <a:t>年前苏联出版的</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病护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详细阐述了精神疾病患者的症状护理与基础护理，强调要尊重、关心、体贴和爱护患者，并强调废除约束，组织患者的工娱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7672F-5A23-476B-8FAB-73928B87A8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5"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改革开放的发展，我国精神科护理界与国际护理界的交流日益增多，精神科护理理念、临床实践及护理管理逐渐与国际接轨。先后引进了责任制护理、整体护理、临床路径护理模式；精神病医院废除约束，开放病房区域内的门户，实行了开放式和半开放式管理制度，并取得了丰硕的成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FC166-E27F-44F9-801B-CEE636CEDB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华护理学会精神科护理专业委员会成立，定期举行全国性精神护理工作的学术交流。在国外，精神护理已有了很大的发展，形成了一套自己的观念体系。而国内这方面的发展很慢，时代在前进，我国的精神科护理须与精神卫生事业也同步迈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780D5-A8E3-4063-840D-97292F705E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1"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科护理工作的内容一般包括基础护理、危机状态的防范与护理、特殊治疗的护理、家庭及社区护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D8768-D6D7-420F-BB74-A2CEC5AC91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4" name="PlaceHolder 2"/>
          <p:cNvSpPr>
            <a:spLocks noGrp="1"/>
          </p:cNvSpPr>
          <p:nvPr>
            <p:ph/>
          </p:nvPr>
        </p:nvSpPr>
        <p:spPr>
          <a:xfrm>
            <a:off x="684360" y="1341360"/>
            <a:ext cx="8154720" cy="487512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理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对自己异常的心理活动十分苦恼，但很难引起别人的同情和理解，这些都会加重患者的心理创伤。护理人员不仅要理解和同情患者异常的心理活动，还要通过心理护理启发和帮助患者正确认识和对待疾病，帮助患者认识异常心理活动的表现，鼓励患者以坚强的意志和乐观的精神去战胜疾病过程中出现的各种困难，以积极的心态接受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B9FF-CD3C-4128-A11A-8E478FF14A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7" name="PlaceHolder 2"/>
          <p:cNvSpPr>
            <a:spLocks noGrp="1"/>
          </p:cNvSpPr>
          <p:nvPr>
            <p:ph/>
          </p:nvPr>
        </p:nvSpPr>
        <p:spPr>
          <a:xfrm>
            <a:off x="610920" y="1341000"/>
            <a:ext cx="8124840" cy="523548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睡眠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患者几乎都存在不同形式的睡眠障碍，患者的睡眠质量与患者的病情、服药的情况有关，做好睡眠护理对巩固治疗效果和稳定患者情绪至关重要。对睡眠的护理不仅要有安全意识，还要掌握睡眠的基本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E8119-2EA8-4919-8049-6A9411DAD8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护理工作的内容与特点</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保证医嘱的执行</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是最常用的治疗方法，必须时刻关注并保证患者按医嘱用药，护士在发药时，要先易后难，最后发给拒绝服药者。口服药必须做到发放到手，看服到口，服药后要检查口腔并观察患者饮用了水后才能离开，要严防患者吐药或藏药，对于拒不服药者，应及时向医师报告，更换给药途径或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F7167-7CE9-438F-81AA-B33D7FAB8A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3"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二、精神科护理人员的基本要求</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要具有良好的职业道德和敬业精神</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要具有丰富的社会、心理、生物医学知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B7D26-C0F7-4CB5-96EA-2EFBE31782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42920" y="475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概 述</a:t>
            </a:r>
            <a:br>
              <a:rPr sz="4000"/>
            </a:br>
            <a:endParaRPr b="0" lang="en-US" sz="3200" spc="-1" strike="noStrike">
              <a:solidFill>
                <a:srgbClr val="ffffff"/>
              </a:solidFill>
              <a:latin typeface="Verdana"/>
            </a:endParaRPr>
          </a:p>
        </p:txBody>
      </p:sp>
      <p:sp>
        <p:nvSpPr>
          <p:cNvPr id="128" name="PlaceHolder 2"/>
          <p:cNvSpPr>
            <a:spLocks noGrp="1"/>
          </p:cNvSpPr>
          <p:nvPr>
            <p:ph/>
          </p:nvPr>
        </p:nvSpPr>
        <p:spPr>
          <a:xfrm>
            <a:off x="539640" y="980640"/>
            <a:ext cx="8299440" cy="5235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的概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医学是临床医学的一个重要分支学科，是研究精神疾病病因、发病机制、临床表现、疾病发展规律以及治疗和预防的一门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07106-3B5A-4843-97E7-AE252D6FA1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6" name="PlaceHolder 2"/>
          <p:cNvSpPr>
            <a:spLocks noGrp="1"/>
          </p:cNvSpPr>
          <p:nvPr>
            <p:ph/>
          </p:nvPr>
        </p:nvSpPr>
        <p:spPr>
          <a:xfrm>
            <a:off x="394920" y="1341360"/>
            <a:ext cx="8443800" cy="48751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890</a:t>
            </a:r>
            <a:r>
              <a:rPr b="1" lang="zh-CN" sz="2800" spc="-1" strike="noStrike">
                <a:solidFill>
                  <a:srgbClr val="000000"/>
                </a:solidFill>
                <a:latin typeface="宋体"/>
                <a:ea typeface="宋体"/>
              </a:rPr>
              <a:t>年英国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疯人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首次通过立法提出保护精神疾病患者的权利和财产，不得非法拘禁精神疾病患者。</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年英国在议会上通过准许精神疾病患者自愿入住精神病院。</a:t>
            </a:r>
            <a:r>
              <a:rPr b="1" lang="en-US" sz="2800" spc="-1" strike="noStrike">
                <a:solidFill>
                  <a:srgbClr val="000000"/>
                </a:solidFill>
                <a:latin typeface="宋体"/>
                <a:ea typeface="宋体"/>
              </a:rPr>
              <a:t>1938</a:t>
            </a:r>
            <a:r>
              <a:rPr b="1" lang="zh-CN" sz="2800" spc="-1" strike="noStrike">
                <a:solidFill>
                  <a:srgbClr val="000000"/>
                </a:solidFill>
                <a:latin typeface="宋体"/>
                <a:ea typeface="宋体"/>
              </a:rPr>
              <a:t>年法国颁布了世界上第一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A2E16-ABB8-4ED8-AD5B-8D2AC9DA85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9" name="PlaceHolder 2"/>
          <p:cNvSpPr>
            <a:spLocks noGrp="1"/>
          </p:cNvSpPr>
          <p:nvPr>
            <p:ph/>
          </p:nvPr>
        </p:nvSpPr>
        <p:spPr>
          <a:xfrm>
            <a:off x="684360" y="1412640"/>
            <a:ext cx="8154720" cy="4803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我国于</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由卫生部组织起草</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草案，</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正式实施。使中国精神疾病患者合法权益的保护进入了一个崭新的时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1C7B8-4285-4926-836A-8B00AFFEB8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42"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精神疾病患者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身自由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治疗权利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知情同意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隐私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非自愿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242">
                                            <p:txEl>
                                              <p:pRg st="3" end="3"/>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242">
                                            <p:txEl>
                                              <p:pRg st="4" end="4"/>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42">
                                            <p:txEl>
                                              <p:pRg st="5" end="5"/>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4E557-29B7-4100-A94F-99CF39FDEB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br>
              <a:rPr sz="3200"/>
            </a:br>
            <a:endParaRPr b="0" lang="en-US" sz="3200" spc="-1" strike="noStrike">
              <a:solidFill>
                <a:srgbClr val="ffffff"/>
              </a:solidFill>
              <a:latin typeface="Verdana"/>
            </a:endParaRPr>
          </a:p>
        </p:txBody>
      </p:sp>
      <p:sp>
        <p:nvSpPr>
          <p:cNvPr id="245"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2</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时许，</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岁的严某在出租屋内与房东曹某因琐事发生争吵。严某被骂后，心生怒气，竟拿菜刀追砍曹某，致曹某头部、颈部砍伤（经鉴定，损伤达轻伤）。曹某逃离出租屋后，立即报警。后经法医精神病司法鉴定所鉴定，涉案人严某患有精神分裂症，作案时处于精神疾病的发病期，其所实施的伤害行为被评定为无刑事责任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87E3E-7A09-486F-B071-CC369A79DD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4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日，公安局将严某释放，因其有继续施暴的可能，遂将其送往医院精神科治疗。</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请问：非自愿入院患者送往医院精神科治疗需</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履行哪些手续？</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69EDB-8948-44C5-A755-20A04711EB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                                 </a:t>
            </a:r>
            <a:r>
              <a:rPr b="1" lang="zh-CN" sz="3200" spc="-1" strike="noStrike">
                <a:solidFill>
                  <a:srgbClr val="ffffff"/>
                </a:solidFill>
                <a:latin typeface="宋体"/>
                <a:ea typeface="宋体"/>
              </a:rPr>
              <a:t>概  述</a:t>
            </a:r>
            <a:br>
              <a:rPr sz="3200"/>
            </a:br>
            <a:endParaRPr b="0" lang="en-US" sz="3200" spc="-1" strike="noStrike">
              <a:solidFill>
                <a:srgbClr val="ffffff"/>
              </a:solidFill>
              <a:latin typeface="Verdana"/>
            </a:endParaRPr>
          </a:p>
        </p:txBody>
      </p:sp>
      <p:sp>
        <p:nvSpPr>
          <p:cNvPr id="131" name="PlaceHolder 2"/>
          <p:cNvSpPr>
            <a:spLocks noGrp="1"/>
          </p:cNvSpPr>
          <p:nvPr>
            <p:ph/>
          </p:nvPr>
        </p:nvSpPr>
        <p:spPr>
          <a:xfrm>
            <a:off x="610920" y="1483920"/>
            <a:ext cx="8227800" cy="4732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是指在各种生物学、心理学以及社会环境因素影响下大脑机能活动发生紊乱，导致认知、情感、行为、意志等方面的改变，可伴有痛苦体验和（或）功能损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EE5E0-8729-4DEB-A70D-7F8C421FEF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250920" y="1628640"/>
            <a:ext cx="8588160" cy="458784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根据有无器质性因素分为“器质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炎、慢性脏器衰竭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功能性”精神障碍，后者又分为重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分裂症）和轻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强迫障碍、应激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还有一类起于早年，可能持续终生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发育障碍、精神发育迟滞、人格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2DFBA-E050-412F-98F5-384B2AC7D9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7" name="PlaceHolder 2"/>
          <p:cNvSpPr>
            <a:spLocks noGrp="1"/>
          </p:cNvSpPr>
          <p:nvPr>
            <p:ph/>
          </p:nvPr>
        </p:nvSpPr>
        <p:spPr>
          <a:xfrm>
            <a:off x="468360" y="1412640"/>
            <a:ext cx="8370720" cy="480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国外研究表明，</a:t>
            </a:r>
            <a:r>
              <a:rPr b="1" lang="en-US" sz="2800" spc="-1" strike="noStrike">
                <a:solidFill>
                  <a:srgbClr val="000000"/>
                </a:solidFill>
                <a:latin typeface="宋体"/>
                <a:ea typeface="宋体"/>
              </a:rPr>
              <a:t>25%</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急诊患者是由于精神方面的问题而就诊。在美国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个人中就有</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在其一生某个时段中住进精神病院，</a:t>
            </a:r>
            <a:r>
              <a:rPr b="1" lang="en-US" sz="2800" spc="-1" strike="noStrike">
                <a:solidFill>
                  <a:srgbClr val="000000"/>
                </a:solidFill>
                <a:latin typeface="宋体"/>
                <a:ea typeface="宋体"/>
              </a:rPr>
              <a:t>1/4</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的人群将因精神健康问题寻求专业人员的帮助。我国目前精神病性障碍约有</a:t>
            </a:r>
            <a:r>
              <a:rPr b="1" lang="en-US" sz="2800" spc="-1" strike="noStrike">
                <a:solidFill>
                  <a:srgbClr val="000000"/>
                </a:solidFill>
                <a:latin typeface="宋体"/>
                <a:ea typeface="宋体"/>
              </a:rPr>
              <a:t>1600</a:t>
            </a:r>
            <a:r>
              <a:rPr b="1" lang="zh-CN" sz="2800" spc="-1" strike="noStrike">
                <a:solidFill>
                  <a:srgbClr val="000000"/>
                </a:solidFill>
                <a:latin typeface="宋体"/>
                <a:ea typeface="宋体"/>
              </a:rPr>
              <a:t>万，抑郁症患者约有</a:t>
            </a:r>
            <a:r>
              <a:rPr b="1" lang="en-US" sz="2800" spc="-1" strike="noStrike">
                <a:solidFill>
                  <a:srgbClr val="000000"/>
                </a:solidFill>
                <a:latin typeface="宋体"/>
                <a:ea typeface="宋体"/>
              </a:rPr>
              <a:t>3000</a:t>
            </a:r>
            <a:r>
              <a:rPr b="1" lang="zh-CN" sz="2800" spc="-1" strike="noStrike">
                <a:solidFill>
                  <a:srgbClr val="000000"/>
                </a:solidFill>
                <a:latin typeface="宋体"/>
                <a:ea typeface="宋体"/>
              </a:rPr>
              <a:t>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AEA56-F9BB-4642-B0D6-4D7D70480C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0"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球疾病负担研究中估计</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国仅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的抑郁症及双相障碍和</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精神分裂症患者得到了治疗，而发达国家分别为</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精神障碍识别率、治疗率较低，这是我国的精神卫生事业的巨大挑战之一。</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297C7-7F75-42D5-9DFC-34346D7938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3"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99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研究发现精神障碍及其相关心理行为问题所导致的疾病负担几乎占疾病总负担的一半。精神疾病属于低病死率和高致残率疾病，在死因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没有精神疾病，但在残疾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却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种精神疾病，分别是抑郁障碍、酒精滥用、双相障碍、精神分裂症和强迫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07:39:0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