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98E324-2360-4940-9F43-26A9655E80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CBE8132-229A-469B-AFD1-1E7F3A0D99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B7D9E14-BE2B-4AB6-A18A-E9BCAD5CF8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12E5A56-97EE-43D0-A255-886D4C99EC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40091BB-8577-4006-B2D7-63AA8AA2FD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E39D1AA-72F6-415D-8DD5-FF434069CC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E770025-11E9-4FDB-ACF4-35BFD37EF1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33EFD81-619D-4DAF-8736-7619A41331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A64CEBF-94A5-4358-8CC1-30FEB17F7D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C606B2A-ADDC-47AD-A149-F10D9D8E84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896C83-74D0-4763-B65F-0087E2FEA6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A2CB8D-7897-4768-9047-29B2A37B24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C7190-A91A-4B46-8F8F-58EDEC7E481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人际关系伦理</a:t>
            </a:r>
            <a:br>
              <a:rPr sz="4000"/>
            </a:br>
            <a:r>
              <a:rPr b="1" lang="zh-CN" sz="4000" spc="-1" strike="noStrike">
                <a:solidFill>
                  <a:srgbClr val="ff0000"/>
                </a:solidFill>
                <a:latin typeface="黑体"/>
                <a:ea typeface="黑体"/>
              </a:rPr>
              <a:t>       及道德规范</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9280" y="1484280"/>
            <a:ext cx="856944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专业性的帮助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性的人际关系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和信任的特殊群体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特殊的职业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的发展趋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患关系情感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多元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法制化趋势</a:t>
            </a:r>
            <a:endParaRPr b="1" lang="en-US" sz="2800" spc="-1" strike="noStrike">
              <a:solidFill>
                <a:srgbClr val="8ac8de"/>
              </a:solidFill>
              <a:latin typeface="Verdana"/>
            </a:endParaRPr>
          </a:p>
        </p:txBody>
      </p:sp>
      <p:sp>
        <p:nvSpPr>
          <p:cNvPr id="1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Box 2"/>
          <p:cNvSpPr/>
          <p:nvPr/>
        </p:nvSpPr>
        <p:spPr>
          <a:xfrm>
            <a:off x="0" y="1700280"/>
            <a:ext cx="8640720" cy="6127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0" name=""/>
          <p:cNvSpPr/>
          <p:nvPr/>
        </p:nvSpPr>
        <p:spPr>
          <a:xfrm>
            <a:off x="395280" y="1689120"/>
            <a:ext cx="8064360" cy="326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护患关系基本模式</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主动</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被动型</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指导</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合作型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共同参与型</a:t>
            </a:r>
            <a:r>
              <a:rPr b="0"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3" name="Rectangle 2"/>
          <p:cNvSpPr/>
          <p:nvPr/>
        </p:nvSpPr>
        <p:spPr>
          <a:xfrm>
            <a:off x="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患双方的权利与义务</a:t>
            </a:r>
            <a:endParaRPr b="0" lang="en-US" sz="3200" spc="-1" strike="noStrike">
              <a:solidFill>
                <a:srgbClr val="046ca6"/>
              </a:solidFill>
              <a:latin typeface="Arial"/>
            </a:endParaRPr>
          </a:p>
        </p:txBody>
      </p:sp>
      <p:sp>
        <p:nvSpPr>
          <p:cNvPr id="164" name="矩形 5"/>
          <p:cNvSpPr/>
          <p:nvPr/>
        </p:nvSpPr>
        <p:spPr>
          <a:xfrm>
            <a:off x="324000" y="1989000"/>
            <a:ext cx="8424720" cy="461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患者的权利和义务</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命权</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平等的医疗和护理服务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健康权</a:t>
            </a:r>
            <a:endParaRPr b="0" lang="en-US" sz="2800" spc="-1" strike="noStrike">
              <a:solidFill>
                <a:srgbClr val="046ca6"/>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主选择权</a:t>
            </a:r>
            <a:r>
              <a:rPr b="1" lang="zh-CN"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66" name="PlaceHolder 2"/>
          <p:cNvSpPr>
            <a:spLocks noGrp="1"/>
          </p:cNvSpPr>
          <p:nvPr>
            <p:ph/>
          </p:nvPr>
        </p:nvSpPr>
        <p:spPr>
          <a:xfrm>
            <a:off x="533520" y="1773000"/>
            <a:ext cx="8610480" cy="4895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身体所有权</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知情同意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隐私保密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被照顾与被探视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a:t>
            </a:r>
            <a:r>
              <a:rPr b="1" lang="zh-CN" sz="2400" spc="-1" strike="noStrike">
                <a:solidFill>
                  <a:srgbClr val="000000"/>
                </a:solidFill>
                <a:latin typeface="黑体"/>
                <a:ea typeface="黑体"/>
              </a:rPr>
              <a:t>）医疗诉讼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免除社会责任和义务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复印或者复制自己在医院的医疗和护理记录的权利</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000" y="1484280"/>
            <a:ext cx="8351640" cy="4681440"/>
          </a:xfrm>
          <a:prstGeom prst="rect">
            <a:avLst/>
          </a:prstGeom>
          <a:noFill/>
          <a:ln w="0">
            <a:noFill/>
          </a:ln>
        </p:spPr>
        <p:txBody>
          <a:bodyPr anchor="t">
            <a:normAutofit fontScale="97000"/>
          </a:bodyPr>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我保健，保持和恢复健康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配合医务人员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支持医学科学发展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遵守医护嘱咐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支付医护费用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遵守医院各项规章制度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尊重医护人员的人格、劳动及专业权利的义务</a:t>
            </a:r>
            <a:endParaRPr b="1" lang="en-US" sz="2800" spc="-1" strike="noStrike">
              <a:solidFill>
                <a:srgbClr val="8ac8de"/>
              </a:solidFill>
              <a:latin typeface="Verdana"/>
            </a:endParaRPr>
          </a:p>
        </p:txBody>
      </p:sp>
      <p:sp>
        <p:nvSpPr>
          <p:cNvPr id="168"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0" name=""/>
          <p:cNvSpPr txBox="1"/>
          <p:nvPr/>
        </p:nvSpPr>
        <p:spPr>
          <a:xfrm>
            <a:off x="250920" y="1700280"/>
            <a:ext cx="8664480" cy="461952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的权利 </a:t>
            </a:r>
            <a:endParaRPr b="1" lang="en-US" sz="2800" spc="-1" strike="noStrike">
              <a:solidFill>
                <a:srgbClr val="8ac8de"/>
              </a:solidFill>
              <a:latin typeface="Verdan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主行使护理的权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权要求服务的报酬津贴，享受国家规定的福 利待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获得继续教育深造的权利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在执业活动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格尊严，人身安全不受侵犯</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护士的权利和义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特殊干涉的权利</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当患者拒绝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适当隐瞒病情有利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保密会给患者或他人带来危害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必须实行行为控制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权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及时救治患者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人的生命、尊严和权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向患者解释说明和保护患者隐私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对他人、社会尽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发展护理科学的义务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如实记录和妥善保管病历的义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护患关系的影响因素及改善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影响护患关系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方面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职业道德素养较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专业知识薄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缺乏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1" name="PlaceHolder 2"/>
          <p:cNvSpPr>
            <a:spLocks noGrp="1"/>
          </p:cNvSpPr>
          <p:nvPr>
            <p:ph/>
          </p:nvPr>
        </p:nvSpPr>
        <p:spPr>
          <a:xfrm>
            <a:off x="304920" y="1371600"/>
            <a:ext cx="8610480" cy="594504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对健康的期望值过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不良的求医行为</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疾病本身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传统重医轻护观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医院管理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方面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文化和价值观念的差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格的差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633564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社会的关系及其道德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患者之间的关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人员与医生及护理人员之间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伦理关系</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28" name="Group 11"/>
          <p:cNvGrpSpPr/>
          <p:nvPr/>
        </p:nvGrpSpPr>
        <p:grpSpPr>
          <a:xfrm>
            <a:off x="1763640" y="4941720"/>
            <a:ext cx="687240" cy="594000"/>
            <a:chOff x="1763640" y="4941720"/>
            <a:chExt cx="687240" cy="594000"/>
          </a:xfrm>
        </p:grpSpPr>
        <p:sp>
          <p:nvSpPr>
            <p:cNvPr id="129" name="AutoShape 12"/>
            <p:cNvSpPr/>
            <p:nvPr/>
          </p:nvSpPr>
          <p:spPr>
            <a:xfrm>
              <a:off x="1769040" y="4951800"/>
              <a:ext cx="681840" cy="583920"/>
            </a:xfrm>
            <a:prstGeom prst="hexagon">
              <a:avLst>
                <a:gd name="adj" fmla="val 29192"/>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3"/>
            <p:cNvSpPr/>
            <p:nvPr/>
          </p:nvSpPr>
          <p:spPr>
            <a:xfrm>
              <a:off x="1763640" y="494172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14"/>
            <p:cNvSpPr/>
            <p:nvPr/>
          </p:nvSpPr>
          <p:spPr>
            <a:xfrm>
              <a:off x="1803600" y="4976640"/>
              <a:ext cx="599400" cy="513720"/>
            </a:xfrm>
            <a:prstGeom prst="hexagon">
              <a:avLst>
                <a:gd name="adj" fmla="val 29170"/>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改善护患关系的措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职业道德素质，规范护患双方行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不断提高专业理论和护理技术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加强护患沟通交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加强医院管理，严格执行各项规章制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护患关系的基本伦理规范与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患关系的道德要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热爱工作，敬业尽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业务学习，提高专业水平</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一视同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患者的人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患者的生命价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的权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认真负责，任劳任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患关系的沟通技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讲究语言修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运用语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言语谨慎，文明亲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三节  护理人员与医生及护理人员之间的伦理关系</a:t>
            </a:r>
            <a:endParaRPr b="0" lang="en-US" sz="2800" spc="-1" strike="noStrike">
              <a:solidFill>
                <a:srgbClr val="ffffff"/>
              </a:solidFill>
              <a:latin typeface="Verdana"/>
            </a:endParaRPr>
          </a:p>
        </p:txBody>
      </p:sp>
      <p:sp>
        <p:nvSpPr>
          <p:cNvPr id="189" name="PlaceHolder 2"/>
          <p:cNvSpPr>
            <a:spLocks noGrp="1"/>
          </p:cNvSpPr>
          <p:nvPr>
            <p:ph/>
          </p:nvPr>
        </p:nvSpPr>
        <p:spPr>
          <a:xfrm>
            <a:off x="533520" y="1700280"/>
            <a:ext cx="8610480" cy="4876560"/>
          </a:xfrm>
          <a:prstGeom prst="rect">
            <a:avLst/>
          </a:prstGeom>
          <a:noFill/>
          <a:ln w="0">
            <a:noFill/>
          </a:ln>
        </p:spPr>
        <p:txBody>
          <a:bodyPr lIns="90000" rIns="90000" tIns="46800" bIns="46800" anchor="t">
            <a:normAutofit/>
          </a:bodyPr>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人员与医生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互相平等，分工协作</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相互尊重，彼此监督</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沟通，互相协调</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人员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团结协作，荣辱共担</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患者至上，尊重他人</a:t>
            </a:r>
            <a:endParaRPr b="1" lang="en-US" sz="2400" spc="-1" strike="noStrike">
              <a:solidFill>
                <a:srgbClr val="8ac8de"/>
              </a:solidFill>
              <a:latin typeface="Verdana"/>
            </a:endParaRPr>
          </a:p>
          <a:p>
            <a:pPr marL="71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尊重爱护，取长补短</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四节  护理人员与其他医务人员合作的伦理规范</a:t>
            </a:r>
            <a:endParaRPr b="0" lang="en-US" sz="2800" spc="-1" strike="noStrike">
              <a:solidFill>
                <a:srgbClr val="ffffff"/>
              </a:solidFill>
              <a:latin typeface="Verdana"/>
            </a:endParaRPr>
          </a:p>
        </p:txBody>
      </p:sp>
      <p:sp>
        <p:nvSpPr>
          <p:cNvPr id="191" name="PlaceHolder 2"/>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理人员与医技科室人员关系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相互支持与配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与药剂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与医学影像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士与医学检验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相互理解与尊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理人员与行政、后勤人员关系的伦理规范</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属于平等协作的关系</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1197000"/>
            <a:ext cx="9144000" cy="5184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护患关系、医护关系、护护关系、护患冲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列举护士与患者双方各自的权利与义务</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解释护患关系的模式及临床应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护理人员与医务工作者之间的伦理规范</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针对临床护患矛盾与冲突，能够正确认识与评估影响  护患关系的因素及实施处理原则   </a:t>
            </a:r>
            <a:endParaRPr b="1" lang="en-US" sz="24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临床工作中，与医生共同协作，彼此尊重，确保患者的医疗权利、自主选择权利、知情同意等权利的维护</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案例</a:t>
            </a:r>
            <a:r>
              <a:rPr b="1" lang="en-US" sz="1800" spc="-1" strike="noStrike">
                <a:solidFill>
                  <a:srgbClr val="000000"/>
                </a:solidFill>
                <a:latin typeface="黑体"/>
                <a:ea typeface="黑体"/>
              </a:rPr>
              <a:t>3-1</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011</a:t>
            </a:r>
            <a:r>
              <a:rPr b="1" lang="zh-CN" sz="1800" spc="-1" strike="noStrike">
                <a:solidFill>
                  <a:srgbClr val="000000"/>
                </a:solidFill>
                <a:latin typeface="黑体"/>
                <a:ea typeface="黑体"/>
              </a:rPr>
              <a:t>年</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月，某医院</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房在未请示上级领导的情况下，派出</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名工作人员将</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智障患者送至救助站，其中</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护理人员先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智障患者进救助站，并谎称是在路边看到的流浪儿童。随后，另外</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医护人员请的士司机帮忙将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女性智障患者送至救助站。</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救助站工作人员询问相关情况后，怀疑是一起遗弃智障儿童案件，要求进行详细核查，医护人员才不得已亮明身份，并希望救助站能接收这</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患者，遭到救助站工作人员拒绝。在多方协调无果后，只得将患者带回医院。</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该事件被媒体曝光后，引起社会各界高度重视，相关部门通报了该事件处理结果：撤销当事人</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区护士长职务、停发三个月奖金；该院书记、院长、分管业务副院长承担管理上的责任，停发当月奖金；对医院医务处主任给予通报批评、停发当月奖金；对</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救助病区责任人给予通报批评、停发当月奖金。</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此案例中智障患者的哪些权利遭到侵犯？</a:t>
            </a:r>
            <a:endParaRPr b="1" lang="en-US" sz="1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110</a:t>
            </a:r>
            <a:r>
              <a:rPr b="1" lang="zh-CN" sz="1800" spc="-1" strike="noStrike">
                <a:solidFill>
                  <a:srgbClr val="000000"/>
                </a:solidFill>
                <a:latin typeface="黑体"/>
                <a:ea typeface="黑体"/>
              </a:rPr>
              <a:t>病房护士的行为是否符合护理伦理道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Rectangle 2"/>
          <p:cNvSpPr/>
          <p:nvPr/>
        </p:nvSpPr>
        <p:spPr>
          <a:xfrm>
            <a:off x="250920" y="260280"/>
            <a:ext cx="8497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333000"/>
            <a:ext cx="835344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ffffff"/>
              </a:solidFill>
              <a:latin typeface="Verdana"/>
            </a:endParaRPr>
          </a:p>
        </p:txBody>
      </p:sp>
      <p:sp>
        <p:nvSpPr>
          <p:cNvPr id="14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人际关系的概述</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黑体"/>
                <a:ea typeface="黑体"/>
              </a:rPr>
              <a:t>在了临床医护实践中，护理人际关系是护理人员在工作过程中所形成的多种人际关系的总和，包括护理人员与患者、护理人员之间、护理人员与其他医务人员以及护理人员与社会的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人际关系与医院人际关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院人际关系的特点</a:t>
            </a: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01120" y="2205000"/>
            <a:ext cx="8642520" cy="518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利于提高护理工作的质量和效率</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利于贯彻以人文本的护理理念</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利于营造良好的护理服务氛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利于促进护理科学的发展 </a:t>
            </a:r>
            <a:endParaRPr b="1" lang="en-US" sz="2800" spc="-1" strike="noStrike">
              <a:solidFill>
                <a:srgbClr val="8ac8de"/>
              </a:solidFill>
              <a:latin typeface="Verdana"/>
            </a:endParaRPr>
          </a:p>
        </p:txBody>
      </p:sp>
      <p:sp>
        <p:nvSpPr>
          <p:cNvPr id="142" name="Rectangle 2"/>
          <p:cNvSpPr/>
          <p:nvPr/>
        </p:nvSpPr>
        <p:spPr>
          <a:xfrm>
            <a:off x="0" y="333360"/>
            <a:ext cx="8388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3" name="TextBox 4"/>
          <p:cNvSpPr/>
          <p:nvPr/>
        </p:nvSpPr>
        <p:spPr>
          <a:xfrm>
            <a:off x="179280" y="1413000"/>
            <a:ext cx="64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研究护理人际关系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9280" y="2492280"/>
            <a:ext cx="8964720" cy="467064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面向社会，一视同仁</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坚持原则，尽职尽责</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钻研业务，自我提高</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任劳任怨，全力以赴</a:t>
            </a:r>
            <a:endParaRPr b="1" lang="en-US" sz="2800" spc="-1" strike="noStrike">
              <a:solidFill>
                <a:srgbClr val="8ac8de"/>
              </a:solidFill>
              <a:latin typeface="Verdana"/>
            </a:endParaRPr>
          </a:p>
        </p:txBody>
      </p:sp>
      <p:sp>
        <p:nvSpPr>
          <p:cNvPr id="145" name="Rectangle 2"/>
          <p:cNvSpPr/>
          <p:nvPr/>
        </p:nvSpPr>
        <p:spPr>
          <a:xfrm>
            <a:off x="179280" y="189000"/>
            <a:ext cx="8496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6" name="TextBox 4"/>
          <p:cNvSpPr/>
          <p:nvPr/>
        </p:nvSpPr>
        <p:spPr>
          <a:xfrm>
            <a:off x="179280" y="1557360"/>
            <a:ext cx="676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护理人员与社会关系的伦理要求</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2133720"/>
            <a:ext cx="8610480" cy="487656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护患关系的概述</a:t>
            </a:r>
            <a:endParaRPr b="1" lang="en-US" sz="2800" spc="-1" strike="noStrike">
              <a:solidFill>
                <a:srgbClr val="8ac8de"/>
              </a:solidFill>
              <a:latin typeface="Verdan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是在特定的条件下，护理人员通过医疗、护理等活动与患者建立起的一种工作性的人际关系。它包括护理人员与患者、患者家属、陪护人、监护人、单位与组织等的关系。</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51" name="TextBox 4"/>
          <p:cNvSpPr/>
          <p:nvPr/>
        </p:nvSpPr>
        <p:spPr>
          <a:xfrm>
            <a:off x="0" y="1341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患关系的概述与基本模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3"/>
          <p:cNvSpPr/>
          <p:nvPr/>
        </p:nvSpPr>
        <p:spPr>
          <a:xfrm>
            <a:off x="684360" y="1628640"/>
            <a:ext cx="4032000" cy="430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护患关系的基本内容</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非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道德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利益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法律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价值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文化关系</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38Z</dcterms:modified>
  <cp:revision>21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