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D731-0C51-4B4B-8849-026F26D5F9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69EB7-B6F4-4DD9-A36A-D2FE4613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EF5A7-4B43-42C8-8443-63461980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6E28C-CD4D-4012-B0FA-6D32E1EA7D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CAB54-D6FC-4E03-9C19-4FD8586B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AC67-9701-44A3-99E6-415B7D8A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75E59-9D55-4A8E-B73C-1E53DD8C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9356-1F47-4F24-91F7-661C6B5B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8990F-9C51-4D5D-AFBB-447A63B3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34F75-0501-46E3-8F4F-42986A06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D7C18-4039-415C-82BC-BE738A27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DE43-924C-49D5-B38E-6EB58394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A20E-6107-417C-A8F0-9227519F737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77300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临终护理和死亡的伦理问题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265040"/>
            <a:ext cx="8893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源于希腊和古罗马时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师、修女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引申如医学领域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6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现代临终关怀的主要创始人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英国的桑德斯博士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Dame Cicely Saunder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创办了世界著名的临终关怀机构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圣克里斯多弗临终关怀院，开创了现代临终关怀之先河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代中期，现代临终关怀机构在世界各国相继建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关怀的发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外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内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引入我国大陆并被译为临终关怀始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。同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日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天津医科大学临终关怀研究中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成立，该中心是中国（包括台湾和港澳地区）第一家临终关怀专门研究机构。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临终关怀的主要内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减轻晚期患者的痛苦和不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为临终患者提供精神支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为临终患者家属提供多方面的帮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学和方法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姑息性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客观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整体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调整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生命伦理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统一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权利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公平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临终护理的一般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质量原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确保患者的症状得到很好的处理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舒适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个体化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同意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告知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综合治疗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无创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独立的临终关怀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ree standing 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附设的临终关怀机构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institution based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unit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家庭临终关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居家照料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m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指临终患者在自己家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由家属提供基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日常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照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五、临终关怀的伦理意义与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是以人为中心的医学人道主义的重要体现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体现了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神圣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质量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价值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统一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是对医学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无伤害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有利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尊重和实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医学认为，死亡是人这一多层次的物质系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可逆的崩溃过程，分为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濒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临床死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物学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个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濒死期是死亡的开始阶段，也称临终状态，人体重要生命器官功能趋于衰竭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临床死亡期是生物学死亡前的一个短暂阶段，人的心跳、呼吸停止，反应完全消失，但机体尚进行着微弱的代谢过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生物学死亡期是整个机体的生理功能停止并进入不可恢复状态 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死亡判定标准，即心肺死亡判定标准，其判定标准为心跳、呼吸的停止，血压和脉搏的消失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脉搏说，即以脉搏、心跳停止跳动作为死亡的标准，也称心脏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说，即以呼吸停止作为死亡判定标准，也称呼吸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综合说，即综合脉搏、心脏停止跳动与呼吸停止来判断死亡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目   录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525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与临终患者的特点及需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关怀及其伦理要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亡定义与标准的伦理分析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的伦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19280" y="1268280"/>
            <a:ext cx="688680" cy="594000"/>
            <a:chOff x="1619280" y="126828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24680" y="127836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19280" y="126828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659240" y="130320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835280" y="1341360"/>
            <a:ext cx="26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19280" y="206064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835280" y="2060640"/>
            <a:ext cx="28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19280" y="2924280"/>
            <a:ext cx="686880" cy="593640"/>
            <a:chOff x="1619280" y="292428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24680" y="2934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19280" y="292428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659240" y="295920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08000" y="5157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41128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411280" y="26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411280" y="350028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11280" y="436572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619280" y="3789360"/>
            <a:ext cx="719280" cy="593640"/>
          </a:xfrm>
          <a:prstGeom prst="hexagon">
            <a:avLst>
              <a:gd name="adj" fmla="val 28580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835280" y="386064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619280" y="4653000"/>
            <a:ext cx="682560" cy="582480"/>
          </a:xfrm>
          <a:prstGeom prst="hexagon">
            <a:avLst>
              <a:gd name="adj" fmla="val 2894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35280" y="472428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157720"/>
            <a:ext cx="47516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997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心肺死亡判定标准的局限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与传统心肺死亡标准不相符的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特殊现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屡有发生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人工复苏技术的发展，心脏起搏器、人工呼吸机、人工血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液循环系统等先进医疗设施的应用，可使一些大脑已受到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不可逆转损伤的患者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继续维持心跳和呼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现代移植技术的应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脑死亡的概念及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谓脑死亡，是指原发于脑组织的严重损伤或脑的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发性疾病，致使脑的全部机能丧失而引发的死亡，其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显著特征是“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不可逆的昏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各国的临床实践，可将脑死亡的诊断标准归纳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深度昏迷；②脑反射消失；③无自主呼吸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脑电图检查显示脑电波平坦；⑤脑循环停止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脑死亡标准的伦理意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使死亡标准更趋科学化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既反映了临床死亡，又反映了社会死亡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利于临床难题的决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可以促进器官移植技术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尸体料理，是临终关怀的重要组成部分，不仅是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种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必要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学护理学操作手段，也是涉及到死者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亲属、家庭、医院，以及心理学、社会学、宗教学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民俗学等多方面的问题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严肃认真、一丝不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注意减少对其他患者及家属的影响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对社会负责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四）妥善料理遗嘱和遗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布莱克法律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国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学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韦伯斯特大学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新哥伦比亚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牛津法律指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安乐死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500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8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日，王明成的母亲夏素文因肝硬化晚期腹胀伴严重腹水，被送往汉中市传染病医院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看到母亲痛不欲生的惨状，王明成和妹妹要求主治医生蒲连升对其母亲实行安乐死，并在处方上签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这是中国第一例安乐死案件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安乐死开始走近我们的生活，并引起极大的社会关注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962160" cy="2852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76920" y="3276720"/>
            <a:ext cx="42670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2003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，王明成因胃癌复发住进西安交通大学附属二院。癌细胞在腹腔内转移扩散，导致肝功能衰竭，肝腹水严重。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日，王明成向医生递交了一封请求安乐死的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从医学伦理学的角度，可以将安乐死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为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不治之症的患者（包括脑死亡者）在危重濒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状态时，由于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精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躯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极端痛苦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难以忍受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在患者或家属的合理及迫切要求下，经医生、权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威的医学专家机构鉴定认可，符合法律规定，按照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律程序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用人为的医学方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使患者在无痛苦状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下渡过死亡阶段而终结生命的全过程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本人要求，或患者有过要求安乐死的愿望，或对安乐死表示过同意，即在患者本身同意或要求之下为其执行安乐死，此时执行者只是遵从自愿死亡者所表达的意愿而已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non - 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没有表达过同意安乐死的意愿，即未经患者同意或自愿要求而为其执行安乐死，由执行者为患者做出安乐死的决定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学习目标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识记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复述临终关怀的工作内容及原则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列举安乐死的伦理争议内容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</a:rPr>
              <a:t>理解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解释脑死亡的标准及脑死亡的伦理意义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析安乐死的分类，安乐死的伦理争议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应用临终关怀及安乐死的伦理原则分析所遇到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临床实际问题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具备准确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，且从未表达过接受安乐死的意愿，或者明确表达过不接受安乐死的意愿，但其亲属或他人未经患者本人许可，以种种理由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失去了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（如处于不可逆的昏迷状态），或失去了正确表达意愿的能力（如重度精神障碍），或尚不具备表达意愿的能力（如婴儿），其亲属或监护人以他们的生命不再有意义为理由，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对于第一种情况，绝大多数人持反对态度；对于第二种情况，尚有部分人持认可态度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安乐死执行方式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主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t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采取某种措施加速患者的死亡，也称积极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被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pass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终止患者的治疗和生命维持的措施，听任患者死亡，也称消极安乐死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来看，安乐死可以分为四种类型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被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被动安乐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最容易被接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国外安乐死现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3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英国成立有许多社会名流参加的自愿安乐死协会，并几度提议立法，但未获通过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澳大利亚和南非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以后，丹麦、瑞典、意大利、法国等国相继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157720"/>
            <a:ext cx="8305920" cy="1343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美国对是否允许安乐死讨论的赞成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年    份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947              1973               1983            1997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赞成数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7%              51%               63%            74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3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14716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，在日本东京召开了第一次安乐死国际讨论会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“国际死亡权利联合会成立”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美国，医生亲自给患者注射致死剂量药物要定为一级谋杀罪；如让患者能达到自杀的目的而提供方便，就要被定为二级谋杀罪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澳大利亚北部地区曾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通过一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垂危患者权利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但该法生效不到一年就被废除了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中国传统思想里就有乐生、重生，甚至长生不老的观点，再加上现在虐待老人事件仍层出不穷，担心安乐死被用于他途，对主动安乐死持慎之又慎的态度在我国居于主导地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，卫生部在研究七届人大代表建议安乐死立法的提案后答复：“安乐死”是一种具有特殊意义的死亡类型，它既是一个复杂的医学、法学问题，又是一个极为敏感的社会、伦理问题，因此制定“安乐死”法规目前条件尚不成熟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71920" y="115920"/>
            <a:ext cx="292392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民众关注</a:t>
            </a:r>
            <a:r>
              <a:rPr b="0" lang="zh-CN" sz="4000" spc="-1" strike="noStrike">
                <a:solidFill>
                  <a:srgbClr val="ff0000"/>
                </a:solidFill>
                <a:latin typeface="方正姚体"/>
                <a:ea typeface="黑体"/>
              </a:rPr>
              <a:t>安乐死事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23160" y="5715000"/>
            <a:ext cx="68832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病痛折磨着的患者唯一的愿望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867280"/>
            <a:ext cx="822960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生命，象风中之烛如此脆弱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yi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濒死，是临近死亡的阶段，指由于疾病、伤害或老化造成生命机体某个（些）主要器官系统生理功能趋于衰竭，导致机体各器官系统间的协调功能遭受不可逆的进行性损害，直至机体的整体生命活动完全停止这段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关于临终期的时间范围尚无统一的界定，一般指生命最后的数月至半年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二次会议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三次会议上都有代表联名提案，建议就“安乐死”立法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，上海市人代会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名代表提出“建议制定上海市实施‘安乐死’法规”的议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广东有政协委员在省政协九届一次会议提出：应对无可救治的晚期癌症患者实行“安乐死”。但省人大教育科学文化卫生委员会在会办该提案时指出，立法实行“安乐死”有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宪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安乐死的适用对象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以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种患者是实施安乐死的适用对象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濒死的，极端痛苦的癌症患者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永久无意识的人，即植物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具有严重畸形或先天缺陷的婴儿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严重精神障碍的成人或因年迈而受痛苦折磨的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自愿安乐死与非自愿安乐死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只准许将自愿安乐死合法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出于自愿，明确提出安乐死的要求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若预先声明其意愿，即可视为是自愿的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由患者的家属代理同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被动安乐死和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安全条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定义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权利问题：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一是权利的性质；二是权利的主体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仁慈与残酷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社会地位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伦理评价标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护理濒死患者应秉持的伦理观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护人员在护理濒死患者时应考虑以下重点内容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利益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家属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各国现行的法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护人员自身的尊严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国外立法进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荷兰，“安乐死”法案早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下院先行通过，成为世界上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第一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将“安乐死”合法化的国家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世界上第二个“安乐死”合法化的国家是比利时，该国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通过允许对成人实施安乐死的法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，比利时下院通过一项“让重症儿童享有‘安乐死’权利”的法案。自此，比利时成为世界首个取消“安乐死”年龄限制的国家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国内立法进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中国自愿安乐死协会正式成立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召开的八届人大第三次会议上，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位代表递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份有关安乐死立法问题的议案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来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个省市的伦理学界、医学界、法学界近百名专家学者在上海举行了第一次全国性的“安乐死”学术讨论会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举行的全国“两会”上，部分人大代表提出建议，不应拒绝“安乐死”这种符合人道主义的“放弃生命”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104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患者的生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循环衰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呼吸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胃肠道功能紊乱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肌张力丧失、大小便失禁、吞咽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感知觉、意识发生改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库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罗斯临终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心理发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否认（震惊）（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denial/shock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愤怒（焦虑）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nger/emot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讨价还价／协议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bargainin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抑郁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reparatory depress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接纳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cceptanc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帕蒂森的临终心理发展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二阶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急性危机期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ute crisis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慢性生存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濒死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hronic living-dying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78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临终患者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舒适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心理干预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适度医疗的需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环境设置的需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9080" y="1265040"/>
            <a:ext cx="84963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终关怀是为临终患者及其家属所提供的一种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全面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服务，包括生理、心理、社会、精神等多方面，使临终者的生命得到尊重，症状得到控制。在临终时能够无痛苦、相对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舒适安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走完人生的最后旅程，同时家属的身心健康得到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维护和增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平静地重新开始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正常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31:34Z</dcterms:modified>
  <cp:revision>19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