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27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gif" ContentType="image/gif"/>
  <Override PartName="/ppt/media/image25.jpeg" ContentType="image/jpeg"/>
  <Override PartName="/ppt/media/image2.png" ContentType="image/pn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A9AD5-77D5-4BC1-8964-CBDCE7EA26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E82BA-B97A-40CD-84E1-97F0B726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D3CF2-8798-48D5-9DC5-AF170251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497A9-9645-4EFD-AA7B-19602040A4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6DB7F-A8B1-40AF-B7DF-AD173D00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237FB-AA74-4DC6-8DC0-58786382D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79E41-8EDE-468E-9CB9-7FD2855E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99430-2752-42AB-804B-B98FC037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A131D-2CBA-4C37-B62B-F3B08655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491A0-971D-4E6E-A037-F5D998B3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9E9B9-97B1-431F-8FBC-985B4717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BECF0-F451-482E-8962-19082F79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FA277-5525-450E-B52E-9C3A8855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F5F017-05E4-474F-961F-B07EAF58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45B1F-5BE2-4DE1-BD43-5DBC18D4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34D2D-80C5-4125-B74D-32286CC7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56602-869B-4B39-80CA-76858E850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95858-1AF7-4A95-BEF2-B34CBEFE0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B0173-40CE-44C5-8E3F-0DD05BBD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C670F-5F1C-4FDA-9A12-4D1B48499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3A66C-885D-4EA1-87C4-D82220CE3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525E1-4777-4064-8B55-2B592BFB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F0E17-A6D5-4AB1-B40A-78BA7131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35B49-E6BA-499A-9A82-48A8CF1B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5A33-7123-4DBF-A689-A4719196555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A417-3749-4511-BB5F-04427EDBB448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七章  临终护理伦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547280" y="544500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范宇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3D66-B7EF-434F-A045-BF36DB44BCB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234900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现代的临终关怀倡导者和奠基人桑德斯博士于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1967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在英国伦敦创立了临终关怀机构，开创了现代临终关怀之先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世纪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7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代中期，现代的临终关怀医院在世界各国相继建立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75564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7" name="Group 45"/>
          <p:cNvGrpSpPr/>
          <p:nvPr/>
        </p:nvGrpSpPr>
        <p:grpSpPr>
          <a:xfrm>
            <a:off x="611280" y="1413000"/>
            <a:ext cx="6481080" cy="792000"/>
            <a:chOff x="611280" y="1413000"/>
            <a:chExt cx="6481080" cy="792000"/>
          </a:xfrm>
        </p:grpSpPr>
        <p:sp>
          <p:nvSpPr>
            <p:cNvPr id="208" name="AutoShape 3"/>
            <p:cNvSpPr/>
            <p:nvPr/>
          </p:nvSpPr>
          <p:spPr>
            <a:xfrm>
              <a:off x="1235520" y="1467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Rectangle 4"/>
            <p:cNvSpPr/>
            <p:nvPr/>
          </p:nvSpPr>
          <p:spPr>
            <a:xfrm>
              <a:off x="1999080" y="1484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历史发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0" name="Group 43"/>
            <p:cNvGrpSpPr/>
            <p:nvPr/>
          </p:nvGrpSpPr>
          <p:grpSpPr>
            <a:xfrm>
              <a:off x="611280" y="1413000"/>
              <a:ext cx="1664640" cy="792000"/>
              <a:chOff x="611280" y="1413000"/>
              <a:chExt cx="1664640" cy="792000"/>
            </a:xfrm>
          </p:grpSpPr>
          <p:grpSp>
            <p:nvGrpSpPr>
              <p:cNvPr id="211" name="Group 12"/>
              <p:cNvGrpSpPr/>
              <p:nvPr/>
            </p:nvGrpSpPr>
            <p:grpSpPr>
              <a:xfrm>
                <a:off x="611280" y="1413000"/>
                <a:ext cx="1664640" cy="792000"/>
                <a:chOff x="611280" y="1413000"/>
                <a:chExt cx="1664640" cy="792000"/>
              </a:xfrm>
            </p:grpSpPr>
            <p:grpSp>
              <p:nvGrpSpPr>
                <p:cNvPr id="212" name="Group 13"/>
                <p:cNvGrpSpPr/>
                <p:nvPr/>
              </p:nvGrpSpPr>
              <p:grpSpPr>
                <a:xfrm>
                  <a:off x="611280" y="1413000"/>
                  <a:ext cx="1664640" cy="792000"/>
                  <a:chOff x="611280" y="1413000"/>
                  <a:chExt cx="1664640" cy="792000"/>
                </a:xfrm>
              </p:grpSpPr>
              <p:pic>
                <p:nvPicPr>
                  <p:cNvPr id="213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413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4" name="Oval 15"/>
                  <p:cNvSpPr/>
                  <p:nvPr/>
                </p:nvSpPr>
                <p:spPr>
                  <a:xfrm>
                    <a:off x="611280" y="1413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15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420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16" name="WordArt 17"/>
              <p:cNvSpPr txBox="1"/>
              <p:nvPr/>
            </p:nvSpPr>
            <p:spPr>
              <a:xfrm>
                <a:off x="1008720" y="1629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二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2666160" y="1844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一）临终关怀的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9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20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1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人类对自身关怀的表达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23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2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医学人道主义的具体体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12"/>
          <p:cNvGrpSpPr/>
          <p:nvPr/>
        </p:nvGrpSpPr>
        <p:grpSpPr>
          <a:xfrm>
            <a:off x="539640" y="3860640"/>
            <a:ext cx="3887640" cy="1224000"/>
            <a:chOff x="539640" y="3860640"/>
            <a:chExt cx="3887640" cy="1224000"/>
          </a:xfrm>
        </p:grpSpPr>
        <p:sp>
          <p:nvSpPr>
            <p:cNvPr id="226" name="AutoShape 13"/>
            <p:cNvSpPr/>
            <p:nvPr/>
          </p:nvSpPr>
          <p:spPr>
            <a:xfrm>
              <a:off x="610920" y="38606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14"/>
            <p:cNvSpPr/>
            <p:nvPr/>
          </p:nvSpPr>
          <p:spPr>
            <a:xfrm>
              <a:off x="539640" y="427824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3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社会文明的进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8" name="Group 15"/>
          <p:cNvGrpSpPr/>
          <p:nvPr/>
        </p:nvGrpSpPr>
        <p:grpSpPr>
          <a:xfrm>
            <a:off x="4211640" y="3716280"/>
            <a:ext cx="4319640" cy="1379160"/>
            <a:chOff x="4211640" y="3716280"/>
            <a:chExt cx="4319640" cy="1379160"/>
          </a:xfrm>
        </p:grpSpPr>
        <p:sp>
          <p:nvSpPr>
            <p:cNvPr id="229" name="AutoShape 16"/>
            <p:cNvSpPr/>
            <p:nvPr/>
          </p:nvSpPr>
          <p:spPr>
            <a:xfrm>
              <a:off x="4211640" y="371628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Text Box 17"/>
            <p:cNvSpPr/>
            <p:nvPr/>
          </p:nvSpPr>
          <p:spPr>
            <a:xfrm>
              <a:off x="5219640" y="414828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4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可以节约卫生资源，符合社会公益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1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32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7" name="Rectangle 42"/>
          <p:cNvSpPr/>
          <p:nvPr/>
        </p:nvSpPr>
        <p:spPr>
          <a:xfrm>
            <a:off x="3600360" y="1125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三、临终关怀的伦理意义和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1406520" y="155736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二）临终关怀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41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一）尊重临终患者的权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3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44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二）临终关怀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6" name="Group 12"/>
          <p:cNvGrpSpPr/>
          <p:nvPr/>
        </p:nvGrpSpPr>
        <p:grpSpPr>
          <a:xfrm>
            <a:off x="611280" y="3646440"/>
            <a:ext cx="3816360" cy="1364760"/>
            <a:chOff x="611280" y="3646440"/>
            <a:chExt cx="3816360" cy="1364760"/>
          </a:xfrm>
        </p:grpSpPr>
        <p:sp>
          <p:nvSpPr>
            <p:cNvPr id="247" name="AutoShape 13"/>
            <p:cNvSpPr/>
            <p:nvPr/>
          </p:nvSpPr>
          <p:spPr>
            <a:xfrm>
              <a:off x="611280" y="36464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14"/>
            <p:cNvSpPr/>
            <p:nvPr/>
          </p:nvSpPr>
          <p:spPr>
            <a:xfrm>
              <a:off x="755640" y="40640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三）了解患者的生理状况及需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15"/>
          <p:cNvGrpSpPr/>
          <p:nvPr/>
        </p:nvGrpSpPr>
        <p:grpSpPr>
          <a:xfrm>
            <a:off x="4211640" y="3646440"/>
            <a:ext cx="4319640" cy="1379160"/>
            <a:chOff x="4211640" y="3646440"/>
            <a:chExt cx="4319640" cy="1379160"/>
          </a:xfrm>
        </p:grpSpPr>
        <p:sp>
          <p:nvSpPr>
            <p:cNvPr id="250" name="AutoShape 16"/>
            <p:cNvSpPr/>
            <p:nvPr/>
          </p:nvSpPr>
          <p:spPr>
            <a:xfrm>
              <a:off x="4211640" y="36464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Text Box 17"/>
            <p:cNvSpPr/>
            <p:nvPr/>
          </p:nvSpPr>
          <p:spPr>
            <a:xfrm>
              <a:off x="5219640" y="40784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四）耐心做好心理治疗和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2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53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Group 15"/>
          <p:cNvGrpSpPr/>
          <p:nvPr/>
        </p:nvGrpSpPr>
        <p:grpSpPr>
          <a:xfrm>
            <a:off x="2627280" y="5084640"/>
            <a:ext cx="4319640" cy="1295640"/>
            <a:chOff x="2627280" y="5084640"/>
            <a:chExt cx="4319640" cy="1295640"/>
          </a:xfrm>
        </p:grpSpPr>
        <p:sp>
          <p:nvSpPr>
            <p:cNvPr id="259" name="AutoShape 16"/>
            <p:cNvSpPr/>
            <p:nvPr/>
          </p:nvSpPr>
          <p:spPr>
            <a:xfrm>
              <a:off x="2627280" y="50846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17"/>
            <p:cNvSpPr/>
            <p:nvPr/>
          </p:nvSpPr>
          <p:spPr>
            <a:xfrm>
              <a:off x="3274920" y="53006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五）同情和关心临终患者家属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1405440" y="12733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尸体料理及其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3" name="Group 35"/>
          <p:cNvGrpSpPr/>
          <p:nvPr/>
        </p:nvGrpSpPr>
        <p:grpSpPr>
          <a:xfrm>
            <a:off x="1042920" y="4148280"/>
            <a:ext cx="6984360" cy="950760"/>
            <a:chOff x="1042920" y="4148280"/>
            <a:chExt cx="6984360" cy="950760"/>
          </a:xfrm>
        </p:grpSpPr>
        <p:grpSp>
          <p:nvGrpSpPr>
            <p:cNvPr id="264" name="Group 6"/>
            <p:cNvGrpSpPr/>
            <p:nvPr/>
          </p:nvGrpSpPr>
          <p:grpSpPr>
            <a:xfrm>
              <a:off x="1128600" y="4148280"/>
              <a:ext cx="6898680" cy="688680"/>
              <a:chOff x="1128600" y="4148280"/>
              <a:chExt cx="6898680" cy="688680"/>
            </a:xfrm>
          </p:grpSpPr>
          <p:grpSp>
            <p:nvGrpSpPr>
              <p:cNvPr id="265" name="Group 7"/>
              <p:cNvGrpSpPr/>
              <p:nvPr/>
            </p:nvGrpSpPr>
            <p:grpSpPr>
              <a:xfrm>
                <a:off x="1128600" y="4148280"/>
                <a:ext cx="6898680" cy="688680"/>
                <a:chOff x="1128600" y="4148280"/>
                <a:chExt cx="6898680" cy="688680"/>
              </a:xfrm>
            </p:grpSpPr>
            <p:sp>
              <p:nvSpPr>
                <p:cNvPr id="266" name="AutoShape 8"/>
                <p:cNvSpPr/>
                <p:nvPr/>
              </p:nvSpPr>
              <p:spPr>
                <a:xfrm>
                  <a:off x="1128600" y="4148280"/>
                  <a:ext cx="6898680" cy="68868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67" name="Group 9"/>
                <p:cNvGrpSpPr/>
                <p:nvPr/>
              </p:nvGrpSpPr>
              <p:grpSpPr>
                <a:xfrm>
                  <a:off x="1128600" y="4159080"/>
                  <a:ext cx="6873840" cy="635760"/>
                  <a:chOff x="1128600" y="4159080"/>
                  <a:chExt cx="6873840" cy="635760"/>
                </a:xfrm>
              </p:grpSpPr>
              <p:sp>
                <p:nvSpPr>
                  <p:cNvPr id="268" name="AutoShape 10"/>
                  <p:cNvSpPr/>
                  <p:nvPr/>
                </p:nvSpPr>
                <p:spPr>
                  <a:xfrm>
                    <a:off x="1128600" y="4630320"/>
                    <a:ext cx="687384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AutoShape 11"/>
                  <p:cNvSpPr/>
                  <p:nvPr/>
                </p:nvSpPr>
                <p:spPr>
                  <a:xfrm>
                    <a:off x="1128600" y="4159080"/>
                    <a:ext cx="687384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0" name="Text Box 12"/>
              <p:cNvSpPr/>
              <p:nvPr/>
            </p:nvSpPr>
            <p:spPr>
              <a:xfrm>
                <a:off x="1474560" y="4219200"/>
                <a:ext cx="49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2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Text Box 13"/>
              <p:cNvSpPr/>
              <p:nvPr/>
            </p:nvSpPr>
            <p:spPr>
              <a:xfrm>
                <a:off x="2251440" y="4219200"/>
                <a:ext cx="51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  <a:ea typeface="楷体_GB2312"/>
                  </a:rPr>
                  <a:t>对死者家属的安慰和社会的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72" name="Picture 14" descr="1"/>
            <p:cNvPicPr/>
            <p:nvPr/>
          </p:nvPicPr>
          <p:blipFill>
            <a:blip r:embed="rId1"/>
            <a:srcRect l="42620" t="64489" r="19467" b="0"/>
            <a:stretch/>
          </p:blipFill>
          <p:spPr>
            <a:xfrm>
              <a:off x="1042920" y="4149720"/>
              <a:ext cx="1030320" cy="94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Group 25"/>
          <p:cNvGrpSpPr/>
          <p:nvPr/>
        </p:nvGrpSpPr>
        <p:grpSpPr>
          <a:xfrm>
            <a:off x="971640" y="2695680"/>
            <a:ext cx="7055280" cy="949320"/>
            <a:chOff x="971640" y="2695680"/>
            <a:chExt cx="7055280" cy="949320"/>
          </a:xfrm>
        </p:grpSpPr>
        <p:grpSp>
          <p:nvGrpSpPr>
            <p:cNvPr id="274" name="Group 26"/>
            <p:cNvGrpSpPr/>
            <p:nvPr/>
          </p:nvGrpSpPr>
          <p:grpSpPr>
            <a:xfrm>
              <a:off x="1058400" y="2708280"/>
              <a:ext cx="6968520" cy="689040"/>
              <a:chOff x="1058400" y="2708280"/>
              <a:chExt cx="6968520" cy="689040"/>
            </a:xfrm>
          </p:grpSpPr>
          <p:grpSp>
            <p:nvGrpSpPr>
              <p:cNvPr id="275" name="Group 27"/>
              <p:cNvGrpSpPr/>
              <p:nvPr/>
            </p:nvGrpSpPr>
            <p:grpSpPr>
              <a:xfrm>
                <a:off x="1058400" y="2708280"/>
                <a:ext cx="6968520" cy="689040"/>
                <a:chOff x="1058400" y="2708280"/>
                <a:chExt cx="6968520" cy="689040"/>
              </a:xfrm>
            </p:grpSpPr>
            <p:sp>
              <p:nvSpPr>
                <p:cNvPr id="276" name="AutoShape 28"/>
                <p:cNvSpPr/>
                <p:nvPr/>
              </p:nvSpPr>
              <p:spPr>
                <a:xfrm>
                  <a:off x="1058400" y="2708280"/>
                  <a:ext cx="6968520" cy="68904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77" name="Group 29"/>
                <p:cNvGrpSpPr/>
                <p:nvPr/>
              </p:nvGrpSpPr>
              <p:grpSpPr>
                <a:xfrm>
                  <a:off x="1058400" y="2719440"/>
                  <a:ext cx="6943320" cy="636120"/>
                  <a:chOff x="1058400" y="2719440"/>
                  <a:chExt cx="6943320" cy="636120"/>
                </a:xfrm>
              </p:grpSpPr>
              <p:sp>
                <p:nvSpPr>
                  <p:cNvPr id="278" name="AutoShape 30"/>
                  <p:cNvSpPr/>
                  <p:nvPr/>
                </p:nvSpPr>
                <p:spPr>
                  <a:xfrm>
                    <a:off x="1058400" y="3191040"/>
                    <a:ext cx="694332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31"/>
                  <p:cNvSpPr/>
                  <p:nvPr/>
                </p:nvSpPr>
                <p:spPr>
                  <a:xfrm>
                    <a:off x="1058400" y="2719440"/>
                    <a:ext cx="694332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0" name="Text Box 32"/>
              <p:cNvSpPr/>
              <p:nvPr/>
            </p:nvSpPr>
            <p:spPr>
              <a:xfrm>
                <a:off x="2540880" y="2779560"/>
                <a:ext cx="471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99"/>
                    </a:solidFill>
                    <a:latin typeface="Arial"/>
                    <a:ea typeface="楷体_GB2312"/>
                  </a:rPr>
                  <a:t>对死者人生的负责、同情和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" name="Text Box 33"/>
              <p:cNvSpPr/>
              <p:nvPr/>
            </p:nvSpPr>
            <p:spPr>
              <a:xfrm>
                <a:off x="1407960" y="2779560"/>
                <a:ext cx="50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82" name="Picture 34" descr="1"/>
            <p:cNvPicPr/>
            <p:nvPr/>
          </p:nvPicPr>
          <p:blipFill>
            <a:blip r:embed="rId2"/>
            <a:srcRect l="42620" t="64489" r="19467" b="0"/>
            <a:stretch/>
          </p:blipFill>
          <p:spPr>
            <a:xfrm>
              <a:off x="971640" y="2695680"/>
              <a:ext cx="1040400" cy="94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254808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尸体料理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5" name="Group 24"/>
          <p:cNvGrpSpPr/>
          <p:nvPr/>
        </p:nvGrpSpPr>
        <p:grpSpPr>
          <a:xfrm>
            <a:off x="3132000" y="2997360"/>
            <a:ext cx="2590560" cy="2449440"/>
            <a:chOff x="3132000" y="2997360"/>
            <a:chExt cx="2590560" cy="2449440"/>
          </a:xfrm>
        </p:grpSpPr>
        <p:grpSp>
          <p:nvGrpSpPr>
            <p:cNvPr id="286" name="Group 25"/>
            <p:cNvGrpSpPr/>
            <p:nvPr/>
          </p:nvGrpSpPr>
          <p:grpSpPr>
            <a:xfrm>
              <a:off x="3132000" y="2997360"/>
              <a:ext cx="2590560" cy="2449440"/>
              <a:chOff x="3132000" y="2997360"/>
              <a:chExt cx="2590560" cy="2449440"/>
            </a:xfrm>
          </p:grpSpPr>
          <p:sp>
            <p:nvSpPr>
              <p:cNvPr id="287" name="Oval 26"/>
              <p:cNvSpPr/>
              <p:nvPr/>
            </p:nvSpPr>
            <p:spPr>
              <a:xfrm>
                <a:off x="3224160" y="2997360"/>
                <a:ext cx="2400840" cy="2449440"/>
              </a:xfrm>
              <a:prstGeom prst="ellipse">
                <a:avLst/>
              </a:prstGeom>
              <a:noFill/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Oval 27"/>
              <p:cNvSpPr/>
              <p:nvPr/>
            </p:nvSpPr>
            <p:spPr>
              <a:xfrm>
                <a:off x="3132000" y="4161240"/>
                <a:ext cx="195480" cy="19800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Oval 28"/>
              <p:cNvSpPr/>
              <p:nvPr/>
            </p:nvSpPr>
            <p:spPr>
              <a:xfrm>
                <a:off x="371952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Oval 29"/>
              <p:cNvSpPr/>
              <p:nvPr/>
            </p:nvSpPr>
            <p:spPr>
              <a:xfrm>
                <a:off x="493956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1" name="Oval 30"/>
              <p:cNvSpPr/>
              <p:nvPr/>
            </p:nvSpPr>
            <p:spPr>
              <a:xfrm>
                <a:off x="366984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2" name="Oval 31"/>
              <p:cNvSpPr/>
              <p:nvPr/>
            </p:nvSpPr>
            <p:spPr>
              <a:xfrm>
                <a:off x="493956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3" name="Oval 32"/>
              <p:cNvSpPr/>
              <p:nvPr/>
            </p:nvSpPr>
            <p:spPr>
              <a:xfrm>
                <a:off x="5527080" y="415080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33"/>
            <p:cNvGrpSpPr/>
            <p:nvPr/>
          </p:nvGrpSpPr>
          <p:grpSpPr>
            <a:xfrm>
              <a:off x="3402720" y="3267360"/>
              <a:ext cx="2053800" cy="1919880"/>
              <a:chOff x="3402720" y="3267360"/>
              <a:chExt cx="2053800" cy="1919880"/>
            </a:xfrm>
          </p:grpSpPr>
          <p:sp>
            <p:nvSpPr>
              <p:cNvPr id="295" name="AutoShape 34"/>
              <p:cNvSpPr/>
              <p:nvPr/>
            </p:nvSpPr>
            <p:spPr>
              <a:xfrm rot="17973000">
                <a:off x="4539960" y="34455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6" name="AutoShape 35"/>
              <p:cNvSpPr/>
              <p:nvPr/>
            </p:nvSpPr>
            <p:spPr>
              <a:xfrm rot="3465600">
                <a:off x="4572720" y="48261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36"/>
              <p:cNvSpPr/>
              <p:nvPr/>
            </p:nvSpPr>
            <p:spPr>
              <a:xfrm rot="14368800">
                <a:off x="3790440" y="34599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37"/>
              <p:cNvSpPr/>
              <p:nvPr/>
            </p:nvSpPr>
            <p:spPr>
              <a:xfrm rot="7534800">
                <a:off x="3765960" y="480420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9" name="AutoShape 38"/>
              <p:cNvSpPr/>
              <p:nvPr/>
            </p:nvSpPr>
            <p:spPr>
              <a:xfrm>
                <a:off x="4948920" y="4146480"/>
                <a:ext cx="507600" cy="189000"/>
              </a:xfrm>
              <a:prstGeom prst="rightArrow">
                <a:avLst>
                  <a:gd name="adj1" fmla="val 35167"/>
                  <a:gd name="adj2" fmla="val 108759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0" name="AutoShape 39"/>
              <p:cNvSpPr/>
              <p:nvPr/>
            </p:nvSpPr>
            <p:spPr>
              <a:xfrm rot="10800000">
                <a:off x="3402720" y="4141800"/>
                <a:ext cx="554400" cy="189000"/>
              </a:xfrm>
              <a:prstGeom prst="rightArrow">
                <a:avLst>
                  <a:gd name="adj1" fmla="val 35167"/>
                  <a:gd name="adj2" fmla="val 118786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1" name="Oval 40"/>
              <p:cNvSpPr/>
              <p:nvPr/>
            </p:nvSpPr>
            <p:spPr>
              <a:xfrm>
                <a:off x="3970440" y="3728880"/>
                <a:ext cx="949320" cy="958680"/>
              </a:xfrm>
              <a:prstGeom prst="ellipse">
                <a:avLst/>
              </a:prstGeom>
              <a:gradFill rotWithShape="0">
                <a:gsLst>
                  <a:gs pos="0">
                    <a:srgbClr val="8c7316"/>
                  </a:gs>
                  <a:gs pos="100000">
                    <a:srgbClr val="ddb523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02" name="Group 41"/>
              <p:cNvGrpSpPr/>
              <p:nvPr/>
            </p:nvGrpSpPr>
            <p:grpSpPr>
              <a:xfrm>
                <a:off x="4023000" y="3803760"/>
                <a:ext cx="828000" cy="835920"/>
                <a:chOff x="4023000" y="3803760"/>
                <a:chExt cx="828000" cy="835920"/>
              </a:xfrm>
            </p:grpSpPr>
            <p:sp>
              <p:nvSpPr>
                <p:cNvPr id="303" name="Oval 42"/>
                <p:cNvSpPr/>
                <p:nvPr/>
              </p:nvSpPr>
              <p:spPr>
                <a:xfrm>
                  <a:off x="4023000" y="3803760"/>
                  <a:ext cx="828000" cy="83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4" name="Oval 43"/>
                <p:cNvSpPr/>
                <p:nvPr/>
              </p:nvSpPr>
              <p:spPr>
                <a:xfrm>
                  <a:off x="4033440" y="3808440"/>
                  <a:ext cx="80820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5" name="Oval 44"/>
                <p:cNvSpPr/>
                <p:nvPr/>
              </p:nvSpPr>
              <p:spPr>
                <a:xfrm>
                  <a:off x="4042080" y="3816360"/>
                  <a:ext cx="768600" cy="76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6" name="Oval 45"/>
                <p:cNvSpPr/>
                <p:nvPr/>
              </p:nvSpPr>
              <p:spPr>
                <a:xfrm>
                  <a:off x="4087080" y="3837600"/>
                  <a:ext cx="683280" cy="61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7" name="Rectangle 46"/>
          <p:cNvSpPr/>
          <p:nvPr/>
        </p:nvSpPr>
        <p:spPr>
          <a:xfrm>
            <a:off x="1000440" y="266292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尊重死者，尽心料理尸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5754600" y="255276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做好尸体及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周围环境的处理工作</a:t>
            </a:r>
            <a:r>
              <a:rPr b="0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Rectangle 48"/>
          <p:cNvSpPr/>
          <p:nvPr/>
        </p:nvSpPr>
        <p:spPr>
          <a:xfrm>
            <a:off x="797040" y="5085360"/>
            <a:ext cx="25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认真做好死者家属工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Rectangle 49"/>
          <p:cNvSpPr/>
          <p:nvPr/>
        </p:nvSpPr>
        <p:spPr>
          <a:xfrm>
            <a:off x="5775840" y="51566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妥善处理遗嘱和遗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E8ED-16EB-49AC-975A-9615DCECD6D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死亡是人生的必然结局，临终关怀是对临终患者及家属提供的全面照护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尸体料理的社会意义重要，务必遵守尸体料理规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94B1-8A2A-4A96-A5B3-0C716A842BD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-360" y="144792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宋体"/>
              </a:rPr>
              <a:t>  案例介绍</a:t>
            </a:r>
            <a:r>
              <a:rPr b="1" lang="en-US" sz="2800" spc="-1" strike="noStrike">
                <a:solidFill>
                  <a:srgbClr val="00b0f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隶书"/>
              </a:rPr>
              <a:t>特丽安乐死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0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 由于心脏突然无法给大脑供氧，特丽</a:t>
            </a:r>
            <a:r>
              <a:rPr b="1" lang="en-US" sz="2800" spc="-1" strike="noStrike">
                <a:solidFill>
                  <a:srgbClr val="734c75"/>
                </a:solidFill>
                <a:latin typeface="宋体"/>
                <a:ea typeface="隶书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夏沃成了植物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8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其夫迈克尔不堪重负，向佛罗里达州法院提出申请，要求拔去特丽的进食管，实施安乐死。随之，特丽的父母将女婿告上了法庭，开始长达七年的法律抗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DFA0-9F8B-4FF1-97FE-FC4A07E019A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　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1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当地法院批准迈克尔的申请，特丽的进食管首次被拔去。但两天后，另一法院做出相反判决，又重新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经法院批准，进食管被再次拔去。特丽父母向佛罗里达州长杰布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布什求援。佛州数天后通过“特丽法案”，准许州长在特定情况下干预法院判决，特丽再次被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特丽进食管再度被拔掉，后又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5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美国国会达成一项议案，要求重新为她插入进食管，布什改变行程，中断休假返回华盛顿，随时准备签署国会的这项新议案，赋予其法律效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4"/>
          <p:cNvPicPr/>
          <p:nvPr/>
        </p:nvPicPr>
        <p:blipFill>
          <a:blip r:embed="rId1"/>
          <a:stretch/>
        </p:blipFill>
        <p:spPr>
          <a:xfrm>
            <a:off x="5257800" y="2666880"/>
            <a:ext cx="3429000" cy="259092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3"/>
          <p:cNvSpPr/>
          <p:nvPr/>
        </p:nvSpPr>
        <p:spPr>
          <a:xfrm>
            <a:off x="0" y="1981080"/>
            <a:ext cx="464832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美国女植物人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父母的一位发言人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2005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月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日宣布，在拔掉进食管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1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天后，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已于当天死亡，享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4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岁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7FBC-97AD-4E15-89C8-D6FEBE696A8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2" name="Picture 2" descr="美国女植物人拔掉进食管13天后死亡(图)"/>
          <p:cNvPicPr/>
          <p:nvPr/>
        </p:nvPicPr>
        <p:blipFill>
          <a:blip r:embed="rId1"/>
          <a:stretch/>
        </p:blipFill>
        <p:spPr>
          <a:xfrm>
            <a:off x="609480" y="304920"/>
            <a:ext cx="2293920" cy="338112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3"/>
          <p:cNvSpPr/>
          <p:nvPr/>
        </p:nvSpPr>
        <p:spPr>
          <a:xfrm>
            <a:off x="0" y="3886200"/>
            <a:ext cx="35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病前的特丽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4" name="Picture 4" descr="美国女植物人拔掉进食管13天后死亡(图)"/>
          <p:cNvPicPr/>
          <p:nvPr/>
        </p:nvPicPr>
        <p:blipFill>
          <a:blip r:embed="rId2"/>
          <a:stretch/>
        </p:blipFill>
        <p:spPr>
          <a:xfrm>
            <a:off x="35053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"/>
          <p:cNvSpPr/>
          <p:nvPr/>
        </p:nvSpPr>
        <p:spPr>
          <a:xfrm>
            <a:off x="2819520" y="388620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持者献的鲜花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Picture 6" descr="社会记录：拯救美国植物人"/>
          <p:cNvPicPr/>
          <p:nvPr/>
        </p:nvPicPr>
        <p:blipFill>
          <a:blip r:embed="rId3"/>
          <a:stretch/>
        </p:blipFill>
        <p:spPr>
          <a:xfrm>
            <a:off x="64771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7"/>
          <p:cNvSpPr/>
          <p:nvPr/>
        </p:nvSpPr>
        <p:spPr>
          <a:xfrm>
            <a:off x="6400800" y="38098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丈夫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8" name="Picture 8" descr="美国女植物人拔掉进食管13天后死亡(图)"/>
          <p:cNvPicPr/>
          <p:nvPr/>
        </p:nvPicPr>
        <p:blipFill>
          <a:blip r:embed="rId4"/>
          <a:stretch/>
        </p:blipFill>
        <p:spPr>
          <a:xfrm>
            <a:off x="685800" y="4343400"/>
            <a:ext cx="3505320" cy="213372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9"/>
          <p:cNvSpPr/>
          <p:nvPr/>
        </p:nvSpPr>
        <p:spPr>
          <a:xfrm>
            <a:off x="762120" y="64911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母亲在医院外等候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0" name="Picture 10" descr="美联邦最高法院拒绝干预女植物人案(图)"/>
          <p:cNvPicPr/>
          <p:nvPr/>
        </p:nvPicPr>
        <p:blipFill>
          <a:blip r:embed="rId5"/>
          <a:stretch/>
        </p:blipFill>
        <p:spPr>
          <a:xfrm>
            <a:off x="5334120" y="4343400"/>
            <a:ext cx="3429000" cy="213372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1"/>
          <p:cNvSpPr/>
          <p:nvPr/>
        </p:nvSpPr>
        <p:spPr>
          <a:xfrm>
            <a:off x="4572000" y="6477120"/>
            <a:ext cx="4878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得知联邦最高法院裁决后，掩面低泣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七章　临终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一节 临终关怀护理伦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二节 尸体料理的伦理道德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3"/>
          <a:stretch/>
        </p:blipFill>
        <p:spPr>
          <a:xfrm>
            <a:off x="2843280" y="3933720"/>
            <a:ext cx="365760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3" name="Picture 3" descr="关注美国女植物人安乐死"/>
          <p:cNvPicPr/>
          <p:nvPr/>
        </p:nvPicPr>
        <p:blipFill>
          <a:blip r:embed="rId1"/>
          <a:stretch/>
        </p:blipFill>
        <p:spPr>
          <a:xfrm>
            <a:off x="5076720" y="3908520"/>
            <a:ext cx="3095640" cy="220968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4"/>
          <p:cNvSpPr/>
          <p:nvPr/>
        </p:nvSpPr>
        <p:spPr>
          <a:xfrm>
            <a:off x="-10080" y="951480"/>
            <a:ext cx="40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5" descr="关注美国女植物人安乐死"/>
          <p:cNvPicPr/>
          <p:nvPr/>
        </p:nvPicPr>
        <p:blipFill>
          <a:blip r:embed="rId2"/>
          <a:stretch/>
        </p:blipFill>
        <p:spPr>
          <a:xfrm>
            <a:off x="971640" y="4011480"/>
            <a:ext cx="3024000" cy="21592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6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" name="Picture 7" descr="关注美国女植物人安乐死"/>
          <p:cNvPicPr/>
          <p:nvPr/>
        </p:nvPicPr>
        <p:blipFill>
          <a:blip r:embed="rId3"/>
          <a:stretch/>
        </p:blipFill>
        <p:spPr>
          <a:xfrm>
            <a:off x="971640" y="1120680"/>
            <a:ext cx="3095640" cy="22100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8"/>
          <p:cNvSpPr/>
          <p:nvPr/>
        </p:nvSpPr>
        <p:spPr>
          <a:xfrm>
            <a:off x="-8280" y="3085200"/>
            <a:ext cx="37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9" name="Picture 9" descr="关注美国女植物人安乐死"/>
          <p:cNvPicPr/>
          <p:nvPr/>
        </p:nvPicPr>
        <p:blipFill>
          <a:blip r:embed="rId4"/>
          <a:stretch/>
        </p:blipFill>
        <p:spPr>
          <a:xfrm>
            <a:off x="5076720" y="1144440"/>
            <a:ext cx="3095640" cy="221148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0"/>
          <p:cNvSpPr/>
          <p:nvPr/>
        </p:nvSpPr>
        <p:spPr>
          <a:xfrm>
            <a:off x="0" y="42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2A7A-1F5C-4300-8C42-10330307204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6840" y="1568160"/>
            <a:ext cx="83818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1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特丽应该被列入安乐死对象吗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2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安乐死中知情同意问题如何处理更为合理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3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医生应该如何面对法庭的决定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WordArt 3"/>
          <p:cNvSpPr txBox="1"/>
          <p:nvPr/>
        </p:nvSpPr>
        <p:spPr>
          <a:xfrm>
            <a:off x="2286000" y="152280"/>
            <a:ext cx="41911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41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rnd" w="936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761847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思考伦理问题：</a:t>
            </a:r>
            <a:endParaRPr b="0" lang="en-US" sz="1800" spc="1" strike="noStrike">
              <a:ln cap="rnd" w="936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761847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5"/>
          <p:cNvSpPr/>
          <p:nvPr/>
        </p:nvSpPr>
        <p:spPr>
          <a:xfrm>
            <a:off x="6550200" y="6245280"/>
            <a:ext cx="2288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8526-347E-4296-BA68-1A36CCDDAD6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5" name="Picture 2" descr="07041707514554"/>
          <p:cNvPicPr/>
          <p:nvPr/>
        </p:nvPicPr>
        <p:blipFill>
          <a:blip r:embed="rId1"/>
          <a:stretch/>
        </p:blipFill>
        <p:spPr>
          <a:xfrm>
            <a:off x="2209680" y="2362320"/>
            <a:ext cx="4969080" cy="3311280"/>
          </a:xfrm>
          <a:prstGeom prst="rect">
            <a:avLst/>
          </a:prstGeom>
          <a:ln w="0">
            <a:noFill/>
          </a:ln>
        </p:spPr>
      </p:pic>
      <p:sp>
        <p:nvSpPr>
          <p:cNvPr id="346" name="WordArt 3"/>
          <p:cNvSpPr txBox="1"/>
          <p:nvPr/>
        </p:nvSpPr>
        <p:spPr>
          <a:xfrm>
            <a:off x="2340000" y="620640"/>
            <a:ext cx="4249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愿大家拥有好心情！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1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阐述临终、临终关怀、尸体料理等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解释临终关怀的伦理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3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说明尸体料理的伦理规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8" name="Group 45"/>
          <p:cNvGrpSpPr/>
          <p:nvPr/>
        </p:nvGrpSpPr>
        <p:grpSpPr>
          <a:xfrm>
            <a:off x="539640" y="2133720"/>
            <a:ext cx="5040000" cy="792000"/>
            <a:chOff x="539640" y="2133720"/>
            <a:chExt cx="5040000" cy="792000"/>
          </a:xfrm>
        </p:grpSpPr>
        <p:sp>
          <p:nvSpPr>
            <p:cNvPr id="159" name="AutoShape 3"/>
            <p:cNvSpPr/>
            <p:nvPr/>
          </p:nvSpPr>
          <p:spPr>
            <a:xfrm>
              <a:off x="1025280" y="2187720"/>
              <a:ext cx="455436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Rectangle 4"/>
            <p:cNvSpPr/>
            <p:nvPr/>
          </p:nvSpPr>
          <p:spPr>
            <a:xfrm>
              <a:off x="1618920" y="2205000"/>
              <a:ext cx="36003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1" name="Group 43"/>
            <p:cNvGrpSpPr/>
            <p:nvPr/>
          </p:nvGrpSpPr>
          <p:grpSpPr>
            <a:xfrm>
              <a:off x="539640" y="2133720"/>
              <a:ext cx="1295280" cy="792000"/>
              <a:chOff x="539640" y="2133720"/>
              <a:chExt cx="1295280" cy="792000"/>
            </a:xfrm>
          </p:grpSpPr>
          <p:grpSp>
            <p:nvGrpSpPr>
              <p:cNvPr id="162" name="Group 12"/>
              <p:cNvGrpSpPr/>
              <p:nvPr/>
            </p:nvGrpSpPr>
            <p:grpSpPr>
              <a:xfrm>
                <a:off x="539640" y="2133720"/>
                <a:ext cx="1295280" cy="792000"/>
                <a:chOff x="539640" y="2133720"/>
                <a:chExt cx="1295280" cy="792000"/>
              </a:xfrm>
            </p:grpSpPr>
            <p:grpSp>
              <p:nvGrpSpPr>
                <p:cNvPr id="163" name="Group 13"/>
                <p:cNvGrpSpPr/>
                <p:nvPr/>
              </p:nvGrpSpPr>
              <p:grpSpPr>
                <a:xfrm>
                  <a:off x="539640" y="2133720"/>
                  <a:ext cx="1295280" cy="792000"/>
                  <a:chOff x="539640" y="2133720"/>
                  <a:chExt cx="1295280" cy="792000"/>
                </a:xfrm>
              </p:grpSpPr>
              <p:pic>
                <p:nvPicPr>
                  <p:cNvPr id="164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39640" y="2133720"/>
                    <a:ext cx="129528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" name="Oval 15"/>
                  <p:cNvSpPr/>
                  <p:nvPr/>
                </p:nvSpPr>
                <p:spPr>
                  <a:xfrm>
                    <a:off x="539640" y="2133720"/>
                    <a:ext cx="12862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6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68880" y="2141280"/>
                  <a:ext cx="102276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7" name="WordArt 17"/>
              <p:cNvSpPr txBox="1"/>
              <p:nvPr/>
            </p:nvSpPr>
            <p:spPr>
              <a:xfrm>
                <a:off x="848880" y="2349720"/>
                <a:ext cx="69876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grpSp>
        <p:nvGrpSpPr>
          <p:cNvPr id="168" name="Group 47"/>
          <p:cNvGrpSpPr/>
          <p:nvPr/>
        </p:nvGrpSpPr>
        <p:grpSpPr>
          <a:xfrm>
            <a:off x="1332000" y="3213000"/>
            <a:ext cx="6985080" cy="3024000"/>
            <a:chOff x="1332000" y="3213000"/>
            <a:chExt cx="6985080" cy="3024000"/>
          </a:xfrm>
        </p:grpSpPr>
        <p:sp>
          <p:nvSpPr>
            <p:cNvPr id="169" name="AutoShape 44"/>
            <p:cNvSpPr/>
            <p:nvPr/>
          </p:nvSpPr>
          <p:spPr>
            <a:xfrm>
              <a:off x="1332000" y="321300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46"/>
            <p:cNvSpPr/>
            <p:nvPr/>
          </p:nvSpPr>
          <p:spPr>
            <a:xfrm>
              <a:off x="1692360" y="3573360"/>
              <a:ext cx="62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又称濒死，指由于自然老化、疾病或意外事故导致人体主要器官功能趋于衰竭，各种生命迹象显示生命活动趋于终结的状态。我国通常将预计能存活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～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个月的患者称为临终患者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1" name="Rectangle 42"/>
          <p:cNvSpPr/>
          <p:nvPr/>
        </p:nvSpPr>
        <p:spPr>
          <a:xfrm>
            <a:off x="1826280" y="127332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临终的概念和临终患者的心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3031-8274-431F-88F4-4A27761EF6C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“</a:t>
            </a:r>
            <a:r>
              <a:rPr b="1" lang="zh-CN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使生如夏花之绚烂，死如秋叶之静美。”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                     </a:t>
            </a:r>
            <a:r>
              <a:rPr b="1" lang="en-US" sz="4000" spc="-1" strike="noStrike">
                <a:solidFill>
                  <a:srgbClr val="8ac8de"/>
                </a:solidFill>
                <a:latin typeface="Times New Roman"/>
                <a:ea typeface="隶书"/>
              </a:rPr>
              <a:t>———</a:t>
            </a: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泰戈尔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Picture 4" descr="100305132108_8"/>
          <p:cNvPicPr/>
          <p:nvPr/>
        </p:nvPicPr>
        <p:blipFill>
          <a:blip r:embed="rId1"/>
          <a:stretch/>
        </p:blipFill>
        <p:spPr>
          <a:xfrm>
            <a:off x="609480" y="3962520"/>
            <a:ext cx="2143080" cy="2571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u=3748542756,4182861638&amp;fm=21&amp;gp=0"/>
          <p:cNvPicPr/>
          <p:nvPr/>
        </p:nvPicPr>
        <p:blipFill>
          <a:blip r:embed="rId2"/>
          <a:stretch/>
        </p:blipFill>
        <p:spPr>
          <a:xfrm>
            <a:off x="4191120" y="3962520"/>
            <a:ext cx="373356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B817-6307-4AF0-9E1F-42BEAC2727B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0755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隶书"/>
              </a:rPr>
              <a:t>曾女士的母亲患有癌症，她对死亡充满恐惧，多次表示希望安乐死。后来抗癌协会的会员们来给这位母亲进行终极关怀，每个人都与病床上的这位母亲热烈拥抱，每个人都夸奖她是最棒的。她沉浸在极大的幸福当中，原先对死亡的恐惧消失得无影无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安乐死图片1"/>
          <p:cNvPicPr/>
          <p:nvPr/>
        </p:nvPicPr>
        <p:blipFill>
          <a:blip r:embed="rId2"/>
          <a:stretch/>
        </p:blipFill>
        <p:spPr>
          <a:xfrm>
            <a:off x="3419640" y="4292640"/>
            <a:ext cx="25905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终患者的心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内容占位符 4" descr=""/>
          <p:cNvPicPr/>
          <p:nvPr/>
        </p:nvPicPr>
        <p:blipFill>
          <a:blip r:embed="rId1"/>
          <a:stretch/>
        </p:blipFill>
        <p:spPr>
          <a:xfrm>
            <a:off x="298440" y="1352520"/>
            <a:ext cx="8626320" cy="4915080"/>
          </a:xfrm>
          <a:prstGeom prst="rect">
            <a:avLst/>
          </a:prstGeom>
          <a:ln w="0">
            <a:noFill/>
          </a:ln>
        </p:spPr>
      </p:pic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6C6D-2D78-4E73-B56B-1CEAC3A54A1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99"/>
                </a:solidFill>
                <a:latin typeface="黑体"/>
                <a:ea typeface="黑体"/>
              </a:rPr>
              <a:t>临终关怀的临床实践发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一）减轻临终者的疼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二）临终者的心理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营造爱的氛围，给予临终者全方位的心理关怀</a:t>
            </a:r>
            <a:r>
              <a:rPr b="1" lang="en-US" sz="3600" spc="-1" strike="noStrike">
                <a:solidFill>
                  <a:srgbClr val="734c75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将是未来临终关怀工作者的广阔空间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6" name="Picture 4" descr="0001"/>
          <p:cNvPicPr/>
          <p:nvPr/>
        </p:nvPicPr>
        <p:blipFill>
          <a:blip r:embed="rId2"/>
          <a:srcRect l="0" t="0" r="0" b="7906"/>
          <a:stretch/>
        </p:blipFill>
        <p:spPr>
          <a:xfrm>
            <a:off x="2438280" y="3809880"/>
            <a:ext cx="464832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5334120" y="685800"/>
            <a:ext cx="3809880" cy="3581280"/>
          </a:xfrm>
          <a:prstGeom prst="wedgeRoundRectCallout">
            <a:avLst>
              <a:gd name="adj1" fmla="val -90000"/>
              <a:gd name="adj2" fmla="val -24777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一步　一般性疼痛，只用非麻醉性镇痛药，如阿司匹林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二步  中等疼痛；可用弱麻醉性镇痛药，如可待因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三步　严重疼痛，可用强麻醉性镇痛药，如吗啡、哌替啶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9" name="Group 45"/>
          <p:cNvGrpSpPr/>
          <p:nvPr/>
        </p:nvGrpSpPr>
        <p:grpSpPr>
          <a:xfrm>
            <a:off x="611280" y="1989000"/>
            <a:ext cx="6481080" cy="792000"/>
            <a:chOff x="611280" y="1989000"/>
            <a:chExt cx="6481080" cy="792000"/>
          </a:xfrm>
        </p:grpSpPr>
        <p:sp>
          <p:nvSpPr>
            <p:cNvPr id="190" name="AutoShape 3"/>
            <p:cNvSpPr/>
            <p:nvPr/>
          </p:nvSpPr>
          <p:spPr>
            <a:xfrm>
              <a:off x="1235520" y="2043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Rectangle 4"/>
            <p:cNvSpPr/>
            <p:nvPr/>
          </p:nvSpPr>
          <p:spPr>
            <a:xfrm>
              <a:off x="1999080" y="2060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含义及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2" name="Group 43"/>
            <p:cNvGrpSpPr/>
            <p:nvPr/>
          </p:nvGrpSpPr>
          <p:grpSpPr>
            <a:xfrm>
              <a:off x="611280" y="1989000"/>
              <a:ext cx="1664640" cy="792000"/>
              <a:chOff x="611280" y="1989000"/>
              <a:chExt cx="1664640" cy="792000"/>
            </a:xfrm>
          </p:grpSpPr>
          <p:grpSp>
            <p:nvGrpSpPr>
              <p:cNvPr id="193" name="Group 12"/>
              <p:cNvGrpSpPr/>
              <p:nvPr/>
            </p:nvGrpSpPr>
            <p:grpSpPr>
              <a:xfrm>
                <a:off x="611280" y="1989000"/>
                <a:ext cx="1664640" cy="792000"/>
                <a:chOff x="611280" y="1989000"/>
                <a:chExt cx="1664640" cy="792000"/>
              </a:xfrm>
            </p:grpSpPr>
            <p:grpSp>
              <p:nvGrpSpPr>
                <p:cNvPr id="194" name="Group 13"/>
                <p:cNvGrpSpPr/>
                <p:nvPr/>
              </p:nvGrpSpPr>
              <p:grpSpPr>
                <a:xfrm>
                  <a:off x="611280" y="1989000"/>
                  <a:ext cx="1664640" cy="792000"/>
                  <a:chOff x="611280" y="1989000"/>
                  <a:chExt cx="1664640" cy="792000"/>
                </a:xfrm>
              </p:grpSpPr>
              <p:pic>
                <p:nvPicPr>
                  <p:cNvPr id="195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989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6" name="Oval 15"/>
                  <p:cNvSpPr/>
                  <p:nvPr/>
                </p:nvSpPr>
                <p:spPr>
                  <a:xfrm>
                    <a:off x="611280" y="1989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97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996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98" name="WordArt 17"/>
              <p:cNvSpPr txBox="1"/>
              <p:nvPr/>
            </p:nvSpPr>
            <p:spPr>
              <a:xfrm>
                <a:off x="1008720" y="2205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sp>
        <p:nvSpPr>
          <p:cNvPr id="199" name="Rectangle 42"/>
          <p:cNvSpPr/>
          <p:nvPr/>
        </p:nvSpPr>
        <p:spPr>
          <a:xfrm>
            <a:off x="318780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临终关怀的含义和历史发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47"/>
          <p:cNvGrpSpPr/>
          <p:nvPr/>
        </p:nvGrpSpPr>
        <p:grpSpPr>
          <a:xfrm>
            <a:off x="1763640" y="3284640"/>
            <a:ext cx="6985080" cy="3024000"/>
            <a:chOff x="1763640" y="3284640"/>
            <a:chExt cx="6985080" cy="3024000"/>
          </a:xfrm>
        </p:grpSpPr>
        <p:sp>
          <p:nvSpPr>
            <p:cNvPr id="201" name="AutoShape 44"/>
            <p:cNvSpPr/>
            <p:nvPr/>
          </p:nvSpPr>
          <p:spPr>
            <a:xfrm>
              <a:off x="1763640" y="328464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46"/>
            <p:cNvSpPr/>
            <p:nvPr/>
          </p:nvSpPr>
          <p:spPr>
            <a:xfrm>
              <a:off x="2124000" y="3645000"/>
              <a:ext cx="626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关怀一词源于中世纪，又称善终服务、安宁照顾、终末护理、安息护理等。是指社会各阶层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医生、护理人员、社会工作者、宗教人士、志愿人员以及政府和慈善团体等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组成的团体，专门为临终患者及其家属所提供的生理、心理、社会方面的全面支持与照护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3" name="Rectangle 3"/>
          <p:cNvSpPr/>
          <p:nvPr/>
        </p:nvSpPr>
        <p:spPr>
          <a:xfrm>
            <a:off x="684360" y="2781360"/>
            <a:ext cx="82296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dying   </a:t>
            </a: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关怀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hospice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11-10T04:01:57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