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3AE066-09DB-418A-BFEC-875C4D7318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D43704-AD74-471A-BF47-AA3FCBD78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823E9C2-DE4A-4E06-9ED1-D7A2AB480A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2D756D4-CC6B-467D-86FC-A0BE64ADF6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674111-A3D3-4EF4-B0C5-E7BA871131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2D620FE-3414-46BB-B436-C67E787B54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EA21B9-E369-4EA8-ABC3-CFA8EEB73C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8841763-6C68-49FE-B3B8-2EAFEF88B2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35035AE-62DB-42D4-93FF-E0142ADDE7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C755D9-D5BE-40EA-B493-0257086A19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19546D-B211-4417-90A7-97FE9244D7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0CCEBB-C91E-4A74-834A-DD9AD58649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12F3-A60B-48E3-A465-24E66ECCF3B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arrow" w="med"/>
            <a:tailEnd len="med" type="arrow"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arrow" w="med"/>
            <a:tailEnd len="med" type="arrow"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