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F6B46C-5513-4ADB-B12F-D0096ECBF5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EA0E33-2C38-401D-8114-577D5D3DD5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D85A9AF-7B0D-4E18-9548-4D69FFF942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DBFA76C-C161-4CF2-9EDA-0B1597EC7F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9C3070-65D5-45DB-9C9A-03A803888C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FC8A9F-7805-4477-B57F-3236359166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070A6D9-0FEF-4BED-80F8-1F9CB37793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1714F79-BDDC-409F-889A-6B68266AB2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384C862-29D6-44B8-877F-3A2985FB17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2A4A6F-BC29-4FC9-B630-EECB09AD68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F1CAC9-A21D-4160-862E-26B299E86F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7EDD0A-2B55-46EE-8BB8-883CFB7B4E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C2EB-1091-4BBC-8743-25F9A8550FA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华文新魏"/>
                <a:ea typeface="华文新魏"/>
              </a:rPr>
              <a:t>第五章 </a:t>
            </a:r>
            <a:br>
              <a:rPr sz="3600"/>
            </a:br>
            <a:r>
              <a:rPr b="1" lang="zh-CN" sz="3600" spc="-1" strike="noStrike">
                <a:solidFill>
                  <a:srgbClr val="ffffff"/>
                </a:solidFill>
                <a:latin typeface="华文新魏"/>
                <a:ea typeface="华文新魏"/>
              </a:rPr>
              <a:t>康复护理技术</a:t>
            </a:r>
            <a:endParaRPr b="0" lang="en-US" sz="3600" spc="-1" strike="noStrike">
              <a:solidFill>
                <a:srgbClr val="ffffff"/>
              </a:solidFill>
              <a:latin typeface="Verdana"/>
            </a:endParaRPr>
          </a:p>
        </p:txBody>
      </p:sp>
      <p:sp>
        <p:nvSpPr>
          <p:cNvPr id="105" name="标题 1"/>
          <p:cNvSpPr/>
          <p:nvPr/>
        </p:nvSpPr>
        <p:spPr>
          <a:xfrm>
            <a:off x="1332000" y="5084640"/>
            <a:ext cx="633564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华文新魏"/>
                <a:ea typeface="华文新魏"/>
              </a:rPr>
              <a:t>第七节  心理护理</a:t>
            </a:r>
            <a:br>
              <a:rPr sz="3600"/>
            </a:br>
            <a:r>
              <a:rPr b="1" lang="zh-CN" sz="3600" spc="-1" strike="noStrike">
                <a:solidFill>
                  <a:srgbClr val="fe230c"/>
                </a:solidFill>
                <a:latin typeface="华文新魏"/>
                <a:ea typeface="华文新魏"/>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E34F1-16F5-48F2-BFBA-EC46975BAC3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焦虑</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由于肢体障碍、功能减退及社会适应能力下降，导致日常生活能力下降，会对自身健康及客观事物作出过于严重的判断，其心情处于一种极坏的状态。</a:t>
            </a:r>
            <a:endParaRPr b="1" lang="en-US" sz="3200" spc="-1" strike="noStrike">
              <a:solidFill>
                <a:srgbClr val="8ac8de"/>
              </a:solidFill>
              <a:latin typeface="Verdana"/>
            </a:endParaRPr>
          </a:p>
        </p:txBody>
      </p:sp>
      <p:sp>
        <p:nvSpPr>
          <p:cNvPr id="143"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E493-BBC2-4043-BCEB-B17578686B5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抑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抑郁是一种以持续的情绪低落、思维迟缓和思维内容障碍、意志活动减少为主的情感障碍。表现为情绪低落，痛苦忧伤，丧失生活的乐趣，主动言语减少，声低且语速慢，内容简单，主动活动，自我评价过低，有时沉浸在往事回首中，留恋人生但又无法体验人生幸福。</a:t>
            </a:r>
            <a:endParaRPr b="1" lang="en-US" sz="3200" spc="-1" strike="noStrike">
              <a:solidFill>
                <a:srgbClr val="8ac8de"/>
              </a:solidFill>
              <a:latin typeface="Verdana"/>
            </a:endParaRPr>
          </a:p>
        </p:txBody>
      </p:sp>
      <p:sp>
        <p:nvSpPr>
          <p:cNvPr id="146"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47957-C6C6-4094-A51F-AD853B0FF7A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否认</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否认是一种消极的心理防御反应，身体健康的人由于外伤或疾病导致的残疾，感到突然，对所患疾病的严重性给予否认，因这些打击远远超过了的患者的心理承受能力，这种情绪时间根据个体差异长短不一，短则几天，长者可达数周甚至数月。</a:t>
            </a:r>
            <a:endParaRPr b="1" lang="en-US" sz="3200" spc="-1" strike="noStrike">
              <a:solidFill>
                <a:srgbClr val="8ac8de"/>
              </a:solidFill>
              <a:latin typeface="Verdana"/>
            </a:endParaRPr>
          </a:p>
        </p:txBody>
      </p:sp>
      <p:sp>
        <p:nvSpPr>
          <p:cNvPr id="149"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53E9-9B0B-4B49-9D0F-386EB6C7E1E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1"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6.</a:t>
            </a:r>
            <a:r>
              <a:rPr b="1" lang="zh-CN" sz="3200" spc="-1" strike="noStrike">
                <a:solidFill>
                  <a:srgbClr val="1d1496"/>
                </a:solidFill>
                <a:latin typeface="华文新魏"/>
                <a:ea typeface="华文新魏"/>
              </a:rPr>
              <a:t>被动依赖</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在患病后受到家属的照料，对自己的日常生活能力行为表现出信心不足，变被动、顺从、情感脆弱、依赖性强。</a:t>
            </a:r>
            <a:endParaRPr b="1" lang="en-US" sz="3200" spc="-1" strike="noStrike">
              <a:solidFill>
                <a:srgbClr val="8ac8de"/>
              </a:solidFill>
              <a:latin typeface="Verdana"/>
            </a:endParaRPr>
          </a:p>
        </p:txBody>
      </p:sp>
      <p:sp>
        <p:nvSpPr>
          <p:cNvPr id="152"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F5F61-221D-4CDA-892D-AD19C1D3485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4"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7.</a:t>
            </a:r>
            <a:r>
              <a:rPr b="1" lang="zh-CN" sz="3200" spc="-1" strike="noStrike">
                <a:solidFill>
                  <a:srgbClr val="1d1496"/>
                </a:solidFill>
                <a:latin typeface="华文新魏"/>
                <a:ea typeface="华文新魏"/>
              </a:rPr>
              <a:t>同情</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患者之间朝夕相处，有共同的遭遇，使他们相互之间很容易产生同情的心理、关怀、友谊，这是一种积极的心理情绪。</a:t>
            </a:r>
            <a:endParaRPr b="1" lang="en-US" sz="3200" spc="-1" strike="noStrike">
              <a:solidFill>
                <a:srgbClr val="8ac8de"/>
              </a:solidFill>
              <a:latin typeface="Verdana"/>
            </a:endParaRPr>
          </a:p>
        </p:txBody>
      </p:sp>
      <p:sp>
        <p:nvSpPr>
          <p:cNvPr id="155"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3C6E-EFE2-4088-B5B3-A6B8A680959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7"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8.</a:t>
            </a:r>
            <a:r>
              <a:rPr b="1" lang="zh-CN" sz="3200" spc="-1" strike="noStrike">
                <a:solidFill>
                  <a:srgbClr val="1d1496"/>
                </a:solidFill>
                <a:latin typeface="华文新魏"/>
                <a:ea typeface="华文新魏"/>
              </a:rPr>
              <a:t>期待心理</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这是患者对未来生活有着美好向往，期待通过康复治疗疾病可发生转机，可恢复正常生活与工作，这是一种渴望生存的心理，也是一种健康积极的心态。</a:t>
            </a:r>
            <a:endParaRPr b="1" lang="en-US" sz="3200" spc="-1" strike="noStrike">
              <a:solidFill>
                <a:srgbClr val="8ac8de"/>
              </a:solidFill>
              <a:latin typeface="Verdana"/>
            </a:endParaRPr>
          </a:p>
        </p:txBody>
      </p:sp>
      <p:sp>
        <p:nvSpPr>
          <p:cNvPr id="158"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48328-3A4E-4BD8-9FE4-28449A16E23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402920" y="2060640"/>
            <a:ext cx="705636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服务性原则：在临床工作中，护士不仅要解决患者的生理需要，减轻躯体痛苦，恢复和重建生理功能，而且要满足心理需求，减轻精神痛苦，保持良好的心理状态。 </a:t>
            </a:r>
            <a:endParaRPr b="1" lang="en-US" sz="3200" spc="-1" strike="noStrike">
              <a:solidFill>
                <a:srgbClr val="8ac8de"/>
              </a:solidFill>
              <a:latin typeface="Verdana"/>
            </a:endParaRPr>
          </a:p>
        </p:txBody>
      </p:sp>
      <p:sp>
        <p:nvSpPr>
          <p:cNvPr id="161"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F5E4E-3F10-4A4C-8890-373B1745142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610920" y="2060640"/>
            <a:ext cx="799308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交往的原则：护患双方相互尊重，平等相待；护士必须掌握良好的交往技巧，在交往时起主导作用；护患双方应不断增加交往的深度和提高交往的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4"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762ED-51A3-4ACC-81DD-DACAFE84CB5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6" name="PlaceHolder 1"/>
          <p:cNvSpPr>
            <a:spLocks noGrp="1"/>
          </p:cNvSpPr>
          <p:nvPr>
            <p:ph/>
          </p:nvPr>
        </p:nvSpPr>
        <p:spPr>
          <a:xfrm>
            <a:off x="900000" y="1773360"/>
            <a:ext cx="705672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针对性原则：为了使护理方法具有针对性，需在交往中不断的观察、交谈、启发患者倾诉，必要时还可以使用心理测量手段，便于及时了解和掌握患者的病情及心理状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p:txBody>
      </p:sp>
      <p:sp>
        <p:nvSpPr>
          <p:cNvPr id="167"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262F0-0400-4CCC-AAE3-07B897119AB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9" name="PlaceHolder 1"/>
          <p:cNvSpPr>
            <a:spLocks noGrp="1"/>
          </p:cNvSpPr>
          <p:nvPr>
            <p:ph/>
          </p:nvPr>
        </p:nvSpPr>
        <p:spPr>
          <a:xfrm>
            <a:off x="539280" y="1341000"/>
            <a:ext cx="8280360" cy="3745080"/>
          </a:xfrm>
          <a:prstGeom prst="rect">
            <a:avLst/>
          </a:prstGeom>
          <a:solidFill>
            <a:srgbClr val="f2f2f2"/>
          </a:solid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启迪和自我护理原则：</a:t>
            </a:r>
            <a:r>
              <a:rPr b="1" lang="zh-CN" sz="3600" spc="-1" strike="noStrike">
                <a:solidFill>
                  <a:srgbClr val="1d1496"/>
                </a:solidFill>
                <a:latin typeface="宋体"/>
              </a:rPr>
              <a:t> </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心理护理不是一种替代过程，而是协助和促进患者提高对疾病与健康的认识，自觉转化不健康行为，积极建立和发挥自我护理能力的过程。因此，护士在实施心理护理时，要启迪开发患者的心理能动性，调动内在积极性，帮助患者正确认识自我护理的重要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1870200"/>
          </a:xfrm>
          <a:prstGeom prst="rect">
            <a:avLst/>
          </a:prstGeom>
          <a:noFill/>
          <a:ln w="0">
            <a:noFill/>
          </a:ln>
        </p:spPr>
        <p:txBody>
          <a:bodyPr anchor="t">
            <a:normAutofit/>
          </a:bodyPr>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概述</a:t>
            </a:r>
            <a:endParaRPr b="1" lang="en-US" sz="3200" spc="-1" strike="noStrike">
              <a:solidFill>
                <a:srgbClr val="8ac8de"/>
              </a:solidFill>
              <a:latin typeface="Verdana"/>
            </a:endParaRPr>
          </a:p>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心理护理方法</a:t>
            </a:r>
            <a:endParaRPr b="1" lang="en-US" sz="32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70662-BAF3-4B8B-946B-E65DFB662F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Rectangle 4"/>
          <p:cNvSpPr/>
          <p:nvPr/>
        </p:nvSpPr>
        <p:spPr>
          <a:xfrm>
            <a:off x="1692360" y="2276640"/>
            <a:ext cx="5832360" cy="129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华文新魏"/>
              </a:rPr>
              <a:t>二、康复护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30DF3-7828-402B-BB31-1FE4A366B34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4"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一般性的心理护理</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合所有的患者，如建立良好的护患关系，利于护患沟通；促进病友、亲友、同事和谐友善的交往，强化患者的心理支持系统；努力为患者创造良好的治疗环境、休息环境、生活环境，避免不良环境对患者造成不必要的负性心理；加强疾病的健康宣教，满足患者对疾病正确认知的需求。</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CA06-E75F-42B9-9F10-176BD5007AD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7" name="PlaceHolder 1"/>
          <p:cNvSpPr>
            <a:spLocks noGrp="1"/>
          </p:cNvSpPr>
          <p:nvPr>
            <p:ph/>
          </p:nvPr>
        </p:nvSpPr>
        <p:spPr>
          <a:xfrm>
            <a:off x="324000" y="1267920"/>
            <a:ext cx="8424720" cy="396108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宋体"/>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支持性的心理护理   是合理应用治疗性的语言，如解释、指导、鼓励、安慰、倾听、启发、支持、劝解、建议、调整关系、保证等方法帮助患者正确认识问题，改善不良情绪，从而矫正不良行为。如在倾听患者诉说时，护士不要插话，要有耐心，只需目光与患者交流，适时给予肯定或点头，让患者感觉到有依靠、有知己，心里感到满足与放松</a:t>
            </a:r>
            <a:r>
              <a:rPr b="1" lang="zh-CN" sz="3200" spc="-1" strike="noStrike">
                <a:solidFill>
                  <a:srgbClr val="1d1496"/>
                </a:solidFill>
                <a:latin typeface="宋体"/>
              </a:rPr>
              <a:t>。</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8"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0438-BB1F-4702-89E5-394A8D0261A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0" name="PlaceHolder 1"/>
          <p:cNvSpPr>
            <a:spLocks noGrp="1"/>
          </p:cNvSpPr>
          <p:nvPr>
            <p:ph/>
          </p:nvPr>
        </p:nvSpPr>
        <p:spPr>
          <a:xfrm>
            <a:off x="755280" y="1483920"/>
            <a:ext cx="7488360" cy="3745080"/>
          </a:xfrm>
          <a:prstGeom prst="rect">
            <a:avLst/>
          </a:prstGeom>
          <a:solidFill>
            <a:srgbClr val="f2f2f2"/>
          </a:solid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技术性的心理护理  针对患者异常的心理活动，可应用心理学的原理和手段，即精神分析、改变认知、矫正行为等方法，调节患者的心理。若患者的心理问题较严重，可与心理医生一起给予心理干预。</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A8E2A-7E89-4DCF-A0D4-2A35E2D7A0F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3"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ea typeface="宋体"/>
              </a:rPr>
              <a:t>  </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音乐疗法  心理学研究显示，音乐能影响人格、培养情感，这对人格成长非常重。所以音乐疗法能很好的铸造人格，协调身心及建立和谐的人际关系，而且音乐还能超越意识直接作用于潜意识，因而在心理治疗中有特殊的功效。</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345D-2145-492D-B70F-A4C5DDFAA97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6" name="PlaceHolder 1"/>
          <p:cNvSpPr>
            <a:spLocks noGrp="1"/>
          </p:cNvSpPr>
          <p:nvPr>
            <p:ph/>
          </p:nvPr>
        </p:nvSpPr>
        <p:spPr>
          <a:xfrm>
            <a:off x="755280" y="1484280"/>
            <a:ext cx="7056360" cy="295272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情绪疗法</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情绪疗法是以认知理论为基础，结合行为疗法的某些技术来矫正患者认知系统中非理性的信念，促进心理障碍得以消除的心理疗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D30CF-0EC1-4E3C-8390-A770B6A8BC4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矩形 5"/>
          <p:cNvSpPr/>
          <p:nvPr/>
        </p:nvSpPr>
        <p:spPr>
          <a:xfrm>
            <a:off x="7252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知识拓展</a:t>
            </a:r>
            <a:endParaRPr b="0" lang="en-US" sz="3600" spc="-1" strike="noStrike">
              <a:solidFill>
                <a:srgbClr val="046ca6"/>
              </a:solidFill>
              <a:latin typeface="Arial"/>
            </a:endParaRPr>
          </a:p>
        </p:txBody>
      </p:sp>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Quad Arrow 146"/>
          <p:cNvSpPr/>
          <p:nvPr/>
        </p:nvSpPr>
        <p:spPr>
          <a:xfrm>
            <a:off x="611280" y="1916280"/>
            <a:ext cx="7921440" cy="31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近年来，冥想有助于情绪调节的功能已得到了心理学界的广泛研究，冥想起源于东方佛教的内观，后来衍生出多种冥想技术，如沉浸、诵经、气功、太极和瑜伽等。</a:t>
            </a:r>
            <a:r>
              <a:rPr b="1" lang="en-US" sz="2000" spc="-1" strike="noStrike">
                <a:solidFill>
                  <a:srgbClr val="1d1496"/>
                </a:solidFill>
                <a:latin typeface="楷体"/>
                <a:ea typeface="楷体"/>
              </a:rPr>
              <a:t>Cahn </a:t>
            </a:r>
            <a:r>
              <a:rPr b="1" lang="zh-CN" sz="2000" spc="-1" strike="noStrike">
                <a:solidFill>
                  <a:srgbClr val="1d1496"/>
                </a:solidFill>
                <a:latin typeface="楷体"/>
                <a:ea typeface="楷体"/>
              </a:rPr>
              <a:t>和 </a:t>
            </a:r>
            <a:r>
              <a:rPr b="1" lang="en-US" sz="2000" spc="-1" strike="noStrike">
                <a:solidFill>
                  <a:srgbClr val="1d1496"/>
                </a:solidFill>
                <a:latin typeface="楷体"/>
                <a:ea typeface="楷体"/>
              </a:rPr>
              <a:t>Polich </a:t>
            </a:r>
            <a:r>
              <a:rPr b="1" lang="zh-CN" sz="2000" spc="-1" strike="noStrike">
                <a:solidFill>
                  <a:srgbClr val="1d1496"/>
                </a:solidFill>
                <a:latin typeface="楷体"/>
                <a:ea typeface="楷体"/>
              </a:rPr>
              <a:t>强调了注意在冥想中的的核心作用，认为冥想是通过建立一种特殊的注意机制最终影响个体心理过程的一系列练习，并根据注意的朝向不同分为专注（</a:t>
            </a:r>
            <a:r>
              <a:rPr b="1" lang="en-US" sz="2000" spc="-1" strike="noStrike">
                <a:solidFill>
                  <a:srgbClr val="1d1496"/>
                </a:solidFill>
                <a:latin typeface="楷体"/>
                <a:ea typeface="楷体"/>
              </a:rPr>
              <a:t>concentrative</a:t>
            </a:r>
            <a:r>
              <a:rPr b="1" lang="zh-CN" sz="2000" spc="-1" strike="noStrike">
                <a:solidFill>
                  <a:srgbClr val="1d1496"/>
                </a:solidFill>
                <a:latin typeface="楷体"/>
                <a:ea typeface="楷体"/>
              </a:rPr>
              <a:t>）和沉浸（</a:t>
            </a:r>
            <a:r>
              <a:rPr b="1" lang="en-US" sz="2000" spc="-1" strike="noStrike">
                <a:solidFill>
                  <a:srgbClr val="1d1496"/>
                </a:solidFill>
                <a:latin typeface="楷体"/>
                <a:ea typeface="楷体"/>
              </a:rPr>
              <a:t>mindfulness</a:t>
            </a:r>
            <a:r>
              <a:rPr b="1" lang="zh-CN" sz="2000" spc="-1" strike="noStrike">
                <a:solidFill>
                  <a:srgbClr val="1d1496"/>
                </a:solidFill>
                <a:latin typeface="楷体"/>
                <a:ea typeface="楷体"/>
              </a:rPr>
              <a:t>）两大类。</a:t>
            </a:r>
            <a:r>
              <a:rPr b="1" lang="en-US" sz="2000" spc="-1" strike="noStrike">
                <a:solidFill>
                  <a:srgbClr val="1d1496"/>
                </a:solidFill>
                <a:latin typeface="楷体"/>
                <a:ea typeface="楷体"/>
              </a:rPr>
              <a:t>Lutz</a:t>
            </a:r>
            <a:r>
              <a:rPr b="1" lang="zh-CN" sz="2000" spc="-1" strike="noStrike">
                <a:solidFill>
                  <a:srgbClr val="1d1496"/>
                </a:solidFill>
                <a:latin typeface="楷体"/>
                <a:ea typeface="楷体"/>
              </a:rPr>
              <a:t>等从冥想的功能出发将其概括为一类有助于提高幸福感和情绪平衡训练的情绪和注意的训练程序，冥想不仅强调身体方面的放松，也强调认知和心理方面的放松，因而是一种综合性的身心结合训练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219640" y="259920"/>
            <a:ext cx="3500640" cy="87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程总结</a:t>
            </a:r>
            <a:endParaRPr b="0" lang="en-US" sz="4000" spc="-1" strike="noStrike">
              <a:solidFill>
                <a:srgbClr val="ffffff"/>
              </a:solidFill>
              <a:latin typeface="Verdana"/>
            </a:endParaRPr>
          </a:p>
        </p:txBody>
      </p:sp>
      <p:sp>
        <p:nvSpPr>
          <p:cNvPr id="19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BC52-23CB-46F2-AA1E-F38916F5A0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定义、目的</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患者常见的心理问题及心理护理的原则</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305D-5BCC-4E8B-8CA4-03BAF5BE61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识记：</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回忆心理护理的定义。</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陈述心理护理的常用方法及原则</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解：归纳常见的心理问题</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用：应用心理护理方法对患者的心理问题给予心理护理及指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648C-93D3-48E0-BC27-52E63DA5B3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556000" y="2421000"/>
            <a:ext cx="4103640" cy="18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A573-B4A4-4D06-991D-43581D5433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p:nvPr>
        </p:nvSpPr>
        <p:spPr>
          <a:xfrm>
            <a:off x="571320" y="1856880"/>
            <a:ext cx="7529400" cy="32274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心理评定（</a:t>
            </a:r>
            <a:r>
              <a:rPr b="1" lang="en-US" sz="3200" spc="-1" strike="noStrike">
                <a:solidFill>
                  <a:srgbClr val="1d1496"/>
                </a:solidFill>
                <a:latin typeface="华文新魏"/>
                <a:ea typeface="华文新魏"/>
              </a:rPr>
              <a:t>psychological assessment)</a:t>
            </a:r>
            <a:r>
              <a:rPr b="1" lang="zh-CN" sz="3200" spc="-1" strike="noStrike">
                <a:solidFill>
                  <a:srgbClr val="1d1496"/>
                </a:solidFill>
                <a:latin typeface="华文新魏"/>
                <a:ea typeface="华文新魏"/>
              </a:rPr>
              <a:t>是指利用心理测验、观察、描述、调查、评定等，对人的各种心理特征进行量化概括和推断，做出综合判断的过程。无论急、慢性疾病患者，还是躯体残疾患者，都有不同程度的心理问题，严重影响患者的康复。</a:t>
            </a:r>
            <a:endParaRPr b="1" lang="en-US" sz="3200" spc="-1" strike="noStrike">
              <a:solidFill>
                <a:srgbClr val="8ac8de"/>
              </a:solidFill>
              <a:latin typeface="Verdana"/>
            </a:endParaRPr>
          </a:p>
        </p:txBody>
      </p:sp>
      <p:pic>
        <p:nvPicPr>
          <p:cNvPr id="126" name="Picture 7" descr="t015513ce71980501e9"/>
          <p:cNvPicPr/>
          <p:nvPr/>
        </p:nvPicPr>
        <p:blipFill>
          <a:blip r:embed="rId1"/>
          <a:stretch/>
        </p:blipFill>
        <p:spPr>
          <a:xfrm>
            <a:off x="7308720" y="4869000"/>
            <a:ext cx="1619280" cy="1433520"/>
          </a:xfrm>
          <a:prstGeom prst="rect">
            <a:avLst/>
          </a:prstGeom>
          <a:ln w="0">
            <a:noFill/>
          </a:ln>
        </p:spPr>
      </p:pic>
      <p:sp>
        <p:nvSpPr>
          <p:cNvPr id="127" name="矩形 5"/>
          <p:cNvSpPr/>
          <p:nvPr/>
        </p:nvSpPr>
        <p:spPr>
          <a:xfrm>
            <a:off x="7468920" y="33336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21E4C-F4C5-4D2D-9301-F0361951A9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 name="PlaceHolder 1"/>
          <p:cNvSpPr>
            <a:spLocks noGrp="1"/>
          </p:cNvSpPr>
          <p:nvPr>
            <p:ph/>
          </p:nvPr>
        </p:nvSpPr>
        <p:spPr>
          <a:xfrm>
            <a:off x="250920" y="1700280"/>
            <a:ext cx="8642160" cy="4392720"/>
          </a:xfrm>
          <a:prstGeom prst="rect">
            <a:avLst/>
          </a:prstGeom>
          <a:solidFill>
            <a:srgbClr val="f2f2f2"/>
          </a:solid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适应新的生活环境</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新的人际关系</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正确认识疾病、对待疾病、接受患者角色</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减轻或消除在患病过程中各种因素引起紧张、焦虑、抑郁、悲观等负性情绪，调动主观能动性，积极的态度对待疾病，树立康复信心。</a:t>
            </a:r>
            <a:endParaRPr b="1" lang="en-US" sz="3200" spc="-1" strike="noStrike">
              <a:solidFill>
                <a:srgbClr val="8ac8de"/>
              </a:solidFill>
              <a:latin typeface="Verdana"/>
            </a:endParaRPr>
          </a:p>
        </p:txBody>
      </p:sp>
      <p:sp>
        <p:nvSpPr>
          <p:cNvPr id="130" name="矩形 4"/>
          <p:cNvSpPr/>
          <p:nvPr/>
        </p:nvSpPr>
        <p:spPr>
          <a:xfrm>
            <a:off x="73537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ea typeface="宋体"/>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8A1B-F86F-4809-A7B2-59E65E68ED1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情感脆弱、易激动、发怒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敏感性强、猜疑心重、主观异常感觉增强</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焦虑、抑郁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否认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被动依赖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同情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期待心理 </a:t>
            </a:r>
            <a:endParaRPr b="1" lang="en-US" sz="3200" spc="-1" strike="noStrike">
              <a:solidFill>
                <a:srgbClr val="8ac8de"/>
              </a:solidFill>
              <a:latin typeface="Verdana"/>
            </a:endParaRPr>
          </a:p>
        </p:txBody>
      </p:sp>
      <p:pic>
        <p:nvPicPr>
          <p:cNvPr id="133" name="Picture 5" descr="t011ea725a6b6b31a92"/>
          <p:cNvPicPr/>
          <p:nvPr/>
        </p:nvPicPr>
        <p:blipFill>
          <a:blip r:embed="rId1"/>
          <a:stretch/>
        </p:blipFill>
        <p:spPr>
          <a:xfrm>
            <a:off x="5651640" y="3860640"/>
            <a:ext cx="3171600" cy="2286000"/>
          </a:xfrm>
          <a:prstGeom prst="rect">
            <a:avLst/>
          </a:prstGeom>
          <a:ln w="0">
            <a:noFill/>
          </a:ln>
        </p:spPr>
      </p:pic>
      <p:sp>
        <p:nvSpPr>
          <p:cNvPr id="134"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5A091-BCF2-4EA1-839E-453F2E0B5FE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情感脆弱、易激动、发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患者常表现为心烦意乱，稍有不顺便大发雷霆、情绪容易波动、哭泣、莫名的愤怒、容易与人争吵，也可将不满情绪发泄于自身，自责、怨恨命运等</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37"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191A-E984-4C55-8BEF-C1A2A653888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敏感性强、猜疑心重、主观异常感觉</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增强患者会对自然环境的变化、别人的说话易敏感、猜疑、反感，躯体不适耐受力下降、主观体验增强、害怕病情加重。</a:t>
            </a:r>
            <a:endParaRPr b="1" lang="en-US" sz="3200" spc="-1" strike="noStrike">
              <a:solidFill>
                <a:srgbClr val="8ac8de"/>
              </a:solidFill>
              <a:latin typeface="Verdana"/>
            </a:endParaRPr>
          </a:p>
          <a:p>
            <a:pPr marL="343080" indent="0">
              <a:lnSpc>
                <a:spcPts val="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0"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12:45:36Z</dcterms:created>
  <dc:creator>Home</dc:creator>
  <dc:description/>
  <cp:keywords/>
  <dc:language>en-US</dc:language>
  <cp:lastModifiedBy>赵欣</cp:lastModifiedBy>
  <dcterms:modified xsi:type="dcterms:W3CDTF">2015-12-15T08:49:48Z</dcterms:modified>
  <cp:revision>13</cp:revision>
  <dc:subject/>
  <dc:title>   第五章  康复护理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