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0D088-B1D7-4CE3-8A75-016026CE81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A0565-5877-4BF7-9206-13A98E028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36130-B9EC-4C0B-8F8E-9FBD8CFD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424A2-DAEB-42FE-83F0-419C2C4A40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565DF-8A53-4DDF-B11C-801F8494E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82EF4-7D76-4390-9AD6-7CF363A8A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A37F7-FE1A-4B5C-AA18-81BAC1D1E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183A4-52D1-4C56-97F9-6EF0A3C61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7F654-E8D6-4BDC-8D71-18D1B4DE0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CE645-DBE7-4E30-B145-A70015DB8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DC772-7A32-45AF-8872-7E0322E06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F9B4B-A35C-43DF-BA87-F8351121A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399FA-310C-419A-8552-E658B26A532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2360" y="2205000"/>
            <a:ext cx="4319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五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康复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1044720" y="5013360"/>
            <a:ext cx="3816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一节 体位摆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1DC97-57AF-4A9F-8161-A96A0C7297E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71320" y="2285640"/>
            <a:ext cx="7816680" cy="3143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预防或减轻痉挛和畸形的出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使躯干和肢体保持在功能状态的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时变换体位有助于预防并发症的发生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6294240" y="40464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体位摆放的目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9A7EE-05DC-4564-92B3-37A6F82A00C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尽早进行体位摆放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定时变换体位，预防并发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动作轻柔，保证患者安全；选择合适体位，避免半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手、脚底不放置东西，预防足下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及时调整体位，保证患者舒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5736960" y="47772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体位摆放的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2124000" y="2998440"/>
            <a:ext cx="612144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华文新魏"/>
              </a:rPr>
              <a:t>二、常见疾病体位摆放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693E7-10E8-4818-AD4F-E0FF8417A02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健侧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2195640" y="2708280"/>
            <a:ext cx="4533840" cy="27255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7152120" y="404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损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F1FD8-B9FA-41EF-9D18-D09610647FB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患侧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1908000" y="2781360"/>
            <a:ext cx="4591080" cy="26416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7152120" y="404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损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43623-8F40-43A3-A801-40681A307F1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仰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2124000" y="2492280"/>
            <a:ext cx="4572000" cy="30178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7152120" y="404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损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3CE3F-0167-457B-8900-5CB0E33414F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仰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2268360" y="2565360"/>
            <a:ext cx="4658040" cy="29671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7243560" y="404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脊髓损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C1A39-0220-4D42-916D-7351099E684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侧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6" name="Picture 4" descr="1"/>
          <p:cNvPicPr/>
          <p:nvPr/>
        </p:nvPicPr>
        <p:blipFill>
          <a:blip r:embed="rId1"/>
          <a:stretch/>
        </p:blipFill>
        <p:spPr>
          <a:xfrm>
            <a:off x="1547640" y="2708280"/>
            <a:ext cx="5905800" cy="30448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5"/>
          <p:cNvSpPr/>
          <p:nvPr/>
        </p:nvSpPr>
        <p:spPr>
          <a:xfrm>
            <a:off x="7243560" y="404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脊髓损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67B88-13C9-4B22-ACED-F1772801A4D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4608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上肢功能位： 肩关节屈曲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5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外展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无内、外旋）；肘关节屈曲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9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前臂中间位你（无旋前、旋后）；腕关节背伸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°~45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并稍内收（即稍尺侧屈）；各掌指关节和指间关节稍屈曲，由示指至小指屈曲度有规律地递增；拇指在对掌中间位（即在掌平面前方，其掌指关节半屈曲，指间关节轻微屈曲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6543000" y="3333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骨关节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6F5F7-2442-4F9A-86D3-6806B8385F7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539640" y="1989000"/>
            <a:ext cx="781704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下肢功能位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: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下肢髋伸直，无内、外旋，膝稍屈曲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0°~30°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踝处于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90°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中间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ts val="4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6543000" y="3333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骨关节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6920" y="1942920"/>
            <a:ext cx="4248360" cy="46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体位摆放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常见疾病体位摆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252360" y="1268280"/>
          <a:ext cx="8783640" cy="5480280"/>
        </p:xfrm>
        <a:graphic>
          <a:graphicData uri="http://schemas.openxmlformats.org/drawingml/2006/table">
            <a:tbl>
              <a:tblPr/>
              <a:tblGrid>
                <a:gridCol w="1282680"/>
                <a:gridCol w="3757680"/>
                <a:gridCol w="3743280"/>
              </a:tblGrid>
              <a:tr h="47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烧伤部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可能出现的畸形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抗挛缩体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头面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眼睑外翻，小口畸形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戴面具，使用开口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颈前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挛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去枕，颈部轻度伸展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上提、后撤、内收、内旋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肩关节外展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90°~10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并外旋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肘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并前臂旋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肘关节处于伸展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手背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M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过伸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P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D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，拇指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并内收，掌弓变平（鹰爪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腕关节背伸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20°~3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MP9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P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D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均为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，拇指外展及对展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手掌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P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D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，拇指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并内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M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P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D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均为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，拇指外展，腕背伸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20°~30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脊柱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脊柱侧凸，脊柱后凸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脊柱伸展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髋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、内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髋关节中立伸展位：如大腿内侧烧伤，则髋外展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15°~30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膝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膝关节伸直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踝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足趾屈并内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踝关节背屈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9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位，防止跟腱挛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Text Box 53"/>
          <p:cNvSpPr/>
          <p:nvPr/>
        </p:nvSpPr>
        <p:spPr>
          <a:xfrm>
            <a:off x="5324400" y="40464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烧伤患者抗挛缩体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6D83D-8BB9-40F2-9B0D-E2DC38315F2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71320" y="1844280"/>
            <a:ext cx="8103960" cy="4032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  体位、良肢位、功能位、烧伤患者抗挛缩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注意事项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常见疾病体位摆放方法  脑损伤患者的体位摆放（健侧卧位、患侧卧位、仰卧位）；脊髓损伤患者的体位摆放（仰卧位、侧卧位）；骨关节疾病患者的体位摆放（上肢功能位、下肢功能位）；烧伤患者体位摆放（身体各部位抗挛缩体位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64515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课程总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28360" y="1341000"/>
            <a:ext cx="750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，男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岁，脑梗塞后左侧偏瘫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天，查体：神志清楚，生命体征稳定；左侧肌张力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，肌力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0~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，不能自主翻身及体位移动，根据患者症状体征，早期进行康复护理介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请为患者进行良肢位摆放，并向患者及家属讲解其目的及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F9093-9789-4E0D-AD83-F7F8461279E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684360" y="1628640"/>
            <a:ext cx="8064360" cy="37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陈述体位、良肢位、功能位、抗挛缩体位的定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列举体位摆放的目的、注意事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描述不同疾病体位摆放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能针对不同疾病给予正确的体位摆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123640" y="2997000"/>
            <a:ext cx="52563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华文新魏"/>
              </a:rPr>
              <a:t>一、体位摆放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DA1A2-E7CA-4ADB-B172-AEC58AC57BE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4360" y="1413000"/>
            <a:ext cx="748008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体位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body position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）是指人体所处的某种姿势或某种位置。在临床上是指根据患者病情，针对护理、治疗或者康复需要所采取的治疗性姿势或身体所摆放的位置。康复护理中常用的体位摆放技术有良肢位、功能位、烧伤患者抗痉挛体位的摆放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6987240" y="333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定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0A3D8-14EC-4179-84E4-53D5DD5BF23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618920" y="1917360"/>
            <a:ext cx="5946840" cy="3143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华文新魏"/>
              </a:rPr>
              <a:t>良肢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华文新魏"/>
              </a:rPr>
              <a:t>功能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华文新魏"/>
              </a:rPr>
              <a:t>烧伤患者抗挛缩体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6987240" y="333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常见类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CE8AA-008F-4AF8-9D7A-138BB65F3A4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23640" y="2349360"/>
            <a:ext cx="835812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良肢位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为预防和减轻痉挛姿势的出现，保护肩关节，早期诱发分离运动而设计的一种治疗体位。在脑损伤患者的康复护理中，良肢位摆放具有防止畸形，减轻症状，使躯干和肢体保持在功能状态的作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1547640" y="1486080"/>
            <a:ext cx="22622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7553520" y="404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良肢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35E1A-7527-4469-9038-DF701854320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52000" y="2133360"/>
            <a:ext cx="83581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功能位  指当肌肉、关节功能不能或尚未恢复时，必须使肢体处于发挥最佳功能活动的体位。这种体位就称为功能位，临床上常采用绷带、石膏、矫形支具、系列夹板等固定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403280" y="1196640"/>
            <a:ext cx="1542960" cy="654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7553520" y="404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功能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0DE8B-D020-4E75-9580-53089CFB7A8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96720" y="2420640"/>
            <a:ext cx="835848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烧伤患者的抗挛缩体位  指烧伤患者应保持的正确体位，即应与烧伤部位软组织收缩方面相反的体位。这种体位有助于预防挛缩，因此在卧床期间应始终保持正确的体位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763280" y="1557360"/>
            <a:ext cx="22338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4521960" y="40464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烧伤患者的抗挛缩体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8:26:32Z</dcterms:modified>
  <cp:revision>1</cp:revision>
  <dc:subject/>
  <dc:title>   第五章  康复护理技术</dc:title>
</cp:coreProperties>
</file>