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wmf" ContentType="image/x-wmf"/>
  <Override PartName="/ppt/media/image21.wmf" ContentType="image/x-wmf"/>
  <Override PartName="/ppt/media/image20.wmf" ContentType="image/x-wmf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ECF9E8-0A04-4075-A817-2542B87D291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1EADC4-3CB8-49FA-8B7A-A810F450E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B957EF-4ED0-4653-9206-096599773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9AFE26-E0F9-43E7-BAB5-2DC0C680E5D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AD4FE1-8AE5-4CDE-85CB-05EEBBA75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7DF3D8-8CEE-457A-A921-C856A6904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508664-C3CF-4F63-9721-486339770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876413-257F-4D52-88E0-4F3A27974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ECCB76-50E1-4817-87B4-5B7CDB8E0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02CD9A-0BEF-4732-89FC-55C4668CC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D70B2F-950B-41A1-91EC-E5B666A5E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40ADE6-70E3-4D59-8A21-8F9646541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4D09A-1AE5-4A82-BDD9-056441B1D0A5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2000" y="2205000"/>
            <a:ext cx="5545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     </a:t>
            </a: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 </a:t>
            </a: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第八章 </a:t>
            </a:r>
            <a:br>
              <a:rPr sz="3600"/>
            </a:b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心肺系统疾病的康复护理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标题 1"/>
          <p:cNvSpPr/>
          <p:nvPr/>
        </p:nvSpPr>
        <p:spPr>
          <a:xfrm>
            <a:off x="971640" y="5445000"/>
            <a:ext cx="72738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第二节  慢性阻塞性肺疾病</a:t>
            </a:r>
            <a:br>
              <a:rPr sz="3600"/>
            </a:b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      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全身性症状  在疾病的临床过程中，特别在较重患者，可能会发生全身性症状，如体重下降、食欲减退、外周肌肉萎缩和功能障碍、精神抑郁和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(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或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)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焦虑等。合并感染时可咳血痰或咯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396720" y="2420640"/>
            <a:ext cx="8407440" cy="33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1050840" algn="ctr">
              <a:lnSpc>
                <a:spcPts val="426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（一）有效呼吸降低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4" marL="1050840" algn="ctr">
              <a:lnSpc>
                <a:spcPts val="426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（二）病理性呼吸模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4" marL="1050840" algn="ctr">
              <a:lnSpc>
                <a:spcPts val="426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（三）呼吸肌无力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4" marL="1050840" algn="ctr">
              <a:lnSpc>
                <a:spcPts val="426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（四）能耗增加和活动能力减退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4" marL="1050840" algn="ctr">
              <a:lnSpc>
                <a:spcPts val="426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（五）心理障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44360" y="1197000"/>
            <a:ext cx="46940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Verdana"/>
                <a:ea typeface="宋体"/>
              </a:rPr>
              <a:t>二、主要功能障碍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患者呼吸运动障碍，有效通气能力降低，呼吸末残留气体增加，气体交换功能受阻；长期慢性炎症，呼吸道分泌物的排出不畅，加重换气障碍，使通气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/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血流比例失衡，常导致缺氧和二氧化碳潴留；持续缺氧，又引起血管痉挛，出现驼背、肋软骨钙化等体征，限制胸廓活动，导致肺功能进一步下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5532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一）有效呼吸降低</a:t>
            </a:r>
            <a:r>
              <a:rPr b="1" lang="zh-CN" sz="4800" spc="-1" strike="noStrike">
                <a:solidFill>
                  <a:srgbClr val="ffffff"/>
                </a:solidFill>
                <a:latin typeface="Verdana"/>
              </a:rPr>
              <a:t>  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　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慢性支气管炎并发肺气肿时，肺通气功能明显降低，肺组织弹性日益减退，影响了呼吸过程中膈肌的上下移动，减少肺通气量；为了弥补呼吸量的不足，患者会加紧胸式呼吸，以增加频率来提高氧的摄入，甚至动用辅助呼吸肌（如三角肌、胸大肌、斜方肌等）即形成了病理性呼吸模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0880" y="355320"/>
            <a:ext cx="8382240" cy="62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病理性呼吸模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患者呼吸困难及病理式呼吸模式，导致活动量减少，有效呼吸降低，影响膈肌、肋间内肌、肋间外肌、胸大肌等呼吸极度正常运动，失代偿后出现呼吸肌无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48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三）呼吸肌无力</a:t>
            </a:r>
            <a:r>
              <a:rPr b="1" lang="zh-CN" sz="4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由于呼吸肌失代偿，许多非呼吸肌参与呼吸运动，同时气短、气促常使患者精神和颈背部乃至全身肌群紧张，使体能进一步消耗。此外，患者避免出现劳累性气短，限制自己的活动，甚至长期卧床，丧失了劳动能力和活动能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69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四）能耗增加和活动能力减退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　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患者因长期阻塞性肺病，有效通气功能下降，机体供氧不足，造成乏力、气短、萎靡、精神紧张，部分重度患者可出现喘息，影响休息和睡眠，使患者出现抑郁、焦虑、烦躁、易怒等心理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80880" y="35532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五）心理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7" name="Picture 2" descr=""/>
          <p:cNvPicPr/>
          <p:nvPr/>
        </p:nvPicPr>
        <p:blipFill>
          <a:blip r:embed="rId1"/>
          <a:stretch/>
        </p:blipFill>
        <p:spPr>
          <a:xfrm>
            <a:off x="5076720" y="3933720"/>
            <a:ext cx="338292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396720" y="2781000"/>
            <a:ext cx="8407440" cy="315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一）健康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询问患者的一般情况：姓名，性别，年龄，职业，工作环境和家族史过去病史等，是否患有慢性支气管炎、肺气肿、哮喘及病毒感染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吸烟是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COPD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最重要的致病因素，应询问吸烟史和吸烟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92360" y="1341360"/>
            <a:ext cx="417672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Verdana"/>
                <a:ea typeface="宋体"/>
              </a:rPr>
              <a:t>三、康复护理评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二）肺功能测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肺功能检查是判断气流受限的客观指标，其重复性好，对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COPD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的诊断、严重程度评价、疾病进展、预后及治疗反应等均有重要意义。吸入支气管舒张剂后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FEV1/FVC%&lt;70%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者，可确定为不能完全可逆的气流受限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61" name="Picture 2" descr=""/>
          <p:cNvPicPr/>
          <p:nvPr/>
        </p:nvPicPr>
        <p:blipFill>
          <a:blip r:embed="rId1"/>
          <a:stretch/>
        </p:blipFill>
        <p:spPr>
          <a:xfrm>
            <a:off x="6389640" y="4292640"/>
            <a:ext cx="221472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1.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平板或功率自行车运动试验  通过平板或功率自行车试验测得最大摄氧量、最大心率、最大代谢当量值等相关量化指标来评价患者的运动能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2.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6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分钟或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1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分钟行走距离测定  对于不能进行上述运动试验的患者，可通过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6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分钟或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1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分钟行走的距离来判断其运动能力及运动中发生低氧血症的可能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35532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三）运动功能评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629080" y="1774800"/>
            <a:ext cx="42480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概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主要功能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康复护理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康复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康复护理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280"/>
            <a:chOff x="1819440" y="2219400"/>
            <a:chExt cx="688320" cy="59328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12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000"/>
            </a:xfrm>
            <a:prstGeom prst="hexagon">
              <a:avLst>
                <a:gd name="adj" fmla="val 29246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03240" y="3749760"/>
            <a:ext cx="687240" cy="593280"/>
            <a:chOff x="1803240" y="3749760"/>
            <a:chExt cx="687240" cy="593280"/>
          </a:xfrm>
        </p:grpSpPr>
        <p:sp>
          <p:nvSpPr>
            <p:cNvPr id="116" name="AutoShape 12"/>
            <p:cNvSpPr/>
            <p:nvPr/>
          </p:nvSpPr>
          <p:spPr>
            <a:xfrm>
              <a:off x="1808640" y="375948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43200" y="3784680"/>
              <a:ext cx="599400" cy="513000"/>
            </a:xfrm>
            <a:prstGeom prst="hexagon">
              <a:avLst>
                <a:gd name="adj" fmla="val 29211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AutoShape 16"/>
          <p:cNvSpPr/>
          <p:nvPr/>
        </p:nvSpPr>
        <p:spPr>
          <a:xfrm>
            <a:off x="1803240" y="451152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Line 21"/>
          <p:cNvSpPr/>
          <p:nvPr/>
        </p:nvSpPr>
        <p:spPr>
          <a:xfrm>
            <a:off x="2629080" y="4941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AutoShape 16"/>
          <p:cNvSpPr/>
          <p:nvPr/>
        </p:nvSpPr>
        <p:spPr>
          <a:xfrm>
            <a:off x="1763640" y="5302080"/>
            <a:ext cx="719280" cy="665280"/>
          </a:xfrm>
          <a:prstGeom prst="hexagon">
            <a:avLst>
              <a:gd name="adj" fmla="val 27029"/>
              <a:gd name="vf" fmla="val 115470"/>
            </a:avLst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5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Line 21"/>
          <p:cNvSpPr/>
          <p:nvPr/>
        </p:nvSpPr>
        <p:spPr>
          <a:xfrm>
            <a:off x="2844720" y="58784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0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级：虽存在不同程度的肺气肿，但活动如常人，对日常生活无影响，活动时无气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级：一般劳动时出现气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级：平地步行无气短，速度较快或登楼、上坡时，同龄健康人不觉气短而自已有气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级：慢走不及百步即有气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级：讲话或穿衣等轻微动作时即有气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级：安静时出现气短、无法平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80880" y="355320"/>
            <a:ext cx="8382240" cy="62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（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） 日常生活活动能力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0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级：高危 有患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COPD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的危险因素（吸烟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,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职业性粉尘和化学物质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,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感染等）肺功能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正常范围，有慢性咳嗽，咳痰的症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级：轻度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FEV</a:t>
            </a:r>
            <a:r>
              <a:rPr b="1" lang="en-US" sz="2400" spc="-1" strike="noStrike" baseline="-25000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/FVC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＜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80%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预计值，有或无慢性咳嗽咳痰症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级：中度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FEV1/FVC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＜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70%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，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50%≤FEV1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＜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80%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预计值，有或无慢性咳嗽咳痰症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级：重度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FEV1/FVC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＜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70%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，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30%≤FEV1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＜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50%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预计值，有或无慢性咳痰咳嗽症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级：极重度 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FEV1/FVC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＜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70%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，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FEV1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＜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30%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预计值，或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FEV</a:t>
            </a:r>
            <a:r>
              <a:rPr b="1" lang="en-US" sz="2400" spc="-1" strike="noStrike" baseline="-25000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＜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50%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预计值，伴有慢性呼吸衰竭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48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（五）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</a:rPr>
              <a:t>COPD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严重程度评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患者以长期患病可能会产生焦虑、抑郁的心理障碍，对呼吸困难有恐惧心理，甚至会影响患者的心情、性格、生活方式、社交活动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80880" y="35532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六）心理社会评估</a:t>
            </a:r>
            <a:r>
              <a:rPr b="1" lang="zh-CN" sz="4800" spc="-1" strike="noStrike">
                <a:solidFill>
                  <a:srgbClr val="ffffff"/>
                </a:solidFill>
                <a:latin typeface="Verdana"/>
              </a:rPr>
              <a:t>  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0" name="Picture 3" descr=""/>
          <p:cNvPicPr/>
          <p:nvPr/>
        </p:nvPicPr>
        <p:blipFill>
          <a:blip r:embed="rId1"/>
          <a:stretch/>
        </p:blipFill>
        <p:spPr>
          <a:xfrm>
            <a:off x="5435640" y="3718080"/>
            <a:ext cx="3168720" cy="24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1763280" y="2205000"/>
            <a:ext cx="5488200" cy="440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80"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（一）放松技术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（二）呼吸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（三）清除气道分泌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（四）运动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（五）改善饮食结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60360" y="1485720"/>
            <a:ext cx="4276800" cy="696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Verdana"/>
                <a:ea typeface="宋体"/>
              </a:rPr>
              <a:t>四、康复护理措施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COPD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患者由于气促常处于比较紧张的状态，同时，由于呼吸肌力减弱，呼吸时常过度使用颈肩和上胸部肌肉进行代偿，这些肌肉对改善肺通气帮助很小，却使呼吸做功明显加大，从而导致呼吸运动本身需氧量增加，使呼吸困难进一步加重。所以，在开始进行呼吸训练之前，缓解肌肉的紧张是先决条件。放松训练是缓解肌肉紧张的有效方法。常用抗阻等长收缩法、音乐疗法、生物反馈疗法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80880" y="355320"/>
            <a:ext cx="8382240" cy="62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一）放松技术</a:t>
            </a:r>
            <a:r>
              <a:rPr b="1" lang="zh-CN" sz="4800" spc="-1" strike="noStrike">
                <a:solidFill>
                  <a:srgbClr val="ffffff"/>
                </a:solidFill>
                <a:latin typeface="Verdana"/>
              </a:rPr>
              <a:t>  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缩唇呼吸  原理：口唇缩小呈口哨状，尽量将气呼出，同时口腔压力增加，传至末梢气道，避免小气道过早关闭，以改善肺泡有效通气量。缩唇呼吸要点：取舒适的体位；先放松，以鼻吸气；口唇缩成口哨状；将气从口呼出；呼气时腹部内陷、胸部前倾 ；吸气与呼气时间比例为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：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或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：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；呼出的气体以能吹动眼前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0cm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处的蜡烛而不使火焰熄灭为宜；每天练习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~4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次；每次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0~20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分钟；每分钟缩唇呼吸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7~8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次。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80880" y="355320"/>
            <a:ext cx="8382240" cy="62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（二）呼吸训练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"/>
          <p:cNvPicPr/>
          <p:nvPr/>
        </p:nvPicPr>
        <p:blipFill>
          <a:blip r:embed="rId1"/>
          <a:stretch/>
        </p:blipFill>
        <p:spPr>
          <a:xfrm>
            <a:off x="1692360" y="1700280"/>
            <a:ext cx="5878440" cy="435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腹式呼吸  原理：增加膈肌和腹肌的活动，有助于降低呼吸频率，增加潮气量、肺泡通气量、减少功能残气量，并增加咳嗽、咳痰的能力，缓解呼吸困难症状，改善换气功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80880" y="355320"/>
            <a:ext cx="8382240" cy="62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腹式呼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0" name="Picture 2" descr=""/>
          <p:cNvPicPr/>
          <p:nvPr/>
        </p:nvPicPr>
        <p:blipFill>
          <a:blip r:embed="rId1"/>
          <a:srcRect l="0" t="7714" r="0" b="5578"/>
          <a:stretch/>
        </p:blipFill>
        <p:spPr>
          <a:xfrm>
            <a:off x="0" y="1687680"/>
            <a:ext cx="4819680" cy="374796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3" descr=""/>
          <p:cNvPicPr/>
          <p:nvPr/>
        </p:nvPicPr>
        <p:blipFill>
          <a:blip r:embed="rId2"/>
          <a:srcRect l="0" t="10574" r="44432" b="0"/>
          <a:stretch/>
        </p:blipFill>
        <p:spPr>
          <a:xfrm>
            <a:off x="4935600" y="1700280"/>
            <a:ext cx="4205160" cy="37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900000" y="1773000"/>
            <a:ext cx="743112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65040" algn="ctr">
              <a:lnSpc>
                <a:spcPts val="4062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1.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控制性咳嗽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65040" algn="ctr">
              <a:lnSpc>
                <a:spcPts val="4062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2.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哈咳技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65040" algn="ctr">
              <a:lnSpc>
                <a:spcPts val="4062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3.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叩击法（</a:t>
            </a:r>
            <a:r>
              <a:rPr b="0" lang="en-US" sz="2800" spc="-1" strike="noStrike">
                <a:solidFill>
                  <a:srgbClr val="1d1496"/>
                </a:solidFill>
                <a:latin typeface="Arial"/>
              </a:rPr>
              <a:t>percussion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） 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65040" algn="ctr">
              <a:lnSpc>
                <a:spcPts val="4062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4.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震颤法（</a:t>
            </a:r>
            <a:r>
              <a:rPr b="0" lang="en-US" sz="2800" spc="-1" strike="noStrike">
                <a:solidFill>
                  <a:srgbClr val="1d1496"/>
                </a:solidFill>
                <a:latin typeface="Arial"/>
              </a:rPr>
              <a:t>vibration 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）  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65040" algn="ctr">
              <a:lnSpc>
                <a:spcPts val="4062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1496"/>
                </a:solidFill>
                <a:latin typeface="Arial"/>
              </a:rPr>
              <a:t>5.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体位引流（</a:t>
            </a:r>
            <a:r>
              <a:rPr b="0" lang="en-US" sz="2800" spc="-1" strike="noStrike">
                <a:solidFill>
                  <a:srgbClr val="1d1496"/>
                </a:solidFill>
                <a:latin typeface="Arial"/>
              </a:rPr>
              <a:t>postural drainage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65040" algn="ctr">
              <a:lnSpc>
                <a:spcPts val="4062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6.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躯干活动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880" y="355320"/>
            <a:ext cx="8382240" cy="84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（三）清除气道分泌物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DD7D3-D51F-4E35-816A-90061C49EF9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Rectangle 4"/>
          <p:cNvSpPr/>
          <p:nvPr/>
        </p:nvSpPr>
        <p:spPr>
          <a:xfrm>
            <a:off x="684360" y="1990800"/>
            <a:ext cx="8064360" cy="37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ct val="150000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识记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冠心病及冠心病康复的定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冠心病的常见类型及主要功能障碍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ct val="150000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理解：不同类型冠心病的典型临床表现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ct val="150000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运用：评估冠心病患者主要功能障碍并为其制订康复护理计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咳嗽是呼吸系统的防御性反应，它可因气道受到刺激引起反射性咳嗽，也可在主观控制下产生自主性咳嗽。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COPD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患者学会控制性咳嗽，避免持续性反射性咳嗽，后者可使胸腔内压力过度增高，给患者带来危险。咳嗽只能将支气管第６～７级内的分泌物向近端移动，更远端部位的分泌物要靠其他技术清除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880" y="355320"/>
            <a:ext cx="8382240" cy="62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1.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控制性咳嗽 </a:t>
            </a:r>
            <a:r>
              <a:rPr b="0" lang="zh-CN" sz="4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声门打开的咳嗽，方法是咳嗽时发“哈”音。哈气技术可以将远端气道内的分泌物移向近端，且由于哈气时胸腔内压力较咳嗽时低，所以比较安全。在膈肌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缩唇呼吸中间间断进行哈气或咳嗽是常用的排痰技术。当过多的分泌物在气道的远端，咳嗽和哈气无效时，应采用叩击法、震颤法和体位引流等其他排痰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80880" y="355320"/>
            <a:ext cx="8382240" cy="62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2.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哈咳技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利用叩击产生的机械震动波，通过胸璧传递至气道，使其内部的分泌物松动而易于排出。将双手拇指与其余四指内收并对握成杯口状，在需要治疗的肺部所对应的胸壁上，进行有节奏的叩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987640" y="404280"/>
            <a:ext cx="5919840" cy="55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3.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叩击法（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percussion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r>
              <a:rPr b="0" lang="zh-CN" sz="4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0" name="Picture 2" descr=""/>
          <p:cNvPicPr/>
          <p:nvPr/>
        </p:nvPicPr>
        <p:blipFill>
          <a:blip r:embed="rId1"/>
          <a:stretch/>
        </p:blipFill>
        <p:spPr>
          <a:xfrm>
            <a:off x="3203640" y="4221000"/>
            <a:ext cx="3024000" cy="15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患者呼气时，治疗师通过在患者胸璧上加压并震颤，使气道内浓稠的分泌物松动，并从远端向近端移动。嘱患者深吸一口气，在吸气末，治疗师开始震颤并加压，此震力一直持续到呼气结束。操作时，治疗师的双手可置于患者胸壁两侧，或置于胸壁一侧，或双手重叠置于一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80880" y="35532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震颤法（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</a:rPr>
              <a:t>vibration 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r>
              <a:rPr b="0" lang="zh-CN" sz="4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是将支气管置于某种位置，通过重力的作用使肺部某一特定部位的分泌物易于排出。 根据支气管的走行和分泌物所在的不同肺叶，选择恰当的引流体位。为加强疗效，体位引流同时，常配合叩击法和摇震法。患者体位的选择，还应根据病情而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28720" y="333360"/>
            <a:ext cx="836784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体位引流（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postural drainage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"/>
          <p:cNvPicPr/>
          <p:nvPr/>
        </p:nvPicPr>
        <p:blipFill>
          <a:blip r:embed="rId1"/>
          <a:stretch/>
        </p:blipFill>
        <p:spPr>
          <a:xfrm>
            <a:off x="33480" y="1268280"/>
            <a:ext cx="9072360" cy="45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2" descr=""/>
          <p:cNvPicPr/>
          <p:nvPr/>
        </p:nvPicPr>
        <p:blipFill>
          <a:blip r:embed="rId1"/>
          <a:stretch/>
        </p:blipFill>
        <p:spPr>
          <a:xfrm>
            <a:off x="138240" y="2349360"/>
            <a:ext cx="8975520" cy="20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"/>
          <p:cNvPicPr/>
          <p:nvPr/>
        </p:nvPicPr>
        <p:blipFill>
          <a:blip r:embed="rId1"/>
          <a:stretch/>
        </p:blipFill>
        <p:spPr>
          <a:xfrm>
            <a:off x="179280" y="2349360"/>
            <a:ext cx="886140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通过颈、肩、胸壁、脊柱、肢体等主要部位的主动活动，增加增加增加增加关节活动度，促进肌肉放松，提高胸壁及整个躯体的柔韧性。躯干活动常与呼吸运动相结合，以强化呼吸运动的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355320"/>
            <a:ext cx="8382240" cy="62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6.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躯干活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0" name="Picture 2" descr=""/>
          <p:cNvPicPr/>
          <p:nvPr/>
        </p:nvPicPr>
        <p:blipFill>
          <a:blip r:embed="rId1"/>
          <a:stretch/>
        </p:blipFill>
        <p:spPr>
          <a:xfrm>
            <a:off x="1403280" y="3573360"/>
            <a:ext cx="6572160" cy="28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0EC33-5E1D-4BF8-B9FD-5C8A65C0F354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步行训练 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采用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1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分钟行走试验，即受试者在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1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分钟内做最大努力，平地行走的最长距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上楼梯训练 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上楼梯运动配合呼吸训练，先用鼻吸气，然后缩小口唇呼气，每登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级台阶呼吸一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3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肌肉放松锻炼   患者可舒适地平卧在床上或坐在椅子上，也可取立位，使所有肌肉尽可能放松，缓慢地吸气，缩小口形呼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69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（四）运动训练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0E7B7-33A8-4C3A-8CA3-58F50232CF95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（一）定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慢性阻塞性肺疾病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chronic obstructive pulmonary disease, COPD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，简称慢阻肺。是以持久性气道阻塞为特征，气流受限不完全可抑制，病情呈进行性发展，与肺部有害气体或有害颗粒的异常炎症反应有关。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COPD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主要累及肺，但也可引起全身（或称肺外）的不良效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734160" y="355320"/>
            <a:ext cx="2028960" cy="55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一、概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5%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的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COPD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患者体重指数下降，而体重指数下降是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COPD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患者死亡的独立危险因素。饮食上首先要改变患者的饮食习惯，主要是高热量、高蛋白，少量多餐。 以及指导患者如何摄取维生素和矿物质，如何正确饮水等。患者每天消耗热量是休息时能量消耗的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.7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倍，其中蛋白质摄入应大于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.7g/(kg·d)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355320"/>
            <a:ext cx="8382240" cy="62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（五）改善饮食结构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6" name="Picture 2" descr=""/>
          <p:cNvPicPr/>
          <p:nvPr/>
        </p:nvPicPr>
        <p:blipFill>
          <a:blip r:embed="rId1"/>
          <a:stretch/>
        </p:blipFill>
        <p:spPr>
          <a:xfrm>
            <a:off x="6804000" y="4437000"/>
            <a:ext cx="2021040" cy="20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396360" y="2133720"/>
            <a:ext cx="8496360" cy="25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．慢性阻塞性肺疾病的预防主要是避免发病的高危因素、急性加重的诱发因素以及增强肌体免疫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．戒烟是预防慢阻肺的重要措施，也是最简单易行的措施，在疾病的任何阶段戒烟都有益于防止该病的发生和发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618920" y="1341360"/>
            <a:ext cx="4551480" cy="62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Verdana"/>
                <a:ea typeface="宋体"/>
              </a:rPr>
              <a:t>五、康复护理指导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9" name="Picture 2" descr=""/>
          <p:cNvPicPr/>
          <p:nvPr/>
        </p:nvPicPr>
        <p:blipFill>
          <a:blip r:embed="rId1"/>
          <a:stretch/>
        </p:blipFill>
        <p:spPr>
          <a:xfrm>
            <a:off x="6300720" y="4365720"/>
            <a:ext cx="211464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．控制职业和环境污染，减少有害气体或有害因子的吸入，可减轻气道和肺的炎症反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．积极防治婴幼儿和儿童期的呼吸系统感染，减少对呼吸系统的不良刺激，可能有助于减少以后该病的发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11" name="Picture 2" descr=""/>
          <p:cNvPicPr/>
          <p:nvPr/>
        </p:nvPicPr>
        <p:blipFill>
          <a:blip r:embed="rId1"/>
          <a:stretch/>
        </p:blipFill>
        <p:spPr>
          <a:xfrm>
            <a:off x="6083280" y="4076640"/>
            <a:ext cx="248616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395280" y="141264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．在流感季节到来之前注射流感疫苗、肺炎链球菌疫苗等，积极防治呼吸道反复感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．加强体育锻炼，提高机体免疫力，增强体质，合理营养，改善机体一般状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7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．对于有慢性阻塞性肺疾病高危因素的人群，应定期进行肺功能监测，以尽可能早期发现慢性阻塞性肺疾病并及时予以治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13" name="Picture 2" descr=""/>
          <p:cNvPicPr/>
          <p:nvPr/>
        </p:nvPicPr>
        <p:blipFill>
          <a:blip r:embed="rId1"/>
          <a:stretch/>
        </p:blipFill>
        <p:spPr>
          <a:xfrm>
            <a:off x="7569360" y="4292640"/>
            <a:ext cx="139032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患者，男性，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7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岁，哮喘多年，现合并慢阻肺，肺功能重度阻塞性通气功能障碍，急性发作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天。入院查体：喘息貌，桶状胸，双肺满布哮鸣音，心率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94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次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/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分，心律不齐，闻及频发早搏，血压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155/85 mmHg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，双下肢不肿。入院后给予低流量吸氧，白细胞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c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反应蛋白等炎症指标不高，血气二氧化碳正常，左氧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0.6 qd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，可必特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+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普米克雾化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q8h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，甲强龙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40mg q8h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，每天半支茶碱静滴，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周后症状明显缓解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试分析：该患者怎样进行评估？应采取哪些康复护理措施？怎样指导进行日常生活指导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80880" y="35532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案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5" name="Picture 4" descr=""/>
          <p:cNvPicPr/>
          <p:nvPr/>
        </p:nvPicPr>
        <p:blipFill>
          <a:blip r:embed="rId1"/>
          <a:stretch/>
        </p:blipFill>
        <p:spPr>
          <a:xfrm>
            <a:off x="1332000" y="1268280"/>
            <a:ext cx="5618160" cy="477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（二）发病原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      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引起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COPD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的危险因素包括个体易感因素以及环境因素两个方面，两者相互影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   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个体因素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   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遗传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   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环境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49040" y="1268280"/>
            <a:ext cx="8407080" cy="440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环境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1050840" algn="ctr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（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1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）吸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4" marL="1050840" algn="ctr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（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2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）职业性粉尘和化学物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4" marL="1050840" algn="ctr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（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3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）空气污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4" marL="1050840" algn="ctr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（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4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）感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4" marL="1050840" algn="ctr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（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5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）社会经济地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9" name="Picture 3" descr=""/>
          <p:cNvPicPr/>
          <p:nvPr/>
        </p:nvPicPr>
        <p:blipFill>
          <a:blip r:embed="rId1"/>
          <a:stretch/>
        </p:blipFill>
        <p:spPr>
          <a:xfrm>
            <a:off x="6443640" y="4240080"/>
            <a:ext cx="228600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早期症状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5936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）慢性咳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5936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）咳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5936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）气短或呼吸困难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5936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）喘息和胸闷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508720" y="357120"/>
            <a:ext cx="3254400" cy="62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三）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42" name="Picture 2" descr=""/>
          <p:cNvPicPr/>
          <p:nvPr/>
        </p:nvPicPr>
        <p:blipFill>
          <a:blip r:embed="rId1"/>
          <a:stretch/>
        </p:blipFill>
        <p:spPr>
          <a:xfrm>
            <a:off x="5292720" y="4560840"/>
            <a:ext cx="3476520" cy="193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2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晚期症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 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（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）自发性气胸：如有突然加重的呼吸困难，并伴有明显的发绀，患侧肺部叩诊为鼓音，听诊呼吸音减弱或消失，应考虑并发自发性气胸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 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（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）慢性呼吸衰竭：常在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COPD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急性加重时发生，其症状明显加重，发生低氧血症和或高碳酸血症，可具有缺氧和二氧化碳潴留的临床表现，往往呼吸功能严重受损，在某些诱因如呼吸道感染、分泌物干结潴留，通气和换气功能障碍进一步加重，可诱发呼吸衰竭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 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（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3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）慢性肺源性心脏病和右心衰竭：由于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COPD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肺病变引起肺血管床减少及缺氧致肺动脉痉挛、血管重塑，导致肺动脉高压、右心室肥厚扩大，心脏负荷加重，加上心肌缺氧和代谢障碍等因素，最终发生右心功能不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赵欣</cp:lastModifiedBy>
  <dcterms:modified xsi:type="dcterms:W3CDTF">2015-12-15T10:30:23Z</dcterms:modified>
  <cp:revision>1</cp:revision>
  <dc:subject/>
  <dc:title>        第八章  心肺系统疾病的康复护理</dc:title>
</cp:coreProperties>
</file>