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3.jpeg" ContentType="image/jpeg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2B0BF-25F3-4294-8D54-2E4CEE9363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AC248-E9C3-4951-A002-2915A37E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9B08D-A9C5-4CB1-8DA9-B7817DFA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F518A-6793-41E0-899E-114A809D80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2C4A6-BADC-466A-88EC-C08D9CFE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2791C-9A8F-496D-B105-4C86ADE8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C7DC4-1852-4ACF-8757-6579C641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FA1AF-F9B4-4961-9C1D-41951814C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AB2BD-AB57-4AA9-BAF4-C82ADE251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4F5B2-81EA-42CB-9057-AFB357C6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1323C-F1A2-4A00-B306-6428319C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1D1EB-6D81-44AB-8213-56D44DAC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FFFD-68EF-4B8F-99ED-010EA00E903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教学方法与技巧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课堂计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Line 133"/>
          <p:cNvSpPr/>
          <p:nvPr/>
        </p:nvSpPr>
        <p:spPr>
          <a:xfrm>
            <a:off x="5719680" y="461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50920" y="1203480"/>
          <a:ext cx="8497800" cy="5222880"/>
        </p:xfrm>
        <a:graphic>
          <a:graphicData uri="http://schemas.openxmlformats.org/drawingml/2006/table">
            <a:tbl>
              <a:tblPr/>
              <a:tblGrid>
                <a:gridCol w="2197080"/>
                <a:gridCol w="1836720"/>
                <a:gridCol w="1430280"/>
                <a:gridCol w="1162080"/>
                <a:gridCol w="1871640"/>
              </a:tblGrid>
              <a:tr h="824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题    目：                                         日期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                                            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时间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学方法：                                         地点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07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 生 具 体 情 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听课人数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程类型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育水平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过去的经验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室安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习方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            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评  估  形  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上课期间：                              上课结束后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堂目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活 动 计 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时  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顺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活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堂的自我评估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解释计划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效果好的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关键点及不同认识水平的重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实例的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视觉教材的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必要的修辞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课堂计划之外的，必要的花费时间的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920" y="1155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增进讲授效果的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8320" y="1676520"/>
            <a:ext cx="4495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者的语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习环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教师的行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的开始与结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保持注意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课堂纪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Object 1024" descr=""/>
          <p:cNvPicPr/>
          <p:nvPr/>
        </p:nvPicPr>
        <p:blipFill>
          <a:blip r:embed="rId1"/>
          <a:stretch/>
        </p:blipFill>
        <p:spPr>
          <a:xfrm>
            <a:off x="0" y="1523880"/>
            <a:ext cx="4572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177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第二节  小组教学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Object 1024" descr=""/>
          <p:cNvPicPr/>
          <p:nvPr/>
        </p:nvPicPr>
        <p:blipFill>
          <a:blip r:embed="rId1"/>
          <a:stretch/>
        </p:blipFill>
        <p:spPr>
          <a:xfrm>
            <a:off x="1905120" y="2743200"/>
            <a:ext cx="541008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小组的规模与性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29200" y="1828800"/>
            <a:ext cx="2927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的规模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8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Arial"/>
                <a:ea typeface="宋体"/>
              </a:rPr>
              <a:t>  ≤</a:t>
            </a:r>
            <a:r>
              <a:rPr b="1" lang="en-US" sz="3400" spc="-1" strike="noStrike">
                <a:solidFill>
                  <a:srgbClr val="046ca6"/>
                </a:solidFill>
                <a:latin typeface="Arial"/>
                <a:ea typeface="宋体"/>
              </a:rPr>
              <a:t>25</a:t>
            </a:r>
            <a:r>
              <a:rPr b="1" lang="zh-CN" sz="3400" spc="-1" strike="noStrike">
                <a:solidFill>
                  <a:srgbClr val="046ca6"/>
                </a:solidFill>
                <a:latin typeface="Arial"/>
                <a:ea typeface="宋体"/>
              </a:rPr>
              <a:t>人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的性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0" name="Object 1024" descr=""/>
          <p:cNvPicPr/>
          <p:nvPr/>
        </p:nvPicPr>
        <p:blipFill>
          <a:blip r:embed="rId1"/>
          <a:stretch/>
        </p:blipFill>
        <p:spPr>
          <a:xfrm>
            <a:off x="0" y="1752480"/>
            <a:ext cx="5257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822320"/>
            <a:ext cx="8610480" cy="11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小组教学座次安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6553080" y="21337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5638680" y="2743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7543800" y="2743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5638680" y="39625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7543800" y="3886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5638680" y="335268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7543800" y="32767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563868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662940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754380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914400" y="31240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U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型：教师引导课堂讨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468360" y="1197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物理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280" y="1905120"/>
            <a:ext cx="2127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环形：地位同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Oval 4"/>
          <p:cNvSpPr/>
          <p:nvPr/>
        </p:nvSpPr>
        <p:spPr>
          <a:xfrm>
            <a:off x="4267080" y="22096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Oval 5"/>
          <p:cNvSpPr/>
          <p:nvPr/>
        </p:nvSpPr>
        <p:spPr>
          <a:xfrm>
            <a:off x="5181480" y="22860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Oval 6"/>
          <p:cNvSpPr/>
          <p:nvPr/>
        </p:nvSpPr>
        <p:spPr>
          <a:xfrm>
            <a:off x="3048120" y="48006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Oval 7"/>
          <p:cNvSpPr/>
          <p:nvPr/>
        </p:nvSpPr>
        <p:spPr>
          <a:xfrm>
            <a:off x="6477120" y="31240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Oval 8"/>
          <p:cNvSpPr/>
          <p:nvPr/>
        </p:nvSpPr>
        <p:spPr>
          <a:xfrm>
            <a:off x="2971800" y="29718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Oval 9"/>
          <p:cNvSpPr/>
          <p:nvPr/>
        </p:nvSpPr>
        <p:spPr>
          <a:xfrm>
            <a:off x="3505320" y="25146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4876920" y="51814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11"/>
          <p:cNvSpPr/>
          <p:nvPr/>
        </p:nvSpPr>
        <p:spPr>
          <a:xfrm>
            <a:off x="3886200" y="51814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12"/>
          <p:cNvSpPr/>
          <p:nvPr/>
        </p:nvSpPr>
        <p:spPr>
          <a:xfrm>
            <a:off x="2514600" y="41911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Oval 13"/>
          <p:cNvSpPr/>
          <p:nvPr/>
        </p:nvSpPr>
        <p:spPr>
          <a:xfrm>
            <a:off x="2514600" y="35053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Oval 14"/>
          <p:cNvSpPr/>
          <p:nvPr/>
        </p:nvSpPr>
        <p:spPr>
          <a:xfrm>
            <a:off x="5867280" y="2666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Oval 15"/>
          <p:cNvSpPr/>
          <p:nvPr/>
        </p:nvSpPr>
        <p:spPr>
          <a:xfrm>
            <a:off x="5791320" y="4952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Oval 16"/>
          <p:cNvSpPr/>
          <p:nvPr/>
        </p:nvSpPr>
        <p:spPr>
          <a:xfrm>
            <a:off x="6629400" y="3809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Oval 17"/>
          <p:cNvSpPr/>
          <p:nvPr/>
        </p:nvSpPr>
        <p:spPr>
          <a:xfrm>
            <a:off x="6248520" y="44197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马靴型：大组分化成小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 flipH="1">
            <a:off x="3504600" y="2057400"/>
            <a:ext cx="685800" cy="609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 flipV="1">
            <a:off x="1828800" y="29718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Oval 6"/>
          <p:cNvSpPr/>
          <p:nvPr/>
        </p:nvSpPr>
        <p:spPr>
          <a:xfrm>
            <a:off x="1143000" y="32004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Oval 7"/>
          <p:cNvSpPr/>
          <p:nvPr/>
        </p:nvSpPr>
        <p:spPr>
          <a:xfrm>
            <a:off x="2057400" y="22860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Oval 8"/>
          <p:cNvSpPr/>
          <p:nvPr/>
        </p:nvSpPr>
        <p:spPr>
          <a:xfrm>
            <a:off x="2057400" y="3886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 flipV="1">
            <a:off x="4800600" y="29718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Oval 10"/>
          <p:cNvSpPr/>
          <p:nvPr/>
        </p:nvSpPr>
        <p:spPr>
          <a:xfrm>
            <a:off x="6019920" y="30481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Oval 11"/>
          <p:cNvSpPr/>
          <p:nvPr/>
        </p:nvSpPr>
        <p:spPr>
          <a:xfrm>
            <a:off x="5029200" y="23623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Oval 12"/>
          <p:cNvSpPr/>
          <p:nvPr/>
        </p:nvSpPr>
        <p:spPr>
          <a:xfrm>
            <a:off x="5029200" y="39625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 flipV="1">
            <a:off x="1905120" y="487692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 flipV="1">
            <a:off x="4800600" y="48006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Oval 15"/>
          <p:cNvSpPr/>
          <p:nvPr/>
        </p:nvSpPr>
        <p:spPr>
          <a:xfrm>
            <a:off x="2057400" y="44197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Oval 16"/>
          <p:cNvSpPr/>
          <p:nvPr/>
        </p:nvSpPr>
        <p:spPr>
          <a:xfrm>
            <a:off x="1143000" y="5029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Oval 17"/>
          <p:cNvSpPr/>
          <p:nvPr/>
        </p:nvSpPr>
        <p:spPr>
          <a:xfrm>
            <a:off x="2133720" y="586728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Oval 18"/>
          <p:cNvSpPr/>
          <p:nvPr/>
        </p:nvSpPr>
        <p:spPr>
          <a:xfrm>
            <a:off x="6019920" y="5029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Oval 19"/>
          <p:cNvSpPr/>
          <p:nvPr/>
        </p:nvSpPr>
        <p:spPr>
          <a:xfrm>
            <a:off x="4038480" y="51055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Oval 20"/>
          <p:cNvSpPr/>
          <p:nvPr/>
        </p:nvSpPr>
        <p:spPr>
          <a:xfrm>
            <a:off x="4952880" y="57913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-303120"/>
            <a:ext cx="7772400" cy="17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2571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委员会型：正式讨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6095880" y="2590920"/>
            <a:ext cx="1524240" cy="3124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6629400" y="1828800"/>
            <a:ext cx="533520" cy="45720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Oval 6"/>
          <p:cNvSpPr/>
          <p:nvPr/>
        </p:nvSpPr>
        <p:spPr>
          <a:xfrm>
            <a:off x="5410080" y="2666880"/>
            <a:ext cx="53352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Oval 7"/>
          <p:cNvSpPr/>
          <p:nvPr/>
        </p:nvSpPr>
        <p:spPr>
          <a:xfrm>
            <a:off x="5334120" y="35812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Oval 8"/>
          <p:cNvSpPr/>
          <p:nvPr/>
        </p:nvSpPr>
        <p:spPr>
          <a:xfrm>
            <a:off x="5334120" y="434340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Oval 9"/>
          <p:cNvSpPr/>
          <p:nvPr/>
        </p:nvSpPr>
        <p:spPr>
          <a:xfrm>
            <a:off x="7924680" y="3505320"/>
            <a:ext cx="53352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7848720" y="26668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5334120" y="510552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Oval 12"/>
          <p:cNvSpPr/>
          <p:nvPr/>
        </p:nvSpPr>
        <p:spPr>
          <a:xfrm>
            <a:off x="7848720" y="419112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Oval 13"/>
          <p:cNvSpPr/>
          <p:nvPr/>
        </p:nvSpPr>
        <p:spPr>
          <a:xfrm>
            <a:off x="7848720" y="49528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Oval 14"/>
          <p:cNvSpPr/>
          <p:nvPr/>
        </p:nvSpPr>
        <p:spPr>
          <a:xfrm>
            <a:off x="6629400" y="58672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Oval 15"/>
          <p:cNvSpPr/>
          <p:nvPr/>
        </p:nvSpPr>
        <p:spPr>
          <a:xfrm>
            <a:off x="1600200" y="2514600"/>
            <a:ext cx="1981080" cy="34290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Oval 16"/>
          <p:cNvSpPr/>
          <p:nvPr/>
        </p:nvSpPr>
        <p:spPr>
          <a:xfrm>
            <a:off x="1143000" y="27432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Oval 17"/>
          <p:cNvSpPr/>
          <p:nvPr/>
        </p:nvSpPr>
        <p:spPr>
          <a:xfrm>
            <a:off x="914400" y="37339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Oval 18"/>
          <p:cNvSpPr/>
          <p:nvPr/>
        </p:nvSpPr>
        <p:spPr>
          <a:xfrm>
            <a:off x="990720" y="46483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Oval 19"/>
          <p:cNvSpPr/>
          <p:nvPr/>
        </p:nvSpPr>
        <p:spPr>
          <a:xfrm>
            <a:off x="1295280" y="5410080"/>
            <a:ext cx="60984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Oval 20"/>
          <p:cNvSpPr/>
          <p:nvPr/>
        </p:nvSpPr>
        <p:spPr>
          <a:xfrm>
            <a:off x="3429000" y="52578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Oval 21"/>
          <p:cNvSpPr/>
          <p:nvPr/>
        </p:nvSpPr>
        <p:spPr>
          <a:xfrm>
            <a:off x="2438280" y="5943600"/>
            <a:ext cx="68580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Oval 22"/>
          <p:cNvSpPr/>
          <p:nvPr/>
        </p:nvSpPr>
        <p:spPr>
          <a:xfrm>
            <a:off x="3657600" y="426708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Oval 23"/>
          <p:cNvSpPr/>
          <p:nvPr/>
        </p:nvSpPr>
        <p:spPr>
          <a:xfrm>
            <a:off x="3657600" y="34290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24"/>
          <p:cNvSpPr/>
          <p:nvPr/>
        </p:nvSpPr>
        <p:spPr>
          <a:xfrm>
            <a:off x="3352680" y="2514600"/>
            <a:ext cx="60984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25"/>
          <p:cNvSpPr/>
          <p:nvPr/>
        </p:nvSpPr>
        <p:spPr>
          <a:xfrm>
            <a:off x="2286000" y="19051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心理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小组教学成功的最重要因素是组内成员间的相互信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小组成员之间彼此认识交流的常用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配对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滚雪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模仿表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6" name="Object 1024" descr=""/>
          <p:cNvPicPr/>
          <p:nvPr/>
        </p:nvPicPr>
        <p:blipFill>
          <a:blip r:embed="rId1"/>
          <a:stretch/>
        </p:blipFill>
        <p:spPr>
          <a:xfrm>
            <a:off x="5003640" y="2781360"/>
            <a:ext cx="391176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完成本章的学习后，学生应能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释下列名词：教学方法 讲授 演示 以问题为基础的教学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说出常用的教学方法与教学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比较常见教学方法与技巧的优缺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阐述以问题为基础的教学法对护理教育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动在教学活动或健康教育实践中应用有效的教学方法与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小组的基本过程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组的顺应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危险转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责任散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观众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协力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9" name="Object 1024" descr=""/>
          <p:cNvPicPr/>
          <p:nvPr/>
        </p:nvPicPr>
        <p:blipFill>
          <a:blip r:embed="rId1"/>
          <a:stretch/>
        </p:blipFill>
        <p:spPr>
          <a:xfrm>
            <a:off x="3886200" y="2362320"/>
            <a:ext cx="467208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组内交流和相互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性方法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控制条件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非实验性方法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然条件下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成型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委托给组，成为成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冲突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内矛盾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规范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相互作用，建立和睦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执行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现组的目标而经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联系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与其他组进行交流的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教学小组的目的与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智力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的回忆和认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感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地位、群体关系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达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达能力、公众交谈技巧、简洁表达论点、着手进行讨论等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4" name="Object 1024" descr=""/>
          <p:cNvPicPr/>
          <p:nvPr/>
        </p:nvPicPr>
        <p:blipFill>
          <a:blip r:embed="rId1"/>
          <a:stretch/>
        </p:blipFill>
        <p:spPr>
          <a:xfrm>
            <a:off x="6369120" y="3573360"/>
            <a:ext cx="2774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指导教师的角色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5562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领导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导和干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督促小组进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资源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识来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训练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方法、技巧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命令式：教师是权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苏格拉底式：教师提问，学生回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启发式：知识互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商式：反思问题，沟通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" name="Object 1024" descr=""/>
          <p:cNvPicPr/>
          <p:nvPr/>
        </p:nvPicPr>
        <p:blipFill>
          <a:blip r:embed="rId1"/>
          <a:stretch/>
        </p:blipFill>
        <p:spPr>
          <a:xfrm>
            <a:off x="5792760" y="3141720"/>
            <a:ext cx="335124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745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七、小组教学存在的共同问题及对策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428640" y="19051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全组成员同时发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出现个别好说的活跃学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出现争执的场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个别组员突然愤然离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生不愿参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0" name="Object 4" descr=""/>
          <p:cNvPicPr/>
          <p:nvPr/>
        </p:nvPicPr>
        <p:blipFill>
          <a:blip r:embed="rId1"/>
          <a:stretch/>
        </p:blipFill>
        <p:spPr>
          <a:xfrm>
            <a:off x="179280" y="1752480"/>
            <a:ext cx="32403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八、教学小组的主要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辅导小组：一对一或一对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术讨论组：提出论文，小组讨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讨论组：教师提出论点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由讨论组：组内成员自我控制，教师旁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议题讨论组：某一论点或题目为中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答问题组：教师提出需要解决的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课题组：研究单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604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增进小组教学效果的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800600" y="19807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周密计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时间限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小组规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明确教师角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合理分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及时小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5" name="Object 1024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产生及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问题为基础的教学方法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roblem-based learnin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简称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B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美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Howard S.Barrows 1969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在加拿大的麦克玛斯特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cMaste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大学首先创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较好促进学生的评判性思维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调以学生为主体，并以促进学生的自学动机、提高学生自己解决问题能力为教学目标的教学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B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操作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一）教育目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讲述知识在临床的应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发展临床推理技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发展有效的自主学习技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提高学习者的学习动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二）教学模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三）教学步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明确学习的问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学生的自学过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组讨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1" name="Object 1024" descr=""/>
          <p:cNvPicPr/>
          <p:nvPr/>
        </p:nvPicPr>
        <p:blipFill>
          <a:blip r:embed="rId1"/>
          <a:stretch/>
        </p:blipFill>
        <p:spPr>
          <a:xfrm>
            <a:off x="5364000" y="3500280"/>
            <a:ext cx="34196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B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护理教育的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培养护理专业学生的自学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促进学生的评判性思维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护理专业学生获得基础学科知识与临床实践的统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推广中存在的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缺乏有经验的师资队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教学资金短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学生的思维方式限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6120" y="304560"/>
            <a:ext cx="593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学方法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038480" y="2057040"/>
            <a:ext cx="510552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是教师为完成教学任务所采用的手段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0" name="Object 4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3924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23640" y="1341360"/>
            <a:ext cx="439236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学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别辅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咨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团队为基础的教学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案例为基础的教学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14240" y="33336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其他教学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6" name="Object 4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39625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节 教学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一、课堂提问技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二、演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三、小组教学常用技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四、电化教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课堂提问技巧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31640" y="1630440"/>
            <a:ext cx="712620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课堂提问法的特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问题的程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1" name="Object 4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733920" cy="440676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5"/>
          <p:cNvSpPr/>
          <p:nvPr/>
        </p:nvSpPr>
        <p:spPr>
          <a:xfrm>
            <a:off x="1392120" y="6021360"/>
            <a:ext cx="2819520" cy="45720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记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1763640" y="5487840"/>
            <a:ext cx="2438640" cy="5335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1908000" y="4869000"/>
            <a:ext cx="2286000" cy="609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2209680" y="4267080"/>
            <a:ext cx="1981440" cy="6098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分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2590920" y="3733920"/>
            <a:ext cx="1600200" cy="5331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综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2971800" y="3124080"/>
            <a:ext cx="1219320" cy="6098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一、课堂提问技巧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增进效果的措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问题简洁、明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提不同程度的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及时反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准备开放性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围绕目标设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提供思考时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合理安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0" name="Object 1024" descr=""/>
          <p:cNvPicPr/>
          <p:nvPr/>
        </p:nvPicPr>
        <p:blipFill>
          <a:blip r:embed="rId1"/>
          <a:stretch/>
        </p:blipFill>
        <p:spPr>
          <a:xfrm>
            <a:off x="4495680" y="2336760"/>
            <a:ext cx="464832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演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90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演示是对事实、概念或过程的直观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使学生获得丰富的感性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配合教师的说明、讲解，引导学生边看边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3" name="Object 1024" descr=""/>
          <p:cNvPicPr/>
          <p:nvPr/>
        </p:nvPicPr>
        <p:blipFill>
          <a:blip r:embed="rId1"/>
          <a:stretch/>
        </p:blipFill>
        <p:spPr>
          <a:xfrm>
            <a:off x="3492360" y="2060640"/>
            <a:ext cx="565164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演示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增进效果的措施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708000" y="1906560"/>
            <a:ext cx="543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明确观察目的、内容和要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确保演示项目的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演示要适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演示过程要正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6" name="Object 1024" descr=""/>
          <p:cNvPicPr/>
          <p:nvPr/>
        </p:nvPicPr>
        <p:blipFill>
          <a:blip r:embed="rId1"/>
          <a:stretch/>
        </p:blipFill>
        <p:spPr>
          <a:xfrm>
            <a:off x="0" y="2349360"/>
            <a:ext cx="3730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小组教学常用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滚雪球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根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传呼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献计献策”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旋转木马”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模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扮演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9" name="Object 2048" descr=""/>
          <p:cNvPicPr/>
          <p:nvPr/>
        </p:nvPicPr>
        <p:blipFill>
          <a:blip r:embed="rId1"/>
          <a:stretch/>
        </p:blipFill>
        <p:spPr>
          <a:xfrm>
            <a:off x="4716360" y="2421000"/>
            <a:ext cx="396252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电化教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电影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投影仪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幻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录像机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计算机教学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其他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2" name="Object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40384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47680" y="304560"/>
            <a:ext cx="443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03848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教师应根据教学方法和技巧的特点，在不同的教学环境中选择适当的教学方法和技巧，以促进教学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Object 4" descr=""/>
          <p:cNvPicPr/>
          <p:nvPr/>
        </p:nvPicPr>
        <p:blipFill>
          <a:blip r:embed="rId1"/>
          <a:stretch/>
        </p:blipFill>
        <p:spPr>
          <a:xfrm>
            <a:off x="0" y="914400"/>
            <a:ext cx="4267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0644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的教学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560" y="1498320"/>
            <a:ext cx="3132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46ca6"/>
                </a:solidFill>
                <a:uFillTx/>
                <a:latin typeface="Times New Roman"/>
                <a:ea typeface="宋体"/>
              </a:rPr>
              <a:t>教学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105520" y="13716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46ca6"/>
                </a:solidFill>
                <a:uFillTx/>
                <a:latin typeface="Times New Roman"/>
                <a:ea typeface="宋体"/>
              </a:rPr>
              <a:t>教学技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332000" y="2362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课堂讲授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332000" y="31240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小组教学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403280" y="378936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经验学习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403280" y="457200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以问题为基础的教学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5334120" y="22096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提问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5410080" y="2971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演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5410080" y="3581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模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54100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角色扮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676520" y="581184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5562720" y="56800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Times New Roman"/>
                <a:ea typeface="宋体"/>
              </a:rPr>
              <a:t>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第一节  课堂讲授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68360" y="2522520"/>
            <a:ext cx="827244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法：是指教师运用语言向学生系统而连贯地传授科学文化知识的方法，其最大的优点在于能在较短的时间内传递较丰富的知识，容量大，效率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5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讲授法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211640" y="1557000"/>
            <a:ext cx="464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现认知领域的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生参加有强迫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时间安排影响讲课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回忆信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Object 1024" descr=""/>
          <p:cNvPicPr/>
          <p:nvPr/>
        </p:nvPicPr>
        <p:blipFill>
          <a:blip r:embed="rId1"/>
          <a:stretch/>
        </p:blipFill>
        <p:spPr>
          <a:xfrm>
            <a:off x="-46080" y="2492280"/>
            <a:ext cx="38307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课堂讲授法的优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8640" y="14479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一个教师与许多学生交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介绍新课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介绍课本里没有的新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题材系统化后讲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帮助学生建立框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能提高学生的主观能动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Object 1024" descr=""/>
          <p:cNvPicPr/>
          <p:nvPr/>
        </p:nvPicPr>
        <p:blipFill>
          <a:blip r:embed="rId1"/>
          <a:stretch/>
        </p:blipFill>
        <p:spPr>
          <a:xfrm>
            <a:off x="-3240" y="2205000"/>
            <a:ext cx="299088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44080" cy="52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讲授法的缺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85840" y="1371600"/>
            <a:ext cx="5257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能照顾个别学生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讲授的进度不一定适合所有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教师存在明显的偏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是被动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得到的是“第二手”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的注意力逐渐减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Object 1024" descr=""/>
          <p:cNvPicPr/>
          <p:nvPr/>
        </p:nvPicPr>
        <p:blipFill>
          <a:blip r:embed="rId1"/>
          <a:stretch/>
        </p:blipFill>
        <p:spPr>
          <a:xfrm>
            <a:off x="0" y="1981080"/>
            <a:ext cx="3809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制订讲授计划的过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52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（一）影响讲授计划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学生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题材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环境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心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Object 1024" descr=""/>
          <p:cNvPicPr/>
          <p:nvPr/>
        </p:nvPicPr>
        <p:blipFill>
          <a:blip r:embed="rId1"/>
          <a:stretch/>
        </p:blipFill>
        <p:spPr>
          <a:xfrm>
            <a:off x="3733920" y="1981080"/>
            <a:ext cx="4876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9:10:47Z</dcterms:modified>
  <cp:revision>88</cp:revision>
  <dc:subject/>
  <dc:title>内科护理学</dc:title>
</cp:coreProperties>
</file>