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1.png" ContentType="image/png"/>
  <Override PartName="/ppt/media/image14.jpeg" ContentType="image/jpeg"/>
  <Override PartName="/ppt/media/image15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46FAA-2C99-4D94-9823-DB0E61AC5F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240E5-3609-42BE-A61B-553F42D1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962B2-6481-46AE-9A7B-B20D2961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FE8FF-1502-41AA-ACAD-7FA6C06DD5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7D41C-6672-4D1D-9549-A6376EED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7C53A-2FCA-4621-A68E-BDBA4E92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9008D-E335-481C-A185-EE7D9771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CA2B-BC79-43A4-B9A1-0729C243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3E99E-E7FC-43BB-9F59-8425EFE0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C64B-401C-4D4C-BD9C-566B7D3F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07823-26E4-4816-9B7A-BE51325D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42EF-06FE-4A13-80ED-405AA6F1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0482-7C0B-4E1F-9ED4-7DFD178277A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baike.baidu.com/view/5767.htm" TargetMode="External"/><Relationship Id="rId2" Type="http://schemas.openxmlformats.org/officeDocument/2006/relationships/hyperlink" Target="http://baike.baidu.com/view/34946.htm" TargetMode="External"/><Relationship Id="rId3" Type="http://schemas.openxmlformats.org/officeDocument/2006/relationships/hyperlink" Target="http://baike.baidu.com/view/5799218.htm" TargetMode="External"/><Relationship Id="rId4" Type="http://schemas.openxmlformats.org/officeDocument/2006/relationships/hyperlink" Target="http://baike.baidu.com/view/908971.htm" TargetMode="External"/><Relationship Id="rId5" Type="http://schemas.openxmlformats.org/officeDocument/2006/relationships/hyperlink" Target="http://baike.baidu.com/view/84935.htm" TargetMode="Externa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40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康复护理的理论基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19280" y="54450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李红玲</a:t>
            </a:r>
            <a:r>
              <a:rPr b="1" lang="en-US" sz="36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神经损伤的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各种物理性创伤、化学物质中毒、感染、慢性疾病以及老化、营养代谢障碍等均可使神经系统发生损伤性反应。神经系统对损伤的反应取决于损伤的性质、部位和损伤因素作用时间的长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论是中枢神经系统还是周围神经系统，其神经轴突损伤后都发生以下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受损轴突的近、远侧端肿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使兴奋性氨基酸释放增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流增加，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作为细胞内的第二信使，触发一系列级联反应，激活多种蛋白酶，使细胞骨架崩解，介导神经毒性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远端神经末梢退变及突触传递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4920" y="1699920"/>
            <a:ext cx="9001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胞体肿胀，胞核移位，胞核周围的尼氏体分散，染色质降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与受损神经元有突触联系的神经元也将变性，称跨神经元或跨突触变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脑或血神经屏障有不同程度的破坏，引起炎症、免疫反应，这些反应有利于损伤细胞残屑的消除和受损神经的再生修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内外环境因素的刺激下，神经系统发生结构和功能的改变，并维持一定的时间，这种变化就是可塑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构和功能的可塑性即指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的能力，是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重要特性，是生物体学习新技能、建立新记忆及损伤后修复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610480" cy="30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不同时期神经系统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发育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成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老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中枢神经系统损伤后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统内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轴突长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179280" y="2852640"/>
            <a:ext cx="8064000" cy="3600360"/>
            <a:chOff x="179280" y="2852640"/>
            <a:chExt cx="8064000" cy="3600360"/>
          </a:xfrm>
        </p:grpSpPr>
        <p:sp>
          <p:nvSpPr>
            <p:cNvPr id="142" name="AutoShape 5"/>
            <p:cNvSpPr/>
            <p:nvPr/>
          </p:nvSpPr>
          <p:spPr>
            <a:xfrm>
              <a:off x="1260000" y="3433320"/>
              <a:ext cx="6034320" cy="209052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1010520" y="2852640"/>
              <a:ext cx="6318000" cy="43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e9cf72"/>
                </a:gs>
                <a:gs pos="100000">
                  <a:srgbClr val="ddb523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伤后重新生长的神经突起</a:t>
              </a:r>
              <a:r>
                <a:rPr b="1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——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发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4060440" y="388476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5" name="Group 8"/>
            <p:cNvGrpSpPr/>
            <p:nvPr/>
          </p:nvGrpSpPr>
          <p:grpSpPr>
            <a:xfrm>
              <a:off x="179280" y="4860720"/>
              <a:ext cx="1620720" cy="1515960"/>
              <a:chOff x="179280" y="4860720"/>
              <a:chExt cx="1620720" cy="1515960"/>
            </a:xfrm>
          </p:grpSpPr>
          <p:grpSp>
            <p:nvGrpSpPr>
              <p:cNvPr id="146" name="Group 9"/>
              <p:cNvGrpSpPr/>
              <p:nvPr/>
            </p:nvGrpSpPr>
            <p:grpSpPr>
              <a:xfrm>
                <a:off x="179280" y="4860720"/>
                <a:ext cx="1620720" cy="1154160"/>
                <a:chOff x="179280" y="4860720"/>
                <a:chExt cx="1620720" cy="1154160"/>
              </a:xfrm>
            </p:grpSpPr>
            <p:grpSp>
              <p:nvGrpSpPr>
                <p:cNvPr id="147" name="Group 10"/>
                <p:cNvGrpSpPr/>
                <p:nvPr/>
              </p:nvGrpSpPr>
              <p:grpSpPr>
                <a:xfrm>
                  <a:off x="179280" y="4860720"/>
                  <a:ext cx="1620720" cy="1154160"/>
                  <a:chOff x="179280" y="4860720"/>
                  <a:chExt cx="1620720" cy="1154160"/>
                </a:xfrm>
              </p:grpSpPr>
              <p:sp>
                <p:nvSpPr>
                  <p:cNvPr id="148" name="Oval 11"/>
                  <p:cNvSpPr/>
                  <p:nvPr/>
                </p:nvSpPr>
                <p:spPr>
                  <a:xfrm>
                    <a:off x="179280" y="4860720"/>
                    <a:ext cx="1620720" cy="1154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669b"/>
                      </a:gs>
                      <a:gs pos="100000">
                        <a:srgbClr val="61416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2"/>
                  <p:cNvSpPr/>
                  <p:nvPr/>
                </p:nvSpPr>
                <p:spPr>
                  <a:xfrm>
                    <a:off x="364320" y="4879800"/>
                    <a:ext cx="1250280" cy="43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13"/>
                <p:cNvSpPr/>
                <p:nvPr/>
              </p:nvSpPr>
              <p:spPr>
                <a:xfrm>
                  <a:off x="616680" y="543312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再生性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Oval 14"/>
              <p:cNvSpPr/>
              <p:nvPr/>
            </p:nvSpPr>
            <p:spPr>
              <a:xfrm>
                <a:off x="345240" y="6080400"/>
                <a:ext cx="1316160" cy="2962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取代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5"/>
            <p:cNvGrpSpPr/>
            <p:nvPr/>
          </p:nvGrpSpPr>
          <p:grpSpPr>
            <a:xfrm>
              <a:off x="6580800" y="4827240"/>
              <a:ext cx="1662480" cy="1574640"/>
              <a:chOff x="6580800" y="4827240"/>
              <a:chExt cx="1662480" cy="1574640"/>
            </a:xfrm>
          </p:grpSpPr>
          <p:grpSp>
            <p:nvGrpSpPr>
              <p:cNvPr id="153" name="Group 16"/>
              <p:cNvGrpSpPr/>
              <p:nvPr/>
            </p:nvGrpSpPr>
            <p:grpSpPr>
              <a:xfrm>
                <a:off x="6580800" y="4827240"/>
                <a:ext cx="1662480" cy="1167120"/>
                <a:chOff x="6580800" y="4827240"/>
                <a:chExt cx="1662480" cy="1167120"/>
              </a:xfrm>
            </p:grpSpPr>
            <p:grpSp>
              <p:nvGrpSpPr>
                <p:cNvPr id="154" name="Group 17"/>
                <p:cNvGrpSpPr/>
                <p:nvPr/>
              </p:nvGrpSpPr>
              <p:grpSpPr>
                <a:xfrm>
                  <a:off x="6580800" y="4827240"/>
                  <a:ext cx="1662480" cy="1167120"/>
                  <a:chOff x="6580800" y="4827240"/>
                  <a:chExt cx="1662480" cy="1167120"/>
                </a:xfrm>
              </p:grpSpPr>
              <p:sp>
                <p:nvSpPr>
                  <p:cNvPr id="155" name="Oval 18"/>
                  <p:cNvSpPr/>
                  <p:nvPr/>
                </p:nvSpPr>
                <p:spPr>
                  <a:xfrm>
                    <a:off x="6580800" y="4827240"/>
                    <a:ext cx="1662480" cy="1167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2424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9"/>
                  <p:cNvSpPr/>
                  <p:nvPr/>
                </p:nvSpPr>
                <p:spPr>
                  <a:xfrm>
                    <a:off x="6769080" y="4845960"/>
                    <a:ext cx="1284120" cy="44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6969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20"/>
                <p:cNvSpPr/>
                <p:nvPr/>
              </p:nvSpPr>
              <p:spPr>
                <a:xfrm>
                  <a:off x="7026120" y="535788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内生长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Oval 21"/>
              <p:cNvSpPr/>
              <p:nvPr/>
            </p:nvSpPr>
            <p:spPr>
              <a:xfrm>
                <a:off x="6580800" y="6030720"/>
                <a:ext cx="1634760" cy="3711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走向支配远处目标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22"/>
            <p:cNvGrpSpPr/>
            <p:nvPr/>
          </p:nvGrpSpPr>
          <p:grpSpPr>
            <a:xfrm>
              <a:off x="2257560" y="4860720"/>
              <a:ext cx="1662120" cy="1592280"/>
              <a:chOff x="2257560" y="4860720"/>
              <a:chExt cx="1662120" cy="1592280"/>
            </a:xfrm>
          </p:grpSpPr>
          <p:grpSp>
            <p:nvGrpSpPr>
              <p:cNvPr id="160" name="Group 23"/>
              <p:cNvGrpSpPr/>
              <p:nvPr/>
            </p:nvGrpSpPr>
            <p:grpSpPr>
              <a:xfrm>
                <a:off x="2257560" y="4860720"/>
                <a:ext cx="1662120" cy="1158840"/>
                <a:chOff x="2257560" y="4860720"/>
                <a:chExt cx="1662120" cy="1158840"/>
              </a:xfrm>
            </p:grpSpPr>
            <p:sp>
              <p:nvSpPr>
                <p:cNvPr id="161" name="Oval 24"/>
                <p:cNvSpPr/>
                <p:nvPr/>
              </p:nvSpPr>
              <p:spPr>
                <a:xfrm>
                  <a:off x="2257560" y="4860720"/>
                  <a:ext cx="1662120" cy="11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725d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5"/>
                <p:cNvSpPr/>
                <p:nvPr/>
              </p:nvSpPr>
              <p:spPr>
                <a:xfrm>
                  <a:off x="2446920" y="487908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b5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26"/>
              <p:cNvSpPr/>
              <p:nvPr/>
            </p:nvSpPr>
            <p:spPr>
              <a:xfrm>
                <a:off x="2344320" y="5416920"/>
                <a:ext cx="149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代偿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4" name="Oval 27"/>
              <p:cNvSpPr/>
              <p:nvPr/>
            </p:nvSpPr>
            <p:spPr>
              <a:xfrm>
                <a:off x="2257560" y="6080400"/>
                <a:ext cx="1587600" cy="3726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扩伸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28"/>
            <p:cNvGrpSpPr/>
            <p:nvPr/>
          </p:nvGrpSpPr>
          <p:grpSpPr>
            <a:xfrm>
              <a:off x="4502520" y="4827240"/>
              <a:ext cx="1662120" cy="1591560"/>
              <a:chOff x="4502520" y="4827240"/>
              <a:chExt cx="1662120" cy="1591560"/>
            </a:xfrm>
          </p:grpSpPr>
          <p:grpSp>
            <p:nvGrpSpPr>
              <p:cNvPr id="166" name="Group 29"/>
              <p:cNvGrpSpPr/>
              <p:nvPr/>
            </p:nvGrpSpPr>
            <p:grpSpPr>
              <a:xfrm>
                <a:off x="4502520" y="4827240"/>
                <a:ext cx="1662120" cy="1158480"/>
                <a:chOff x="4502520" y="4827240"/>
                <a:chExt cx="1662120" cy="1158480"/>
              </a:xfrm>
            </p:grpSpPr>
            <p:sp>
              <p:nvSpPr>
                <p:cNvPr id="167" name="Oval 30"/>
                <p:cNvSpPr/>
                <p:nvPr/>
              </p:nvSpPr>
              <p:spPr>
                <a:xfrm>
                  <a:off x="4502520" y="4827240"/>
                  <a:ext cx="1662120" cy="115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c8de"/>
                    </a:gs>
                    <a:gs pos="100000">
                      <a:srgbClr val="4767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31"/>
                <p:cNvSpPr/>
                <p:nvPr/>
              </p:nvSpPr>
              <p:spPr>
                <a:xfrm>
                  <a:off x="4691880" y="484560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c8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Text Box 32"/>
              <p:cNvSpPr/>
              <p:nvPr/>
            </p:nvSpPr>
            <p:spPr>
              <a:xfrm>
                <a:off x="4592520" y="5384880"/>
                <a:ext cx="149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反应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3"/>
              <p:cNvSpPr/>
              <p:nvPr/>
            </p:nvSpPr>
            <p:spPr>
              <a:xfrm>
                <a:off x="4502520" y="6046560"/>
                <a:ext cx="1587600" cy="3722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侧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3" name="Picture 4" descr="1"/>
          <p:cNvPicPr/>
          <p:nvPr/>
        </p:nvPicPr>
        <p:blipFill>
          <a:blip r:embed="rId1"/>
          <a:stretch/>
        </p:blipFill>
        <p:spPr>
          <a:xfrm>
            <a:off x="971640" y="1484280"/>
            <a:ext cx="6913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长时程增强和长时程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潜伏通路和突触的启用：指已经存在但没有发挥作用的通路在主要通路失效时开始发挥作用。这一现象常于伤后数周出现，引发一定的自发恢复，但这种恢复是很不充分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突触效率的改变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塑性的一个重要表现是突触效率的改变。其方式主要有：①侧枝长芽时突触的前端扩大，增加信息传输的面积和效率；②侧枝长芽时使单突触变为双突触；③使新生的突触更靠近细胞体；④增加突触间隙的宽度；⑤增加神经递质的数量；⑥改变细胞膜的通透性，从而改变细胞的兴奋性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系统间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古、旧脑的代偿：哺乳动物的脑在发育上可分为古、旧、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邻近或对侧脑组织的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行为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神经损伤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触视觉替代系统（ＴＶＳＳ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视觉信息可分道至正常时接受躯体感觉、触觉信息的大脑皮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盲人通过ＴＶＳＳ训练后，可以体验到空间成像，证实接受躯体感觉、触觉信息的大脑皮质经训练后可以担负与身体毫不相干的视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病灶周围组织替代论：猴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对侧半球替代论：一侧大脑半球切除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156360" y="1628640"/>
            <a:ext cx="25304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2160" indent="-92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影像学资料证明：在大脑上肢感觉功能支配区域受损后，口的感觉支配区会延伸并取代手的感觉受损部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6" descr="plasticity0001"/>
          <p:cNvPicPr/>
          <p:nvPr/>
        </p:nvPicPr>
        <p:blipFill>
          <a:blip r:embed="rId1"/>
          <a:stretch/>
        </p:blipFill>
        <p:spPr>
          <a:xfrm>
            <a:off x="468360" y="1557360"/>
            <a:ext cx="5257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80880" y="1341360"/>
            <a:ext cx="361476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在另一研究中，蒙闭所有参与者的眼睛，从星期一早上９点到星期五下午３点，并让参与者通过手的触摸来学习盲文。从星期一到星期五每天刷擦左手示指，并每天用Ｍ</a:t>
            </a:r>
            <a:r>
              <a:rPr b="1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I</a:t>
            </a: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记录功能反应区。得出结果：该功能反应区从体感皮层（中央后回）转移到了枕叶视觉中心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2006621368309"/>
          <p:cNvPicPr/>
          <p:nvPr/>
        </p:nvPicPr>
        <p:blipFill>
          <a:blip r:embed="rId1"/>
          <a:stretch/>
        </p:blipFill>
        <p:spPr>
          <a:xfrm>
            <a:off x="4140360" y="1413000"/>
            <a:ext cx="4714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源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生物学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细胞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热休克和早期反应基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血管新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免疫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巨噬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自噬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外源性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促进脑功能恢复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环境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功能恢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细胞移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物理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学（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kinesiolog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从几何的角度（指不涉及物体本身的物理性质和加在物体上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/>
              </a:rPr>
              <a:t>力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描述和研究物体位置随时间的变化规律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/>
              </a:rPr>
              <a:t>力学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分支。以研究质点和刚体这两个简化模型的运动为基础，并进一步研究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/>
              </a:rPr>
              <a:t>变形体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/>
              </a:rPr>
              <a:t>弹性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/>
              </a:rPr>
              <a:t>流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运动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体运动学是研究人体活动科学的领域，是运用物理学方法来研究人体节段运动与整体运动时，各组织、器官的空间位置随时间变化的规律，以及伴随运动发生的一系列生理、生化、心理等改变。人体运动学是力学、生理学、生物学和医学相互渗透的学科，是康复治疗学的理论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运动学总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点：指具有质量，但可以忽略其大小、形状和结构而视为几何点的物体，是由实际物体抽象出来的力学简化模型。其运动有直线和曲线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5" descr="29790130e9aebe85a9018e83"/>
          <p:cNvPicPr/>
          <p:nvPr/>
        </p:nvPicPr>
        <p:blipFill>
          <a:blip r:embed="rId1"/>
          <a:stretch/>
        </p:blipFill>
        <p:spPr>
          <a:xfrm>
            <a:off x="5364000" y="4797360"/>
            <a:ext cx="3095640" cy="13701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13" descr="20110220004"/>
          <p:cNvPicPr/>
          <p:nvPr/>
        </p:nvPicPr>
        <p:blipFill>
          <a:blip r:embed="rId2"/>
          <a:stretch/>
        </p:blipFill>
        <p:spPr>
          <a:xfrm>
            <a:off x="755640" y="4869000"/>
            <a:ext cx="43927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刚体  由相互间距离始终保持不变的许多质点组成的连续体，它有一定的形状，占据空间一定位置，是由实际物体抽象出来的力学简化模型。例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Picture 5" descr="111073-4-1"/>
          <p:cNvPicPr/>
          <p:nvPr/>
        </p:nvPicPr>
        <p:blipFill>
          <a:blip r:embed="rId1"/>
          <a:stretch/>
        </p:blipFill>
        <p:spPr>
          <a:xfrm>
            <a:off x="1619280" y="3068640"/>
            <a:ext cx="35290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45" descr="1"/>
          <p:cNvPicPr/>
          <p:nvPr/>
        </p:nvPicPr>
        <p:blipFill>
          <a:blip r:embed="rId1"/>
          <a:stretch/>
        </p:blipFill>
        <p:spPr>
          <a:xfrm>
            <a:off x="1908000" y="2349360"/>
            <a:ext cx="55436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S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由位于颅腔内的脑和位于椎管内的脊髓以及与它们相连的、分布全身的周围神经组成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主要功能是接受体内、外各种刺激，引起各种反应，在机体内起主导作用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方面协调机体内部器官、系统的活动，使其成为一个完整的统一体；另一方面调整机体，使其与外界环境保持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40" descr="2"/>
          <p:cNvPicPr/>
          <p:nvPr/>
        </p:nvPicPr>
        <p:blipFill>
          <a:blip r:embed="rId1"/>
          <a:stretch/>
        </p:blipFill>
        <p:spPr>
          <a:xfrm>
            <a:off x="1476360" y="2133720"/>
            <a:ext cx="626436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6" name="Picture 4" descr="02"/>
          <p:cNvPicPr/>
          <p:nvPr/>
        </p:nvPicPr>
        <p:blipFill>
          <a:blip r:embed="rId1"/>
          <a:stretch/>
        </p:blipFill>
        <p:spPr>
          <a:xfrm>
            <a:off x="1116000" y="2060640"/>
            <a:ext cx="6985080" cy="320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03"/>
          <p:cNvPicPr/>
          <p:nvPr/>
        </p:nvPicPr>
        <p:blipFill>
          <a:blip r:embed="rId2"/>
          <a:stretch/>
        </p:blipFill>
        <p:spPr>
          <a:xfrm>
            <a:off x="2124000" y="5661000"/>
            <a:ext cx="44290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变和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6" descr="01"/>
          <p:cNvPicPr/>
          <p:nvPr/>
        </p:nvPicPr>
        <p:blipFill>
          <a:blip r:embed="rId1"/>
          <a:stretch/>
        </p:blipFill>
        <p:spPr>
          <a:xfrm>
            <a:off x="1763640" y="1916280"/>
            <a:ext cx="612144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弹性模量 ：某物质的应力和应变的比值称该物质的弹性模量，也称杨氏模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的外力和内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3" name="Picture 5" descr="u5924p8t1d1071258f920dt20110530185852"/>
          <p:cNvPicPr/>
          <p:nvPr/>
        </p:nvPicPr>
        <p:blipFill>
          <a:blip r:embed="rId1"/>
          <a:stretch/>
        </p:blipFill>
        <p:spPr>
          <a:xfrm>
            <a:off x="5148360" y="3933720"/>
            <a:ext cx="3097080" cy="20653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Picture 11" descr="C228-01_A"/>
          <p:cNvPicPr/>
          <p:nvPr/>
        </p:nvPicPr>
        <p:blipFill>
          <a:blip r:embed="rId2"/>
          <a:stretch/>
        </p:blipFill>
        <p:spPr>
          <a:xfrm>
            <a:off x="971640" y="4005360"/>
            <a:ext cx="360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2808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面与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面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即水平面、前额面和矢状面。每两个面相交出的线即为轴，也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：横轴、纵轴和矢状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Picture 5" descr="tu2-2"/>
          <p:cNvPicPr/>
          <p:nvPr/>
        </p:nvPicPr>
        <p:blipFill>
          <a:blip r:embed="rId1"/>
          <a:stretch/>
        </p:blipFill>
        <p:spPr>
          <a:xfrm>
            <a:off x="3132000" y="1989000"/>
            <a:ext cx="2808360" cy="4319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tu2-2-1"/>
          <p:cNvPicPr/>
          <p:nvPr/>
        </p:nvPicPr>
        <p:blipFill>
          <a:blip r:embed="rId2"/>
          <a:stretch/>
        </p:blipFill>
        <p:spPr>
          <a:xfrm>
            <a:off x="5940360" y="2060640"/>
            <a:ext cx="2808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被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抗阻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助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8" descr="u=3810725438,2366449603&amp;fm=23&amp;gp=0"/>
          <p:cNvPicPr/>
          <p:nvPr/>
        </p:nvPicPr>
        <p:blipFill>
          <a:blip r:embed="rId1"/>
          <a:stretch/>
        </p:blipFill>
        <p:spPr>
          <a:xfrm>
            <a:off x="1258920" y="2276640"/>
            <a:ext cx="2308320" cy="1800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" descr="2011111616334"/>
          <p:cNvPicPr/>
          <p:nvPr/>
        </p:nvPicPr>
        <p:blipFill>
          <a:blip r:embed="rId2"/>
          <a:stretch/>
        </p:blipFill>
        <p:spPr>
          <a:xfrm>
            <a:off x="5435640" y="386244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3" descr="xin_04302082310435461415497"/>
          <p:cNvPicPr/>
          <p:nvPr/>
        </p:nvPicPr>
        <p:blipFill>
          <a:blip r:embed="rId3"/>
          <a:stretch/>
        </p:blipFill>
        <p:spPr>
          <a:xfrm>
            <a:off x="1258920" y="4743360"/>
            <a:ext cx="23083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骨与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骨骼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骨的力学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同应力下骨的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对骨生长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分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单轴关节                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三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双轴关节                       或多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7" name="Picture 8" descr="04"/>
          <p:cNvPicPr/>
          <p:nvPr/>
        </p:nvPicPr>
        <p:blipFill>
          <a:blip r:embed="rId1"/>
          <a:stretch/>
        </p:blipFill>
        <p:spPr>
          <a:xfrm>
            <a:off x="5940360" y="3716280"/>
            <a:ext cx="2233800" cy="2305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QQ截图20131227152754"/>
          <p:cNvPicPr/>
          <p:nvPr/>
        </p:nvPicPr>
        <p:blipFill>
          <a:blip r:embed="rId2"/>
          <a:stretch/>
        </p:blipFill>
        <p:spPr>
          <a:xfrm>
            <a:off x="900000" y="3573360"/>
            <a:ext cx="3456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0492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活动度和稳定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运动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开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闭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1" name="Picture 5" descr="cec_oct09_en_clip_image002_0001"/>
          <p:cNvPicPr/>
          <p:nvPr/>
        </p:nvPicPr>
        <p:blipFill>
          <a:blip r:embed="rId1"/>
          <a:stretch/>
        </p:blipFill>
        <p:spPr>
          <a:xfrm>
            <a:off x="2987640" y="3716280"/>
            <a:ext cx="2149560" cy="2631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ec_oct09_en_clip_image002_0003"/>
          <p:cNvPicPr/>
          <p:nvPr/>
        </p:nvPicPr>
        <p:blipFill>
          <a:blip r:embed="rId2"/>
          <a:stretch/>
        </p:blipFill>
        <p:spPr>
          <a:xfrm>
            <a:off x="5867280" y="3789360"/>
            <a:ext cx="25527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肌肉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的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物理学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伸展性和弹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黏滞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杠杆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5" name="Picture 5" descr="111_副本.jpg"/>
          <p:cNvPicPr/>
          <p:nvPr/>
        </p:nvPicPr>
        <p:blipFill>
          <a:blip r:embed="rId1"/>
          <a:stretch/>
        </p:blipFill>
        <p:spPr>
          <a:xfrm>
            <a:off x="4643280" y="2924280"/>
            <a:ext cx="39132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可分为中枢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周围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两大部分。前者包括脑和脊髓，人脑由端脑、间脑、小脑、中脑、脑桥和延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部分组成。后者包括与脑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脑神经和与脊髓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脊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wps_clip_image-23001"/>
          <p:cNvPicPr/>
          <p:nvPr/>
        </p:nvPicPr>
        <p:blipFill>
          <a:blip r:embed="rId1"/>
          <a:stretch/>
        </p:blipFill>
        <p:spPr>
          <a:xfrm>
            <a:off x="3492360" y="3357720"/>
            <a:ext cx="3529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258" name="Picture 5" descr="wps_clip_image-19229"/>
          <p:cNvPicPr/>
          <p:nvPr/>
        </p:nvPicPr>
        <p:blipFill>
          <a:blip r:embed="rId1"/>
          <a:stretch/>
        </p:blipFill>
        <p:spPr>
          <a:xfrm>
            <a:off x="539640" y="1844640"/>
            <a:ext cx="3672000" cy="1800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wps_clip_image-19268"/>
          <p:cNvPicPr/>
          <p:nvPr/>
        </p:nvPicPr>
        <p:blipFill>
          <a:blip r:embed="rId2"/>
          <a:stretch/>
        </p:blipFill>
        <p:spPr>
          <a:xfrm>
            <a:off x="4572000" y="1844640"/>
            <a:ext cx="36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wps_clip_image-19307"/>
          <p:cNvPicPr/>
          <p:nvPr/>
        </p:nvPicPr>
        <p:blipFill>
          <a:blip r:embed="rId3"/>
          <a:stretch/>
        </p:blipFill>
        <p:spPr>
          <a:xfrm>
            <a:off x="1187280" y="4005360"/>
            <a:ext cx="6480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生理特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兴奋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citab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在受到刺激时产生兴奋的特性称为兴奋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收缩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tract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兴奋时产生收缩反应的特性称为收缩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运动单位募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肌肉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拮抗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nt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固定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ixator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协同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ynerg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肌肉的运动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运动对各系统器官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运动对骨骼肌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运动对骨关节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对心血管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运动对呼吸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运动对消化系统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运动对代谢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七）运动对泌尿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主要由神经组织构成。神经组织包括神经元和神经胶质两种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元是高度分化的细胞，具有感受刺激和传导冲动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9" descr="01300000329092126259286513971"/>
          <p:cNvPicPr/>
          <p:nvPr/>
        </p:nvPicPr>
        <p:blipFill>
          <a:blip r:embed="rId1"/>
          <a:stretch/>
        </p:blipFill>
        <p:spPr>
          <a:xfrm>
            <a:off x="2771640" y="3429000"/>
            <a:ext cx="47530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胶质则具有支持、营养和保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星形胶质细胞"/>
          <p:cNvPicPr/>
          <p:nvPr/>
        </p:nvPicPr>
        <p:blipFill>
          <a:blip r:embed="rId1"/>
          <a:stretch/>
        </p:blipFill>
        <p:spPr>
          <a:xfrm>
            <a:off x="1476360" y="2637000"/>
            <a:ext cx="5040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突触由突触前膜、突触间隙和突触后膜组成。当神经冲动传到轴突末梢时，由末梢释放神经递质，通过突触前膜进入突触间隙，递质作用于突触后膜，引起突触后膜电位变化，从而使下一个神经元兴奋或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5" descr="W020101206543168671722"/>
          <p:cNvPicPr/>
          <p:nvPr/>
        </p:nvPicPr>
        <p:blipFill>
          <a:blip r:embed="rId1"/>
          <a:stretch/>
        </p:blipFill>
        <p:spPr>
          <a:xfrm>
            <a:off x="3059280" y="3573360"/>
            <a:ext cx="432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个神经元可与多个神经元发生突触联系。突触大部分分布于树突和胞体的表面，形成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和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。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轴突触也可见，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、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以及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较少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wps_clip_image-28517"/>
          <p:cNvPicPr/>
          <p:nvPr/>
        </p:nvPicPr>
        <p:blipFill>
          <a:blip r:embed="rId1"/>
          <a:stretch/>
        </p:blipFill>
        <p:spPr>
          <a:xfrm>
            <a:off x="2124000" y="3519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的功能极为复杂，它们的基本活动方式是反射。反射活动的形态基础是反射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014"/>
          <p:cNvPicPr/>
          <p:nvPr/>
        </p:nvPicPr>
        <p:blipFill>
          <a:blip r:embed="rId1"/>
          <a:stretch/>
        </p:blipFill>
        <p:spPr>
          <a:xfrm>
            <a:off x="1476360" y="2903400"/>
            <a:ext cx="5040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2:24:42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