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039F6-4B03-42E1-804D-CC5B1CDCC5F0}" type="datetime">
              <a:rPr b="0" lang="zh-CN" sz="1200" spc="-1" strike="noStrike">
                <a:solidFill>
                  <a:srgbClr val="000000"/>
                </a:solidFill>
                <a:latin typeface="Times New Roman"/>
                <a:ea typeface="Arial"/>
              </a:rPr>
              <a:t>26/7/28</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5092-CD61-4236-93CD-B9A83CC4A0BC}"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171B-6173-4101-9C7F-56BA762ED23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2D283B-6303-40BC-B10D-76CB0D8EBD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F649E1F-FDF5-4FCA-BC3A-CB939D759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7DE8C7-2930-4BC4-B932-1FF0CC169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226D0A7-38D8-4FC0-89EE-6D28093F4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AFD752-97FC-4A7D-96D3-5E71BA014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F9F396-A4ED-48C3-8929-621FAB92CB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13F9A-8FF3-46AB-AAFB-0D11521B2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12043-753C-43E7-AC69-482BB4FE7A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707D4-4F67-4E66-9D9B-FB8CB1E7A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570272-8565-4C1D-9730-44E2F9838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AA888D-8B8B-4A0E-BC1D-12E549886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B17F5B-39FB-4C37-9AAE-10BEFB452F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9E9BC-1E8B-4741-8790-4FCF9EB90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0FD06-D19B-42B7-87CD-1130DC2C9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A0DC42-BDFD-4971-89D3-F9B34DABD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F723A-26EA-4EA0-B72F-23ADF58AF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9D4C0-8B59-4476-96AF-E084123B50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6C69C1-FB8F-48C2-BF45-BB0BA6A388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3A4960-DDFE-469B-B886-CE62C0A68B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570198-064E-454E-B408-A25C0CDCD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661995-E11C-420F-AEF0-376FE5E92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1CDDEA-C00D-4AB5-8F15-F82219388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37BE4E-D0E9-434D-B5A6-27ED08902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90F62E-20C3-416F-BCF8-F3DA150283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86A0-0D12-47DD-A89C-416056699D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855E-C276-4F68-B638-6BF95095E52B}"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