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938C2-8811-4D8E-8AC9-2E524CD311D2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213A9-2EF7-4066-B3F5-AB54FD5F74AE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7D8FD-EAD0-4774-9CAB-507511BFE35E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59495E-BC33-4599-9950-BA0EA5AA713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5EAC90-7119-4535-9DE8-A128F04A3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53A6E3-47BA-420B-8F34-4532429F1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BAE9AD-2D6A-4E6B-AE2F-4BEDBD32330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7C46E5-11AB-4615-985A-BEE72967A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50A519-06EB-4B27-A82D-8C8D96D41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368D7E-23FC-4D04-8F18-E048ED239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9B3A47-A11D-4A35-ADBE-119586BC1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532D97-5667-434E-A5A5-091B56EB6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36B253-D0AB-4B81-B594-92A0630EE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547A5A-63BB-4EBE-BEDF-C0EC50555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A0216D-9A58-4A67-A27E-F6C670DFC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695FA-6414-4EEE-95FF-4923BB7EA8B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64360" y="6597720"/>
            <a:ext cx="1620720" cy="260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206064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第八章 </a:t>
            </a: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患者卧位与安全的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卧位的种类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774720" y="1598760"/>
            <a:ext cx="3828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仰卧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侧卧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半坐卧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端坐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俯卧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0" name="Rectangle 3"/>
          <p:cNvSpPr/>
          <p:nvPr/>
        </p:nvSpPr>
        <p:spPr>
          <a:xfrm>
            <a:off x="4572000" y="1628640"/>
            <a:ext cx="382896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头高足低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头低足高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膝胸卧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截石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SzPct val="80000"/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仰卧位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3640" y="1197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去枕仰卧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中凹卧位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屈膝仰卧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去枕仰卧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适用范围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昏迷或全身麻醉未清醒的患者。可避免呕吐物误入气管而引起窒息或肺部并发症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椎管内麻醉或脊髓腔穿刺后的患者。采用此种卧位，可预防颅内压减低而引起的头痛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4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仰卧位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中凹卧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适用范围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休克患者。抬高头胸部，有利于保持气道通畅，改善通气功能，从而改善缺氧症状；抬高下肢，有利于静脉血回流，增加心输出量而使休克症状得到缓解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6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仰卧位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屈膝仰卧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适用范围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2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腹部检查或接受导尿、会阴冲洗等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8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仰卧位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42920" y="213840"/>
            <a:ext cx="875016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侧卧位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适用范围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灌肠、肛门检查及配合胃镜、肠镜检查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预防压疮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臀部肌内注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半坐卧位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56760" y="128592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适用范围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某些面部及颈部手术后患者。半坐卧位可减少局部出血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胸腔疾病、胸部创伤或心脏疾病引起呼吸困难的患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腹腔、盆腔手术后或有炎症的患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疾病恢复期体质虚弱的患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356760" y="128592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机制（胸腔疾病、胸部创伤或心脏疾病引起呼吸困难者）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重力→部分血液滞留于下肢和盆腔→回心血量减少→减轻肺淤血和心脏负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膈肌位置下降→胸腔容量扩大→减轻腹腔内脏器对心肺的压力→肺活量增加→利于气体交换→呼吸困难的症状得到改善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4" name="标题 1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半坐卧位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356760" y="128592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机制（腹腔、盆腔术后或有炎症者）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腹腔渗出液流入盆腔→促使感染局限；盆腔腹膜抗感染性较强，吸收较弱→可防止炎症扩散和毒素吸收，减轻中毒反应；防止感染向上蔓延引起膈下脓肿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腹部手术后，取半坐卧位→减轻腹部切口缝合处的张力，缓解疼痛，促进舒适→利于切口愈合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6" name="标题 1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半坐卧位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俯卧位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适用范围：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腰背部检查或配合胰、胆管造影检查时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脊椎手术后或腰、背、臀部有伤口，不能平卧或侧卧的患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胃肠胀气导致腹痛时。采取俯卧位，使腹腔容积增大，可缓解胃肠胀气所致的腹痛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buClr>
                <a:srgbClr val="046ca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课程内容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一节 临床常用卧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二节 协助患者更换卧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三节 患者的安全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头高足低位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适用范围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颈椎骨折患者作颅骨牵引时，用作反牵引力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减轻颅内压，预防脑水肿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颅脑手术后的患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头低足高位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适用范围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肺部分泌物引流，使痰易于咳出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十二指肠引流术，有利于胆汁引流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妊娠时胎膜早破，防止脐带脱垂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跟骨或胫骨结节牵引时，利用人体重力作为反牵引力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膝胸卧位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适用范围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肛门、直肠、乙状结肠镜检查及治疗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矫正胎位不正或子宫后倾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促进产后子宫复原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截石位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适用范围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会阴、肛门部位的检查、治疗或手术，如膀胱镜、妇产科检查、阴道灌洗等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产妇分娩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684360" y="1484280"/>
            <a:ext cx="38876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46ca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8ac8de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协助患者翻身侧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8ac8de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协助患者移向床头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AutoShape 6"/>
          <p:cNvSpPr/>
          <p:nvPr/>
        </p:nvSpPr>
        <p:spPr>
          <a:xfrm>
            <a:off x="4425840" y="1803240"/>
            <a:ext cx="217440" cy="1194120"/>
          </a:xfrm>
          <a:custGeom>
            <a:avLst/>
            <a:gdLst>
              <a:gd name="textAreaLeft" fmla="*/ 138960 w 217440"/>
              <a:gd name="textAreaRight" fmla="*/ 217800 w 217440"/>
              <a:gd name="textAreaTop" fmla="*/ 30960 h 1194120"/>
              <a:gd name="textAreaBottom" fmla="*/ 1163160 h 1194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AutoShape 7"/>
          <p:cNvSpPr/>
          <p:nvPr/>
        </p:nvSpPr>
        <p:spPr>
          <a:xfrm>
            <a:off x="4427640" y="4005360"/>
            <a:ext cx="218880" cy="1368360"/>
          </a:xfrm>
          <a:custGeom>
            <a:avLst/>
            <a:gdLst>
              <a:gd name="textAreaLeft" fmla="*/ 140040 w 218880"/>
              <a:gd name="textAreaRight" fmla="*/ 219240 w 218880"/>
              <a:gd name="textAreaTop" fmla="*/ 35640 h 1368360"/>
              <a:gd name="textAreaBottom" fmla="*/ 1332720 h 136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Rectangle 8"/>
          <p:cNvSpPr/>
          <p:nvPr/>
        </p:nvSpPr>
        <p:spPr>
          <a:xfrm>
            <a:off x="4901040" y="1556640"/>
            <a:ext cx="7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目的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Rectangle 9"/>
          <p:cNvSpPr/>
          <p:nvPr/>
        </p:nvSpPr>
        <p:spPr>
          <a:xfrm>
            <a:off x="4643280" y="2707560"/>
            <a:ext cx="98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方法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Rectangle 14"/>
          <p:cNvSpPr/>
          <p:nvPr/>
        </p:nvSpPr>
        <p:spPr>
          <a:xfrm>
            <a:off x="6584400" y="227592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一人协助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Rectangle 15"/>
          <p:cNvSpPr/>
          <p:nvPr/>
        </p:nvSpPr>
        <p:spPr>
          <a:xfrm>
            <a:off x="6228720" y="306864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二人协助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AutoShape 12"/>
          <p:cNvSpPr/>
          <p:nvPr/>
        </p:nvSpPr>
        <p:spPr>
          <a:xfrm>
            <a:off x="5580000" y="2349360"/>
            <a:ext cx="216000" cy="1150920"/>
          </a:xfrm>
          <a:custGeom>
            <a:avLst/>
            <a:gdLst>
              <a:gd name="textAreaLeft" fmla="*/ 137880 w 216000"/>
              <a:gd name="textAreaRight" fmla="*/ 216360 w 216000"/>
              <a:gd name="textAreaTop" fmla="*/ 29880 h 1150920"/>
              <a:gd name="textAreaBottom" fmla="*/ 1121040 h 1150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Rectangle 10"/>
          <p:cNvSpPr/>
          <p:nvPr/>
        </p:nvSpPr>
        <p:spPr>
          <a:xfrm>
            <a:off x="4716360" y="3859920"/>
            <a:ext cx="98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目的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Rectangle 11"/>
          <p:cNvSpPr/>
          <p:nvPr/>
        </p:nvSpPr>
        <p:spPr>
          <a:xfrm>
            <a:off x="4726440" y="50839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方法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AutoShape 13"/>
          <p:cNvSpPr/>
          <p:nvPr/>
        </p:nvSpPr>
        <p:spPr>
          <a:xfrm>
            <a:off x="5508720" y="4869000"/>
            <a:ext cx="215640" cy="1197000"/>
          </a:xfrm>
          <a:custGeom>
            <a:avLst/>
            <a:gdLst>
              <a:gd name="textAreaLeft" fmla="*/ 137880 w 215640"/>
              <a:gd name="textAreaRight" fmla="*/ 216000 w 215640"/>
              <a:gd name="textAreaTop" fmla="*/ 30960 h 1197000"/>
              <a:gd name="textAreaBottom" fmla="*/ 1166040 h 1197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Rectangle 16"/>
          <p:cNvSpPr/>
          <p:nvPr/>
        </p:nvSpPr>
        <p:spPr>
          <a:xfrm>
            <a:off x="6513120" y="472356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一人协助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Rectangle 17"/>
          <p:cNvSpPr/>
          <p:nvPr/>
        </p:nvSpPr>
        <p:spPr>
          <a:xfrm>
            <a:off x="6157080" y="551664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二人协助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协助患者更换卧位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协助患者翻身时，动作要轻稳，协调一致，不可拖拉，以免擦伤患者皮肤。翻身后，用软枕垫好肢体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根据患者病情和皮肤情况，确定翻身间隔时间。若发现皮肤发红或有破损时，要及时处理，增加翻身次数，并记录于翻身卡上，做好交接班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2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协助患者更换卧位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323640" y="134100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若患者带有各种导管，翻身前应将导管安置妥当，翻身后检查导管是否有移位、脱落、扭曲、受压，以保持导管通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翻身时，护士要注意节力原则，让患者尽量靠近护士，使重力线通过支撑面保持平衡，缩短重力臂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4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协助患者更换卧位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356760" y="1356840"/>
            <a:ext cx="853596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1240" indent="-2840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为特殊患者更换卧位时，应注意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1240" indent="-28404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颅脑手术患者，翻身时头部不可剧烈翻动，以免引起脑疝，因此应取健侧卧位或平卧位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1240" indent="-28404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一般手术患者，翻身时先检查伤口敷料是否潮湿、有无脱落，若被分泌物浸湿或敷料脱落，应先更换敷料并妥善固定，然后再行翻身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6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协助患者更换卧位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骨牵引患者，翻身时不可放松牵引，翻身后要注意牵引位置、方向以及牵引力是否正确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石膏固定患者，应注意翻身后患处位置和局部肢体的血运情况，防止受压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8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协助患者更换卧位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患者的安全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50360" y="1337760"/>
            <a:ext cx="82803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影响患者安全的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安全环境的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医院常见不安全因素及防范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保护具的应用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82087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识记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列出卧位的不同类型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说出舒适卧位的基本要求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说出协助患者变换卧位的目的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22200" indent="-322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理解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陈述临床中常用卧位的适用范围和姿势要求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举例说明影响患者安全的因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举例说明医院常见的不安全因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简述协助患者变换卧位的注意事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简述保护具使用的原则和注意事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影响患者安全的因素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0360" y="1337760"/>
            <a:ext cx="82803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感觉功能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18960" indent="-31896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年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18960" indent="-31896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前的健康状态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18960" indent="-31896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医务人员素质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18960" indent="-31896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对环境的熟悉度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18960" indent="-31896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诊疗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安全环境的评估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0360" y="1337760"/>
            <a:ext cx="82803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患者方面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感觉功能是否正常，是否能满足自己的需要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身体状况或意识状态是否正常，是否需要安全协助或保护措施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是否有影响患者安全的不良习惯，如吸烟等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安全环境的评估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0" y="5286240"/>
            <a:ext cx="780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Calibri"/>
              </a:rPr>
              <a:t>       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0360" y="1337760"/>
            <a:ext cx="82803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治疗方面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是否正在接受冷、热疗法或氧气治疗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是否需要给予行动限制或肢体约束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是否正在使用影响感觉功能的药物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病房内是否使用电器设备，患者是否备有电器用品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78920" y="188640"/>
            <a:ext cx="87138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医院常见不安全因素及防范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0360" y="1337760"/>
            <a:ext cx="82803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物理性损伤及防范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化学性损伤及防范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物性损伤及防范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心理性损伤及防范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（一）物理性损伤及防范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50360" y="1337760"/>
            <a:ext cx="82803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机械性损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温度性损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压力性损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放射性损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隶书"/>
                <a:ea typeface="隶书"/>
              </a:rPr>
              <a:t>1.</a:t>
            </a: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机械性损伤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253800" y="1343160"/>
            <a:ext cx="8497800" cy="49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原因：常见有跌倒、撞伤等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</a:rPr>
              <a:t>防范措施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提供书面的预防跌倒和坠床的健康教育宣传单，告知其跌倒和坠床的高危因素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躁动不安、意识不清、昏迷及婴幼儿患者易发生坠床等意外，应根据患者情况使用床档或其他保护具加以保护。告知患者尽量不要独自下床，不要跨越床档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隶书"/>
                <a:ea typeface="隶书"/>
              </a:rPr>
              <a:t>1.</a:t>
            </a: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机械性损伤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253800" y="1390680"/>
            <a:ext cx="8497800" cy="50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</a:rPr>
              <a:t>防范措施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年老体弱、行动不便的患者行动时应给与搀扶，或使用助行设备，如拐杖、轮椅等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年老虚弱、偏瘫或长期卧床患者需要起床、站立或坐起时，如果有头晕、眩晕等症状，请求护士或家属帮助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常用物品应放于容易获取处，以防取放物品时失去平衡而跌倒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隶书"/>
                <a:ea typeface="隶书"/>
              </a:rPr>
              <a:t>1.</a:t>
            </a: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机械性损伤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253800" y="1390680"/>
            <a:ext cx="8497800" cy="50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</a:rPr>
              <a:t>防范措施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病区地面要采用防滑地板，并保持整洁、干燥，移开暂时不需要的器械，减少障碍物。楼梯和通道等进出口处避免堆放杂物，以免发生撞伤和跌倒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病区走廊、浴室、厕所应设置扶手，供患者行走不稳时扶持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床头、浴室和厕所应设置呼叫系统，并教会患者其使用方法，以便在需要时寻求援助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隶书"/>
                <a:ea typeface="隶书"/>
              </a:rPr>
              <a:t>1.</a:t>
            </a: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机械性损伤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253800" y="1390680"/>
            <a:ext cx="8497800" cy="50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</a:rPr>
              <a:t>防范措施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在一些特殊科室，如精神科病房，应将剪刀等锐器放置妥当，避免患者发生自伤或者他伤等危险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隶书"/>
                <a:ea typeface="隶书"/>
              </a:rPr>
              <a:t>2.</a:t>
            </a: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温度性损伤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0360" y="1337760"/>
            <a:ext cx="82803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原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热水袋、热水瓶所致的烫伤；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冰袋、制冷袋等所致的冻伤；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各种电器如烤灯、高频电刀等所致的灼伤；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易燃易爆品如氧气、乙醚及其他液化气体所致的各种烧伤等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8000" y="1413000"/>
            <a:ext cx="83516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运用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根据患者的病情和需要，按要求为其安置舒适的卧位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根据患者的病情和需要，按规程协助患者变换卧位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针对医院内常见的不安全因素采取有效的防范措施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根据患者的病情和需要，正确选择和使用各种保护具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隶书"/>
                <a:ea typeface="隶书"/>
              </a:rPr>
              <a:t>2.</a:t>
            </a: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温度性损伤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35684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</a:rPr>
              <a:t>防范措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护士在应用冷、热疗法时，应严格掌握操作要点，注意观察局部皮肤变化，告知患者如不适要及时通知护士处理。对于婴幼儿、昏迷、意识不清等患者在进行冷、热疗法时，要有专人陪伴，保证患者安全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医院内的电路和各种电器设备要定期检查维修。对患者及家属进行安全用电知识教育，并对其自带的电器设备进行安全检查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隶书"/>
                <a:ea typeface="隶书"/>
              </a:rPr>
              <a:t>2.</a:t>
            </a: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温度性损伤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35684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</a:rPr>
              <a:t>防范措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对易燃易爆品应妥善保管，加强防火教育，制订防火措施，护士要熟练掌握各种灭火器的使用方法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吸烟是造成火灾的重要原因之一，病区内禁止患者及家属吸烟，并做好相关的宣教工作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隶书"/>
                <a:ea typeface="隶书"/>
              </a:rPr>
              <a:t>3.</a:t>
            </a: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压力性损伤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0360" y="1337760"/>
            <a:ext cx="82803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1280" indent="-3412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原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2" marL="741240" indent="-34128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长期受压所致的压疮；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741240" indent="-34128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因高压氧舱治疗不当所致的气压伤等；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741240" indent="-34128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因石膏和夹板固定过紧，形成的局部压疮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1280" indent="-3412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</a:rPr>
              <a:t>压力性损伤的防范措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2" marL="741240" indent="-34128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见相关章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隶书"/>
                <a:ea typeface="隶书"/>
              </a:rPr>
              <a:t>4.</a:t>
            </a: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放射性损伤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356840"/>
            <a:ext cx="822960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</a:rPr>
              <a:t>原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主要因放射性诊断和治疗过程中处理不当所致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常见有放射性皮炎、皮肤溃疡坏死，严重者可致死亡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</a:rPr>
              <a:t>防范措施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保持接受放射部位皮肤的清洁干燥，且防止皮肤破损，应禁忌一切物理性刺激和化学性刺激等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正确掌握照射剂量和时间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尽量减少患者不必要的身体暴露，保持照射区域标记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（二）化学性损伤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0360" y="1337760"/>
            <a:ext cx="828036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原因：药物使用不当或错用引起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防范措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护士应熟悉各种药物应用知识，严格执行药物管理制度和药疗原则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进行药疗时，严格执行“三查七对”，注意药物的配伍禁忌，观察患者用药后的反应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向患者及家属讲解安全用药的有关知识。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（三）生物性损伤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0360" y="1337760"/>
            <a:ext cx="82803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</a:rPr>
              <a:t>原因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：微生物及昆虫对人体的伤害。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防范措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护士应严格执行消毒隔离制度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严格遵守无菌技术操作原则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加强各项护理措施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采取措施消灭昆虫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（四）心理性损伤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523800" y="1337760"/>
            <a:ext cx="820728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行楷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华文行楷"/>
              </a:rPr>
              <a:t>原因：情绪不稳、精神受到打击而引起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行楷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防范措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46040" indent="-46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以高质量护理行为取得患者的信任，并建立良好关系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46040" indent="-46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帮助患者与周围人群建立一个和睦的人际关系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46040" indent="-46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注意对患者进行有关疾病知识的健康教育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46040" indent="-46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引导患者采取积极乐观的态度对待疾病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457200" y="1357200"/>
            <a:ext cx="822960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是用来限制患者身体或机体某部位的活动，以达到维护患者安全与治疗效果的各种器具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常用保护具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914400" indent="-5144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床档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bedside rail restraint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914400" indent="-5144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约束带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restraint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914400" indent="-5144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支被架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overbed cradle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514440" indent="-514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7" name="Rectangle 2"/>
          <p:cNvSpPr/>
          <p:nvPr/>
        </p:nvSpPr>
        <p:spPr>
          <a:xfrm>
            <a:off x="324000" y="333360"/>
            <a:ext cx="85802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保护具的应用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450360" y="1337760"/>
            <a:ext cx="82803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1280" indent="-341280">
              <a:lnSpc>
                <a:spcPct val="2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使用原则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741240" indent="-341280">
              <a:lnSpc>
                <a:spcPct val="20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知情同意原则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2" marL="741240" indent="-341280">
              <a:lnSpc>
                <a:spcPct val="20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短期使用原则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2" marL="741240" indent="-341280">
              <a:lnSpc>
                <a:spcPct val="20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随时评价原则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9" name="Rectangle 2"/>
          <p:cNvSpPr/>
          <p:nvPr/>
        </p:nvSpPr>
        <p:spPr>
          <a:xfrm>
            <a:off x="324000" y="333360"/>
            <a:ext cx="85802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保护具的应用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床 档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0360" y="1337760"/>
            <a:ext cx="82803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主要用于预防患者坠床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多功能床档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半自动床档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围栏式床档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2" name="TextBox 4"/>
          <p:cNvSpPr/>
          <p:nvPr/>
        </p:nvSpPr>
        <p:spPr>
          <a:xfrm>
            <a:off x="4071960" y="5000760"/>
            <a:ext cx="25002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一节 临床常用卧位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卧位的性质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舒适卧位的基本要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卧位的种类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450360" y="1338120"/>
            <a:ext cx="828036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用于保护躁动患者，限制身体或肢体活动，防止患者自伤或坠床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宽绷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肩部约束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膝部约束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尼龙搭扣约束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4" name="TextBox 4"/>
          <p:cNvSpPr/>
          <p:nvPr/>
        </p:nvSpPr>
        <p:spPr>
          <a:xfrm>
            <a:off x="4071960" y="5000760"/>
            <a:ext cx="25002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约束带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457200" y="1356840"/>
            <a:ext cx="82296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应用保护具时，应保持肢体及各关节处于功能位，协助患者经常更换体位，保证患者的安全、舒适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使用约束带时，其下须垫衬垫，固定松紧要适宜，并定时松解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确保患者随时与医务人员取得联系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记录使用保护具的原因、时间、观察结果、相应的护理措施及解除约束的时间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7" name="Rectangle 2"/>
          <p:cNvSpPr/>
          <p:nvPr/>
        </p:nvSpPr>
        <p:spPr>
          <a:xfrm>
            <a:off x="324000" y="333360"/>
            <a:ext cx="85802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保护具的应用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24000" y="1628280"/>
            <a:ext cx="8610480" cy="30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腰椎骨折患者需用何种方法搬运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人法  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二人法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三人法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四人法    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挪动法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24000" y="1699920"/>
            <a:ext cx="8610480" cy="41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两人搬运法正确的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甲托头、腰部，乙托臀   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甲托颈、肩、腰部，乙托小腿、大腿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甲托头、肩部，乙托臀           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甲托头、背部，乙托臀、小腿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甲托颈、肩、腰部，乙托臀、膝部下方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产妇胎膜早破时，采取头低足高位目的是防止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脐带脱出              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减少局部缺血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羊水流出               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感染                 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有利于引产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250920" y="1699920"/>
            <a:ext cx="861048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胃切除术后的患者取半坐卧位的目的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预防腹膜粘连          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减少局部缺血         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减轻伤口缝合处张力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减轻肺部淤血          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减少静脉血液回流量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卧位的性质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根据卧位的自主性分为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主动卧位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ctive lying positio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被动卧位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passive lying positio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被迫卧位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ompelled lying positio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根据卧位的平衡性分为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稳定性卧位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不稳定性卧位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稳定性卧位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支撑面大，重心低，平衡稳定，患者感到舒适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不稳定性卧位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支撑面小，重心较高，难以平衡。患者大量肌群处于紧张状态，容易疲劳、不舒适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卧位的性质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舒适卧位的基本要求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舒适卧位：患者卧床时，身体各部位均处于合适的位置，感到轻松自在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卧床姿势：应尽量符合人体力学的要求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体位变换：应经常进行，至少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变换一次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2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2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舒适卧位的基本要求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71280" y="1356840"/>
            <a:ext cx="878688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身体活动：无禁忌证时，患者身体各部位每天均应活动；改变卧位时应进行全范围关节运动练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受压部位：加强皮肤护理，预防压疮的发生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保护隐私：根据需要适当地遮盖患者的身体，促进患者身心舒适。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6-01-22T07:19:43Z</dcterms:modified>
  <cp:revision>130</cp:revision>
  <dc:subject/>
  <dc:title>内科护理学</dc:title>
</cp:coreProperties>
</file>