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D162B-FFD2-4F71-9D12-423EFA8B05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31418-8028-4152-AFA6-699AF8CD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4BB201-5AA1-4BC8-8195-DB3DF823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0CBF7F-94F1-416C-848C-D0DD0E90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F6507D-0EDC-4627-9EE9-37EDB0D5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D4DAAE-C333-4B3D-B4B1-5A64DE2A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C14816-D155-4886-8F09-3F14C570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A9CF66-43C1-49CE-B4E9-5769C126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7393B4-653B-4767-BE4A-123648D0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F39545-76B4-4156-BFCF-FD3FE0F7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5FBEFC-CDFD-4152-96D7-F527E8A88B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E6CED4-9DFE-41A2-A51D-5C420DBC16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74A3B-7086-4458-AC9C-A02363C0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A6AE80-F687-44B5-82C5-D159E7F0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8278E3-8F97-4B84-B79A-DEEED5EF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B97758-E761-4128-A705-9AD64F86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51D137-A790-457D-83DE-1B7C5B6B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DAE4DC-2ECB-475F-8CAC-4AB1E137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29D46E-1281-4B3A-A2A7-FFFF9E52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D1A3DC-C181-483E-B084-67065F7F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7836C8-6DF0-4FEA-A4C1-31339653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A7DAF8-38F9-4AAF-AE5E-72D61EA9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22E6AB-2365-400F-8384-82994A56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B9883-D839-4E28-8662-19D446A998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D02CFF-557E-4DAB-BF92-3EEE4D9DE1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E1F75-D2C8-426F-B016-FA4B2F0118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4B593-7C8C-4E83-A2D2-2EFCE825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2C218-9A80-418B-858F-7C053A3A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D2885-9A85-4DF4-8DC9-88716021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4E7F5-92DC-4C3C-9E5C-0FC81B1E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2983E-8D8C-4573-B34D-1278A9CD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29476-A434-40E1-9B78-6F9E0715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BEC77-6F30-474B-B4EE-C4750E8F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80A4A-C5D2-472A-808F-3B7713AA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3C9D-19F3-4067-B5E9-1FCF1D55C1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26FC4-4162-4574-8F00-5CF23AC6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7D528-1FA4-4231-80AB-E24B5914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BB203-BF44-47AF-980F-F644DA0F93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4C7664-2F30-4B9C-BBDB-02E6D421E5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9C3FE6-A274-425E-A2F1-D93594E9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0FE0F5-11E2-4A97-8804-BE894101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30307E-76AF-43C0-9D50-131664D2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0D8F8F-17D0-40CE-B2DE-6A7D5F90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E70BEB-298E-4FFB-8BDF-9CC8982B6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14300A-65FA-4A06-A43E-F3F398A7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99FE-6951-4BE2-B341-019D94B1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6AD356-D990-49FE-907E-AF46A1EC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57B4FC-66AB-4F7E-A04C-8465C34A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0CCC73-E35E-4F48-8CFB-33FF4C8E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AAE3D1-B916-46CC-969A-8092B97D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81F36C-8727-4247-A470-053EFBA517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699571-54A2-403B-8353-A91D7C0173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9E0F63-DFB2-449C-8DCA-0F1FE83F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D295EA-2A99-43E0-A9AB-ED0678D5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C67CAB-D264-49E5-A500-60A07A0A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F393FA-EC53-48DC-88FF-E651BED3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8921-D79D-4837-8C05-B8DB3494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8398C-FDC4-4BE6-8564-07B70DB1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181651-2EC5-4E1E-9FC5-41942882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1F6B8B-D0B0-4C2A-A86B-818E4B1C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FDCE52-DE40-4757-A1EF-D2D464BA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858C47-3F24-489A-B8EC-FF8A26F9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BEF7F8-1DA3-4FE8-AFDE-09E8A87C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575597-A3C5-4EF8-9B41-1BF978F6D5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8540-F900-4A62-AB25-0D01DD54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EB60-BDFA-401F-916B-C84DF5E8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082-D96A-4087-87A9-F4C5B8C0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AAB-57AC-4C41-A440-0DEC1387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87A02-260A-468F-8834-70A78B28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56F8-0B7F-44F0-9C46-BFD136C0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E625-2294-42BF-A2B0-CB7082FA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AAC5-2D4F-45ED-A951-5DBF4874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0B49-5C4A-468F-A3B0-C7F916FD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F2CB-565B-434D-BB7E-D8C8EBC3C4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BE9DC-1ED4-4BD5-90B5-90D3B7FE4A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24382-F4B5-44E9-BAB8-2B1E842A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CDC62-5636-4A24-9A9D-CDD685BB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D7A28-F67F-40DD-A9C9-F4421915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6B685-71B4-4AA1-950C-0B336153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47279-F7B5-4118-BD1C-E8C50FFC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85D21-CDFD-48DB-A44A-BCE7D6B8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D6C2B-103F-4067-816D-3C45FA67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DEF6F-CF2B-47EE-9AEE-A1FD553B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26950-443B-40FF-AC52-CD9882F7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8AC81-759E-4CA6-8890-2F588E9C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5BA5A-EED2-4797-8335-24D1E115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EABD0-2E4A-49C2-988C-62253F376C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3DB502-C763-405C-B363-F41F392870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8AE8DE-B666-4E74-BE33-7C0B4F8D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0D9D0E-E141-452A-ABB7-5EE09A34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31C9-310C-4DD5-87A5-F69FC0EA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F38E80-D5EF-41BB-B21E-F351F0D1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84D817-E2F2-41FF-A1DF-5DC86960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4F1406-B03B-48B3-81BA-7BB32A78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E7B9B4-FF7C-45BC-9186-B42C9499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A9AA61-0B77-4B90-9E40-24463012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58ECDE-5120-4D5C-9C8D-05AC5040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361127-077C-4FF2-A6B9-09C8A9C0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96FA75-947F-417B-9D44-9637251A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5C6F2B-3957-4E61-98E3-E405E9FBCC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9D4F1-81B5-4CCC-9810-B337DC0A40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D0FF8-EC1D-45E5-9202-8CDAD59D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4EF58-3919-49FF-98A1-988D51AB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57DE0-B77E-49DC-B1F2-0AD96E5A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A3506-2C54-4858-A977-3F6D48FB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4978E-CA8A-421F-A9BC-04341CAA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A0458-3317-40CD-B16D-4C1D902A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FEBBB-4395-43D4-85FE-222465F0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5FAFD-775A-4DE0-8028-66897199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5AF48-B3F0-4EC2-83A1-A95227B3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673CE-753F-44B0-856A-A65BC250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7595F-4BEB-4359-80B3-1B3FC008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8CA6-6621-4E22-A326-B6932C37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A2CEB-2E6F-40AE-805D-82A04B408F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0A7D88-441E-4F04-804D-E242677EEA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B81576-108D-41FD-9C89-EBA55EFF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922D0C-CEE3-4836-8C6D-08DE5398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AC8E03-A3F0-482E-9E8C-FA024A02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C1FB9D-854F-47DD-B5ED-06B44E9F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E59AA0-4148-473B-972C-F83E8205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FBE05D-8766-4E72-8942-4B223C2F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538E8D-B9A8-413E-BC67-BAB31133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64C142-3836-4779-B182-7261FA15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E36C0-41D7-4239-B954-5063BC80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03BE83-90DE-4E7F-BF87-283B266F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97E255-1CCD-4DD1-A6F0-BBDC00A9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504EBD-14FB-46A3-B557-DB94CDD641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5E3C30-6E65-4FFF-BDAA-218C0DB241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5E9F80-2A14-4CA7-84A5-0B8BB72E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98491F-0436-4CF0-B2BC-2A8D1FBF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37A67D-EC24-49D9-AC61-C7F94EF8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5D59A9-87B7-4ECB-A063-7ECBAFEE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153388-08F8-414D-B7E2-6F9B7436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BBB01D-C53A-477F-BB35-F3EA8DB2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0D45E-A47E-4E28-ABEA-EF2811D5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7B06C7-9657-4C3A-ABE7-8B9C7319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E8FB96-D3C7-4B3A-83A7-B930F4FC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C73FDF-3417-4D5C-A1CF-DE99BB48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415CC8-FC58-420E-AD6E-B838C054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EA0680-4538-4C76-9238-53C8C8F1BE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61D10-5D11-4648-BE8F-9EA35DC983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7CE39-AFFA-4CE1-85AC-17169A9B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3533C-954C-42B5-A7CC-5855E450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E0F91-4FF0-457C-9CAB-82C28C27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F4A3C-2117-4EC6-8B20-9A03DBC1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1CCF-C98E-48F6-AAFB-203ED7D1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4EB61-C9DC-4BA6-95E1-F5E823B6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1FDAB-553F-436F-BA5B-D8D6EDFB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22EAB-814C-4718-BD07-0BE8E2C1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36B55-7EA3-467D-813F-486C0BE5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A342A-C215-41B0-8A46-D3653B41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2DC84-1BC2-4DDE-B14E-EA8F1718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B8AFD-912B-461F-BCD8-E61ADDD5BF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05B3AF-96C8-403F-A934-25B678AEAD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9C3045-3F3F-4E73-8C7B-45CFA314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51133A-1040-4D9E-84EC-92A15AC6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15E1-846E-4245-A0A3-ECE9DE6843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FB91-ED0E-4FC3-9703-BD40A110B1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dt" idx="2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6E7A-51B6-4A87-994B-5CAB1C3A0C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2584-C47E-45E8-AD53-39227FABDB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dt" idx="2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4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E3BD-2477-46FD-A5F1-0F16C833BB76}" type="slidenum">
              <a:rPr b="0" lang="zh-CN" sz="14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dt" idx="2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1549-9B5B-4385-8E9F-6279D84382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AC48-54E4-49DD-92C9-78812712F7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EB32-06ED-40B4-BD69-D116093279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B7B8-DE10-4C19-B294-F880683290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4C3C-539C-47DE-BF51-0593CA7785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4906-5032-4B99-8056-0520EAA18E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EA43-2F95-4674-92D5-517276803F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dt" idx="1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5D1E-72E8-42C8-93F4-1700678527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dt" idx="1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1"/>
          <p:cNvPicPr/>
          <p:nvPr/>
        </p:nvPicPr>
        <p:blipFill>
          <a:blip r:embed="rId1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58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8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8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9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9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05" name="Picture 24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496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以社区为中心的护理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600200" y="5311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843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94920" y="123660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资料整理与分析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复核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分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报告评估结果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23640" y="304560"/>
            <a:ext cx="67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诊断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对于个人、家庭、群体或社区现存的或潜在的不健康和（或）健康问题，以及与其相关原因的陈述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北美护理诊断协会护理诊断系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  <a:ea typeface="宋体"/>
              </a:rPr>
              <a:t>PSE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陈述公式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问题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症状或体征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ign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ymptoms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原因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tiolog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（问题）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干预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2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结果评量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324000" y="2171880"/>
          <a:ext cx="8496000" cy="4213080"/>
        </p:xfrm>
        <a:graphic>
          <a:graphicData uri="http://schemas.openxmlformats.org/drawingml/2006/table">
            <a:tbl>
              <a:tblPr/>
              <a:tblGrid>
                <a:gridCol w="1742760"/>
                <a:gridCol w="6753240"/>
              </a:tblGrid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领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护理诊断（问题）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8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收入，卫生，住宅，邻居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工作场所的安全，其他心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0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心理社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与社区资源的联系，社会接触，角色改变，人际关系，精神压力，哀伤，情绪稳定性，照顾，忽略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虐待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生长与发育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79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听觉，视觉，说话与语言，咀嚼，认知，疼痛，意识，皮肤，神经运动（肌肉、骨骼）系统与功能，呼吸，循环，消化，排便功能，生殖泌尿功能，产前产后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6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相关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营养，睡眠与休息形态，身体活动，个人卫生，物质滥用（酒精或药品），家庭计划，健康指导，处方用药，特殊护理技术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651" name="矩形 5"/>
          <p:cNvSpPr/>
          <p:nvPr/>
        </p:nvSpPr>
        <p:spPr>
          <a:xfrm>
            <a:off x="1867320" y="1484280"/>
            <a:ext cx="54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诊断（问题）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矩形 5"/>
          <p:cNvSpPr/>
          <p:nvPr/>
        </p:nvSpPr>
        <p:spPr>
          <a:xfrm>
            <a:off x="233640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干预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95280" y="1989000"/>
          <a:ext cx="8209080" cy="4518000"/>
        </p:xfrm>
        <a:graphic>
          <a:graphicData uri="http://schemas.openxmlformats.org/drawingml/2006/table">
            <a:tbl>
              <a:tblPr/>
              <a:tblGrid>
                <a:gridCol w="1101600"/>
                <a:gridCol w="7107480"/>
              </a:tblGrid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38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类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指导、指引和咨询，处理和程序，个案管理，监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84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目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解剖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，行为修正，膀胱功能护理，与他人感情，肠道功能护理，维持呼吸道的通畅，心脏功能护理，照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为人父母，长期卧床护理，沟通，应对技巧，日间护理，管教，伤口护理，医疗设备，教育，职业，环境，运动，家庭计划，喂养方法，财务，食物，行走训练与康复，生长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育，家务管理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居住环境，人际关系，检验结果，相关法规，医疗照顾，药物作用及副作用，用药管理，协助用药安排，身体活动，辅助性护理活动，营养，营养咨询，造瘘口护理，其他社区资源，个人照护，体位，康复，放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技巧，休息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睡眠，安全，筛选，受伤护理，精神及情绪的症状，体征，皮肤护理，社会福利与咨询，化验标本收集，精神护理，促进身心发展的活动，压力管理，物质滥用，医疗器材，支持团体，交通运送，促进健康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矩形 5"/>
          <p:cNvSpPr/>
          <p:nvPr/>
        </p:nvSpPr>
        <p:spPr>
          <a:xfrm>
            <a:off x="231084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结果评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24000" y="1989000"/>
          <a:ext cx="8424720" cy="4175280"/>
        </p:xfrm>
        <a:graphic>
          <a:graphicData uri="http://schemas.openxmlformats.org/drawingml/2006/table">
            <a:tbl>
              <a:tblPr/>
              <a:tblGrid>
                <a:gridCol w="787320"/>
                <a:gridCol w="1884240"/>
                <a:gridCol w="1027080"/>
                <a:gridCol w="1198800"/>
                <a:gridCol w="1198440"/>
                <a:gridCol w="1123920"/>
                <a:gridCol w="1204920"/>
              </a:tblGrid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概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含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27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记忆与解释信息的能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没有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一点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基本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程度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良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2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出的可被观察的反应或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不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一些适当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是非常一致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通常是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一致且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的主、客观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普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很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没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62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63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计划的制订与实施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护理活动的指南，其目的是明确护理目标、确定护理要点、提供评价标准、设计实施方案。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一种合作性的、有顺序的、循环的程序，以达到预期的目标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78920" y="1052280"/>
            <a:ext cx="900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的排序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Mueck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Stanhop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Lancaster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优先顺序确定方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问题的了解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解决问题的动机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问题的严重程度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利用资源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0" name="文本框 5"/>
          <p:cNvSpPr/>
          <p:nvPr/>
        </p:nvSpPr>
        <p:spPr>
          <a:xfrm>
            <a:off x="3780000" y="306864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预防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士解决问题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政策与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解决问题的迅速性与持续的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52360" y="1052640"/>
            <a:ext cx="8639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掌握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估的内容、方法；社区居民健康档案的主要内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692aa2"/>
                </a:solidFill>
                <a:latin typeface="Verdana"/>
                <a:ea typeface="宋体"/>
              </a:rPr>
              <a:t>熟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；社区护理中护理诊断排列顺序的原则；实施护理措施时的注意事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了解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价的步骤与内容；社区健康档案的管理与使用要求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395280" y="1844640"/>
          <a:ext cx="8353440" cy="4146480"/>
        </p:xfrm>
        <a:graphic>
          <a:graphicData uri="http://schemas.openxmlformats.org/drawingml/2006/table">
            <a:tbl>
              <a:tblPr/>
              <a:tblGrid>
                <a:gridCol w="1079640"/>
                <a:gridCol w="1025280"/>
                <a:gridCol w="808200"/>
                <a:gridCol w="809640"/>
                <a:gridCol w="809640"/>
                <a:gridCol w="809640"/>
                <a:gridCol w="777960"/>
                <a:gridCol w="841320"/>
                <a:gridCol w="807840"/>
                <a:gridCol w="584280"/>
              </a:tblGrid>
              <a:tr h="1079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及持续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2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Rectangle 1"/>
          <p:cNvSpPr/>
          <p:nvPr/>
        </p:nvSpPr>
        <p:spPr>
          <a:xfrm>
            <a:off x="684360" y="119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-4    Mueck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30320" y="1773360"/>
          <a:ext cx="8864280" cy="4406760"/>
        </p:xfrm>
        <a:graphic>
          <a:graphicData uri="http://schemas.openxmlformats.org/drawingml/2006/table">
            <a:tbl>
              <a:tblPr/>
              <a:tblGrid>
                <a:gridCol w="1017360"/>
                <a:gridCol w="615960"/>
                <a:gridCol w="328680"/>
                <a:gridCol w="463680"/>
                <a:gridCol w="287280"/>
                <a:gridCol w="628560"/>
                <a:gridCol w="436680"/>
                <a:gridCol w="436320"/>
                <a:gridCol w="508320"/>
                <a:gridCol w="507960"/>
                <a:gridCol w="436320"/>
                <a:gridCol w="436680"/>
                <a:gridCol w="434880"/>
                <a:gridCol w="412920"/>
                <a:gridCol w="436320"/>
                <a:gridCol w="524160"/>
                <a:gridCol w="417240"/>
                <a:gridCol w="534960"/>
              </a:tblGrid>
              <a:tr h="9586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及持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9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5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9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0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5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8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Rectangle 1"/>
          <p:cNvSpPr/>
          <p:nvPr/>
        </p:nvSpPr>
        <p:spPr>
          <a:xfrm>
            <a:off x="1191240" y="11980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-5   Stanhope &amp; Lancaster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78920" y="1196640"/>
            <a:ext cx="8736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预期目标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期望服务对象在接受护理干预后所能达到的结果，包括功能、认知、情感及行为等方面的改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目标的制订应做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特定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测量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达到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有时间期限的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08000" y="1196640"/>
            <a:ext cx="892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目标可分为长期目标和短期目标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例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问题：婴儿营养不良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因素：社区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6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母亲对婴儿喂养方法的认识不足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长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营养状况得到改善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短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正确演示。婴儿食品的制作；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按照营养师的建议为婴儿正确添加辅食。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书写目标时应注意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简单明了，使用可测量或可观察得到的词汇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一个护理诊断可制订多个目标，但是一个目标只针对一个护理诊断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目标陈述中要包括具体的评价日期和时间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以使用长期目标与短期目标相结合的方法，实施起来更有针对性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拟定护理措施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原则：合理性和可行性 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分类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社区护理措施以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和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为主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依赖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在医生指示下进行，如“遵医嘱给药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与其他卫生专业人员商讨完成，如“协助理疗师共同为服务对象进行康复评定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护士独立完成，如“为服务对象提供健康教育和咨询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计划成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-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　社区护理计划表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395280" y="2781360"/>
          <a:ext cx="8353440" cy="3014640"/>
        </p:xfrm>
        <a:graphic>
          <a:graphicData uri="http://schemas.openxmlformats.org/drawingml/2006/table">
            <a:tbl>
              <a:tblPr/>
              <a:tblGrid>
                <a:gridCol w="1392120"/>
                <a:gridCol w="1392480"/>
                <a:gridCol w="1392120"/>
                <a:gridCol w="1392120"/>
                <a:gridCol w="1392480"/>
                <a:gridCol w="1392120"/>
              </a:tblGrid>
              <a:tr h="647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相关因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具体目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计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执行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场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社区护理计划的实施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79280" y="1125360"/>
            <a:ext cx="8640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将所制订计划付诸实践，是针对护理目标而采取的行动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前的准备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计划行动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后的记录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方式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IO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intervention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utcome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格式，即问题、措施、结果的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要求及时、准确、真实、重点突出，为下一步的评价工作奠定基础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98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99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三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的效果评价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评价形式</a:t>
            </a: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过程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形成性评价，是在护理程序的各个阶段进行评价，一直到护理活动不断完善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结果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终结性评价，是在服务对象经过各项计划执行后，针对护理活动的近期和远期效果进行评价，判断实施计划后的效果是否与预期目标相一致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3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位于某城市高校区附件的宏宇小区是一个新兴的居民住宅小区。该小区内住户大部分为高级知识分子，少部分为在该小区旁菜市场、商店里工作的民工。该小区内的人群年龄分布以中年人和老年人为主。大部分仍然工作在教学科研一线，工作压力较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均为高层楼房，由于是新建小区，因此楼梯走廊比较明亮、少堆积物，但有部分楼道内的灭火器缺失。多数住户数值火警电话，但不会使用防火器械。小区内绿化好，水泥路面平整通畅。地下车库还没有建成使用，因此小区内停车比较拥堵，机动车占用了一半的人行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704" name="内容占位符 6" descr=""/>
          <p:cNvPicPr/>
          <p:nvPr/>
        </p:nvPicPr>
        <p:blipFill>
          <a:blip r:embed="rId1"/>
          <a:stretch/>
        </p:blipFill>
        <p:spPr>
          <a:xfrm>
            <a:off x="665280" y="1395360"/>
            <a:ext cx="7740360" cy="4462560"/>
          </a:xfrm>
          <a:prstGeom prst="rect">
            <a:avLst/>
          </a:prstGeom>
          <a:ln w="0">
            <a:noFill/>
          </a:ln>
        </p:spPr>
      </p:pic>
      <p:sp>
        <p:nvSpPr>
          <p:cNvPr id="7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常用社区护理相关评价指标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数量和质量的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资源投入评价指标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服务满意度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影响力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11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712" name="TextBox 6"/>
          <p:cNvSpPr/>
          <p:nvPr/>
        </p:nvSpPr>
        <p:spPr>
          <a:xfrm>
            <a:off x="2340000" y="1628640"/>
            <a:ext cx="64087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四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居民健康档案的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建立与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居民健康档案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记录与社区居民健康有关信息的系统性文件，是社区卫生技术人员全面掌握居民健康状况的基本工具，是居民提供连续性、综合性、协调性的社区卫生服务的重要依据，同时还是社区护理教学、社区护理研究和司法工作的重要参考资料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类型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档案主体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记录材质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纸质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主要针对社区卫生服务中心管辖范围内常住居民，包括居住半年以上的户籍及非户籍居民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以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岁儿童、孕产妇、老年人、慢性病患者和重性精神疾病患者等人群为重点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问题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个人基本信息、健康体检、重点人群健康管理记录和其他医疗卫生服务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预防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期性健康检查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免疫接种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45760" y="105228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“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S-O-A-P”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的形式对个人健康问题描述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Text Box 2"/>
          <p:cNvSpPr/>
          <p:nvPr/>
        </p:nvSpPr>
        <p:spPr>
          <a:xfrm>
            <a:off x="395280" y="1700280"/>
            <a:ext cx="8379000" cy="4897440"/>
          </a:xfrm>
          <a:prstGeom prst="rect">
            <a:avLst/>
          </a:prstGeom>
          <a:gradFill rotWithShape="0">
            <a:gsLst>
              <a:gs pos="0">
                <a:srgbClr val="bbd5f0"/>
              </a:gs>
              <a:gs pos="100000">
                <a:srgbClr val="9cbee0"/>
              </a:gs>
            </a:gsLst>
            <a:lin ang="5400000"/>
          </a:gra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S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su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个体的主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由个体提供的主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症状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病史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家族史等。填写时尽量用个体的语言来描述，医护人员的主观看法不可加入其中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O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o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医生诊疗过程中观察到的个体资料，包括体征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实验室检查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X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线检查的资料以及个体的态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行为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ssessment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SOAP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中最重要的部分，应包括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鉴别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与其他问题的关系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问题的轻重程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预后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P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plan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针对问题而提出的，每一问题都有相应的计划，包括诊断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治疗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个体指导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基本资料　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评估资料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主要健康问题目录及健康问题描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成员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社区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基本资料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资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状况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居民健康状况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健康档案的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7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有一所小学，但校门开放方向正好面对社区外的马路，距离马路的距离也较近。小区内有棋牌室、麻将室，但是光顾的人不多。小区内无正式宗教团体。小区内有药店，但离社区医疗服务中心距离比较远，需要换乘公交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次才能到达。社区卫生服务中心以白天门诊服务为主，夜晚无就医条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社区医护人员在建档时发现该社区居民的高血压患病率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3.2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相比于全国成人高血压患病率平均水平高（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8.8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。通过与居民交谈后得知多数居民喜欢吃咸食，少运动，居民们对高血压疾病的相关知识了解不够，缺乏自我保护意识和保健知识。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社区居民健康档案的管理与使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7" name="内容占位符 1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4060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39" name="Object 2"/>
          <p:cNvGraphicFramePr/>
          <p:nvPr/>
        </p:nvGraphicFramePr>
        <p:xfrm>
          <a:off x="928800" y="214200"/>
          <a:ext cx="6858000" cy="636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214200"/>
                    <a:ext cx="6858000" cy="636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41" name="TextBox 4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确定建档对象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44" name="Object 1"/>
          <p:cNvGraphicFramePr/>
          <p:nvPr/>
        </p:nvGraphicFramePr>
        <p:xfrm>
          <a:off x="571680" y="214200"/>
          <a:ext cx="7362720" cy="642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14200"/>
                    <a:ext cx="7362720" cy="642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TextBox 5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2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居民健康档案管理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179280" y="119664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建档工作的考核指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档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立电子健康档案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合格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填写合格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使用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中有动态记录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(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有动态记录的档案是指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年内有符合各项服务规范要求的相关服务记录的健康档案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)</a:t>
            </a: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社区居民健康档案的管理与使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TextBox 7"/>
          <p:cNvSpPr/>
          <p:nvPr/>
        </p:nvSpPr>
        <p:spPr>
          <a:xfrm>
            <a:off x="468360" y="1484280"/>
            <a:ext cx="7920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</a:rPr>
              <a:t>作为一名工作在这个社区的护士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除了目前已有的评估资料外，你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需要对这个社区补充哪些评估资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本例中所得到的社区护理问题较多，你将以何种原则对这些社区护理问题进行排序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为这个社区的人群设计干预计划时，如何根据社区人群的文化程度来考虑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2" name="Picture 2" descr="http://down.tutu001.com/d/file/20120217/373dcfb4c8f401a2c8be033836_560.jpg"/>
          <p:cNvPicPr/>
          <p:nvPr/>
        </p:nvPicPr>
        <p:blipFill>
          <a:blip r:embed="rId1"/>
          <a:srcRect l="9449" t="12529" r="9550" b="12292"/>
          <a:stretch/>
        </p:blipFill>
        <p:spPr>
          <a:xfrm>
            <a:off x="6875640" y="1197000"/>
            <a:ext cx="19206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5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26" name="TextBox 6"/>
          <p:cNvSpPr/>
          <p:nvPr/>
        </p:nvSpPr>
        <p:spPr>
          <a:xfrm>
            <a:off x="3059280" y="2421000"/>
            <a:ext cx="5400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一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评估与诊断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收集社区实际存在和潜在健康问题有关资料的过程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目的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发现社区健康问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找出导致问题的相关因素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为社区护理诊断和计划提供依据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1" name="内容占位符 5" descr=""/>
          <p:cNvPicPr/>
          <p:nvPr/>
        </p:nvPicPr>
        <p:blipFill>
          <a:blip r:embed="rId1"/>
          <a:stretch/>
        </p:blipFill>
        <p:spPr>
          <a:xfrm>
            <a:off x="-476280" y="974880"/>
            <a:ext cx="12760200" cy="5591160"/>
          </a:xfrm>
          <a:prstGeom prst="rect">
            <a:avLst/>
          </a:prstGeom>
          <a:ln w="0">
            <a:noFill/>
          </a:ln>
        </p:spPr>
      </p:pic>
      <p:sp>
        <p:nvSpPr>
          <p:cNvPr id="6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79280" y="1125360"/>
            <a:ext cx="8856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方法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实地考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挡风玻璃式调查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windshield surve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重点人物访谈（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key informants interview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问卷调查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查阅文献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参与式观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讨论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3:15:35Z</dcterms:modified>
  <cp:revision>53</cp:revision>
  <dc:subject/>
  <dc:title>第二章 以社区为中心的护理</dc:title>
</cp:coreProperties>
</file>