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8A5F7-F15E-4CCF-AEE0-DCCAC31CAB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3D11-07F4-4D4C-B1A5-590B5515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02072-0C81-413E-BDE0-A11D1643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5B6C6-484D-45F7-A3E6-5AAB2BF3A1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F91F-98F4-4505-8F14-9B659215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638B8-C3F1-4BD0-9225-421D27AD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351D-C094-48D2-A682-8F2D5823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12804-AB50-4BDA-8299-8037D582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0455-AB63-46D8-811C-83000AD8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2D1CB-0374-48C1-A420-CD22D2D6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1E6D-1182-47E6-B657-FAC7AB35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4B705-3925-48DA-9DBD-F406E395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6B30-134C-4FAF-932E-AFF75453503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拟肾上腺素药和抗肾上腺素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肾上腺素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激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的拟肾上腺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8.1 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和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drenaline  AD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兴奋心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管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     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血管收缩，血压升高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平滑肌：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支气管平滑肌舒张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糖升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过敏休克 心脏骤停、急性支气管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多巴胺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dopamine D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口服无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可激动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DA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激动肾多巴胺受体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使肾血管扩张，使肾血流量及肾虑过率均增加，及可排钠利尿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各种休克 、急性肾衰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麻黄碱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ephedr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激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起效慢、作用弱、持续时间长可引起中枢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防治腰麻引起的低血压，防治轻度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间羟胺（阿拉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氧肾上腺素（新福林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异丙肾上腺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心脏骤停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房室传导阻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休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支气管哮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多巴酚丁胺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酚妥拉明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妥拉唑啉和酚苄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普萘洛尔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ropranolod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心得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抗心绞痛、抗心律失常、抗高血压、抗血小板聚集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常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的比较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选择性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阻断药：美托洛尔、比索洛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36:21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