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5BAC3-A85B-4453-A1F5-B7FEB09E46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08BC7-E77D-47BE-84A4-FC31051D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0A1AE-DFFF-4FBF-A239-4122BC56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0BD3-4C81-403F-BBCC-92328FC251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F483-CC09-4E09-8FE7-AB374219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7DF8-A282-490D-A961-FF89C66B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4360-18F3-4953-9F6A-9E8EE46D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AA8D-ABD7-4BA7-8678-102ADCD0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00BE7-3656-439E-80CA-A1D27C2B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0BABC-6C68-469A-9F9F-D1CD6B26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A30D-49F3-4BC2-8157-E515B857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80AE-2722-4B8F-8563-05371A50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B2AE-B3B2-4F5E-921A-6288163D0FB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08000" y="2276640"/>
            <a:ext cx="691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影响药物作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剂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给药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耐受性和药物依赖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机体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生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年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营养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精神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遗传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病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肝、肾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枢神经系统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饮食对药物作用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时间药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心理因素与用药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对病人心理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因素对药物作用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情绪的影响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药物的信赖度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医护人员的语言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用药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1:2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