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C80E6D-51B0-4140-9A6E-F742D701A4F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3F32B1-CC19-4794-BED1-386EBB99F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196617-17B1-4DCF-8A7E-D903FAABE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810382-9B05-4463-919B-89EE1A44538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4FBF83-4C5F-4C98-8DA1-B232FE5AE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2A061B-55D9-46A7-81A9-0BB684FB0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BFA239-BF45-447B-94E1-18C23FE06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883D18-EFC6-46F5-BE9B-09CA5CBC3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41B9A2-8C87-4981-886F-ECB00B386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2FA844-7975-4D02-B604-F1AD191C0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500F87-764D-454D-8183-BB39351C7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28C36D-3006-45FC-9D26-F6D33E734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70D74-7A78-4C01-9055-2947D859B580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2160"/>
              <a:ext cx="9115560" cy="1815480"/>
              <a:chOff x="28440" y="5042160"/>
              <a:chExt cx="9115560" cy="18154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2160"/>
                <a:ext cx="9115560" cy="1815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216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七章  拟胆碱药和抗胆碱药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560160"/>
            <a:ext cx="8077320" cy="564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、拟胆碱药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一、胆碱受体激动药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（一）完全拟胆碱药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（二）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M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受体激动药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毛果芸香碱（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pilocapine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）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作用：缩瞳 降低眼压 调节痉挛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应用：点眼治疗青光眼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4082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二、抗胆碱酯酶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（一）易逆行抗胆碱酯酶药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1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新斯的明（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neostigmine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应用：重症肌无力、 术后腹胀气和尿潴留、 阵发性室上性心动过速、肌松药过量中毒解救、对抗阿拖品中毒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不良反应和药物监护须知。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2 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其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 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吡斯的明、安具氯胺、加兰他敏、毒扁豆碱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4082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（二）难逆性抗胆碱酯酶药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有机磷酸酯类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1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急性中毒表现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轻度：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M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样作用为主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 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中度：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M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样和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N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样作用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。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重度：除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M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、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N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样作用，还有中枢神经系统症状。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2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中毒解救药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阿托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胆碱酯酶复活药：碘解磷定、氯解磷定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41724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抗胆碱药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一、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M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胆碱受体阻断药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（一）阿托品类生物碱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阿托品（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atropine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作用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应用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不良反应和药物监护须知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东莨菪碱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作用和应用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不反应和药物监护须知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4082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二、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N</a:t>
            </a:r>
            <a:r>
              <a:rPr b="1" lang="en-US" sz="2800" spc="-1" strike="noStrike" baseline="-25000">
                <a:solidFill>
                  <a:srgbClr val="3582a3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胆碱受体阻断药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(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骨骼肌松弛药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去极化型肌松药：琥珀胆碱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(scoline)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非去极化肌松药：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筒箭毒碱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4082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3582a3"/>
                </a:solidFill>
                <a:latin typeface="Verdana"/>
                <a:ea typeface="宋体"/>
              </a:rPr>
              <a:t>谢谢大家</a:t>
            </a:r>
            <a:endParaRPr b="1" lang="en-US" sz="9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sxm</cp:lastModifiedBy>
  <cp:lastPrinted>1899-12-30T00:00:00Z</cp:lastPrinted>
  <dcterms:modified xsi:type="dcterms:W3CDTF">2016-03-07T05:28:18Z</dcterms:modified>
  <cp:revision>26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